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821-7B9C-4177-9273-5B460356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EAC-BF93-4F19-BD43-6BBB04EC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C06-531B-448C-8F84-099D2CEC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AB9A-7ECF-4B74-B7E8-FFB2962A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76DB-0944-4FFE-AF71-FC082D8A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189-6F9B-44BC-B550-D340F0E0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808E-07A0-4F02-AC79-31A03AFA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F4C-BCC2-4752-BA6B-F9ED8357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D086-A089-46B5-A204-CC3EED39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71F-204F-4226-AEED-A4510A79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0B0-BC53-4EE9-AE3A-B0CA6FE0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9AAE-1835-4A7C-9EE3-A2B7A0DD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F178-1B8E-4699-BF9F-6F8F83227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tamarugo.cec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éneos y heterogé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2-9-16/1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90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4 de Agosto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IN ROM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celulasa psicrofi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M.Elena Lienqueo  Prof. Integrante: Leandro Herre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ÍNEZ VE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Optimización del cultivo de células HEK 293 en suspensión para el crecimiento y producción de adeno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Z.Gerdtzen Prof Co-guía: B.Andrews  Prof. Integrante: I.Rappa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1 de Agosto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UDINICH ABARCA, MAR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integrado de flujos metabólicos y regulación génica en levaduras</a:t>
            </a:r>
            <a:r>
              <a:rPr b="1" lang="es-ES" sz="1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Asenjo  Prof Co-guía: I. Rapaport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7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eneos y heteroge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4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63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8-02T21:04:25Z</dcterms:modified>
  <cp:revision>126</cp:revision>
  <dc:subject/>
  <dc:title>El ingeniero, etica y sociedad</dc:title>
</cp:coreProperties>
</file>