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driveby.wav" ContentType="audio/x-wav"/>
  <Override PartName="/ppt/media/cashreg.wav" ContentType="audio/x-wav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7A70-64E4-45F9-B8D7-3FCC4D76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3419-4F28-4D57-9F04-68E7A48D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A96-35CD-4736-8E43-1BD9789B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DE7-FCDA-465D-954B-417E9C0E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03D-A10B-4B6A-8C6B-060F541F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837-F872-4500-BD7E-620947B0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127E-7AF3-4102-B805-C9B3B73F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AF83-3BFB-4E09-BF65-5EB0447A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769-AE67-4056-867B-69BC9B63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E0E-5FF0-4597-8D7F-EEBF8C4C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FE8-F1CB-462E-8A0F-3EBCD4FB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A3F-CBAD-4882-BB5C-EA893ADA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C739-E28C-4069-A4CD-9228EA17F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000"/>
            </a:br>
            <a:br>
              <a:rPr sz="4000"/>
            </a:b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4 UD</a:t>
            </a:r>
            <a:br>
              <a:rPr sz="2400"/>
            </a:br>
            <a:r>
              <a:rPr b="1" lang="es-ES_tradnl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Presentaciones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 y Bio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ves en una buena pres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7524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un antes, durante y después de la pres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14400" y="3809880"/>
            <a:ext cx="2438280" cy="914400"/>
            <a:chOff x="914400" y="3809880"/>
            <a:chExt cx="2438280" cy="914400"/>
          </a:xfrm>
        </p:grpSpPr>
        <p:sp>
          <p:nvSpPr>
            <p:cNvPr id="63" name=""/>
            <p:cNvSpPr/>
            <p:nvPr/>
          </p:nvSpPr>
          <p:spPr>
            <a:xfrm>
              <a:off x="914400" y="3809880"/>
              <a:ext cx="2438280" cy="914400"/>
            </a:xfrm>
            <a:prstGeom prst="rightArrowCallout">
              <a:avLst>
                <a:gd name="adj1" fmla="val 25002"/>
                <a:gd name="adj2" fmla="val 25000"/>
                <a:gd name="adj3" fmla="val 44442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4038480"/>
              <a:ext cx="1523880" cy="368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Pr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352680" y="3809880"/>
            <a:ext cx="2742840" cy="914400"/>
            <a:chOff x="3352680" y="3809880"/>
            <a:chExt cx="2742840" cy="914400"/>
          </a:xfrm>
        </p:grpSpPr>
        <p:sp>
          <p:nvSpPr>
            <p:cNvPr id="66" name=""/>
            <p:cNvSpPr/>
            <p:nvPr/>
          </p:nvSpPr>
          <p:spPr>
            <a:xfrm>
              <a:off x="3352680" y="3809880"/>
              <a:ext cx="2742840" cy="914400"/>
            </a:xfrm>
            <a:prstGeom prst="rightArrowCallout">
              <a:avLst>
                <a:gd name="adj1" fmla="val 25002"/>
                <a:gd name="adj2" fmla="val 25000"/>
                <a:gd name="adj3" fmla="val 49993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52680" y="4038480"/>
              <a:ext cx="17143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Pres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248520" y="3733920"/>
            <a:ext cx="2286000" cy="1599840"/>
            <a:chOff x="6248520" y="3733920"/>
            <a:chExt cx="2286000" cy="1599840"/>
          </a:xfrm>
        </p:grpSpPr>
        <p:sp>
          <p:nvSpPr>
            <p:cNvPr id="69" name=""/>
            <p:cNvSpPr/>
            <p:nvPr/>
          </p:nvSpPr>
          <p:spPr>
            <a:xfrm>
              <a:off x="6248520" y="3733920"/>
              <a:ext cx="2209680" cy="1599840"/>
            </a:xfrm>
            <a:prstGeom prst="downArrowCallout">
              <a:avLst>
                <a:gd name="adj1" fmla="val 34533"/>
                <a:gd name="adj2" fmla="val 34530"/>
                <a:gd name="adj3" fmla="val 16667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48520" y="3986280"/>
              <a:ext cx="228600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Retro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066680" y="4800600"/>
            <a:ext cx="10670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5334120"/>
            <a:ext cx="62485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nte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057400"/>
            <a:ext cx="76197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todo lo posible para que su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 y Ud. estén confortab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vise la sa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los equipos audiovisuales co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ficiente antel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evitar sorpr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buen análisis previo de las características de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048120" y="5029200"/>
            <a:ext cx="1990440" cy="1631520"/>
            <a:chOff x="3048120" y="5029200"/>
            <a:chExt cx="1990440" cy="1631520"/>
          </a:xfrm>
        </p:grpSpPr>
        <p:grpSp>
          <p:nvGrpSpPr>
            <p:cNvPr id="77" name=""/>
            <p:cNvGrpSpPr/>
            <p:nvPr/>
          </p:nvGrpSpPr>
          <p:grpSpPr>
            <a:xfrm>
              <a:off x="3048120" y="5029200"/>
              <a:ext cx="1990440" cy="1631520"/>
              <a:chOff x="3048120" y="5029200"/>
              <a:chExt cx="1990440" cy="1631520"/>
            </a:xfrm>
          </p:grpSpPr>
          <p:pic>
            <p:nvPicPr>
              <p:cNvPr id="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029200"/>
                <a:ext cx="1990440" cy="14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3505320" y="5105160"/>
                <a:ext cx="137160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3505320" y="5257440"/>
              <a:ext cx="1218960" cy="12952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ga un detallado análisis de la audiencia antes de su presentación, los antecedentes de los auditores, y las necesidades de información que requieren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200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utilizar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ementos visu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ayuden a enfocar la atención de los asistentes en las áreas import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Informe se pueden volver a leer. En las presentaciones, si los auditores de pierden o se aburr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información se pierd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antener la at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aud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ner atención en el tiempo de la exposición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ite el nerviosis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ga cuidado de no inclu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ha inform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orque no podrá ser leí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uncie con cuidado y mantenga un tono de voz adecuado al tamaño de la sal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ga paus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nfatice lo important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604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tros deta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, que solo Ud. tiene el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trol de l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d. 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sponsable del ritmo y conteni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ga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aus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fatice lo im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par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notas escri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sus transparencias.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vite leerl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corrido, ya que puede dar la impresión de que no domina lo que está present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gu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erial escri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a aud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el esfuerzo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cuchar bi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a pregunta y contestar lo que le pid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evadiendo la respu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nozca de inmediato qu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sabe la respues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si es el c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espué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vers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n amigos en otro lugar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iba los comentari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gerencias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gunte que estuvo bien, y que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estuvo m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mejorar sus presentaciones fu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tro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3200"/>
            </a:b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8/9 (7 semana)</a:t>
            </a:r>
            <a:br>
              <a:rPr sz="20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 formulario disponible en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/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presentaciones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9-5/1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6.10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.11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6.12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probado (T) o Reprobado (R).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24280" y="1693800"/>
            <a:ext cx="3294000" cy="3468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62520" y="1752480"/>
            <a:ext cx="2057400" cy="22100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286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24280" y="1693800"/>
            <a:ext cx="32940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163000" y="5057640"/>
          <a:ext cx="98100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3000" y="5057640"/>
                    <a:ext cx="9810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52440" y="856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3914640" y="-585720"/>
            <a:ext cx="1371600" cy="5715000"/>
          </a:xfrm>
          <a:prstGeom prst="can">
            <a:avLst>
              <a:gd name="adj" fmla="val 8106"/>
            </a:avLst>
          </a:prstGeom>
          <a:gradFill rotWithShape="0">
            <a:gsLst>
              <a:gs pos="0">
                <a:srgbClr val="001a00"/>
              </a:gs>
              <a:gs pos="50000">
                <a:srgbClr val="006600"/>
              </a:gs>
              <a:gs pos="100000">
                <a:srgbClr val="001a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436200" y="1678680"/>
            <a:ext cx="1185840" cy="1067040"/>
          </a:xfrm>
          <a:custGeom>
            <a:avLst/>
            <a:gdLst/>
            <a:ahLst/>
            <a:rect l="l" t="t" r="r" b="b"/>
            <a:pathLst>
              <a:path w="628" h="464">
                <a:moveTo>
                  <a:pt x="3" y="0"/>
                </a:moveTo>
                <a:lnTo>
                  <a:pt x="9" y="19"/>
                </a:lnTo>
                <a:lnTo>
                  <a:pt x="24" y="43"/>
                </a:lnTo>
                <a:lnTo>
                  <a:pt x="81" y="72"/>
                </a:lnTo>
                <a:lnTo>
                  <a:pt x="177" y="101"/>
                </a:lnTo>
                <a:lnTo>
                  <a:pt x="312" y="116"/>
                </a:lnTo>
                <a:lnTo>
                  <a:pt x="438" y="130"/>
                </a:lnTo>
                <a:lnTo>
                  <a:pt x="525" y="150"/>
                </a:lnTo>
                <a:lnTo>
                  <a:pt x="588" y="183"/>
                </a:lnTo>
                <a:lnTo>
                  <a:pt x="615" y="203"/>
                </a:lnTo>
                <a:lnTo>
                  <a:pt x="627" y="222"/>
                </a:lnTo>
                <a:lnTo>
                  <a:pt x="621" y="251"/>
                </a:lnTo>
                <a:lnTo>
                  <a:pt x="597" y="275"/>
                </a:lnTo>
                <a:lnTo>
                  <a:pt x="537" y="304"/>
                </a:lnTo>
                <a:lnTo>
                  <a:pt x="444" y="328"/>
                </a:lnTo>
                <a:lnTo>
                  <a:pt x="312" y="347"/>
                </a:lnTo>
                <a:lnTo>
                  <a:pt x="174" y="357"/>
                </a:lnTo>
                <a:lnTo>
                  <a:pt x="66" y="395"/>
                </a:lnTo>
                <a:lnTo>
                  <a:pt x="24" y="424"/>
                </a:lnTo>
                <a:lnTo>
                  <a:pt x="9" y="444"/>
                </a:lnTo>
                <a:lnTo>
                  <a:pt x="0" y="463"/>
                </a:lnTo>
                <a:lnTo>
                  <a:pt x="3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482360" y="1886760"/>
            <a:ext cx="998640" cy="838080"/>
          </a:xfrm>
          <a:custGeom>
            <a:avLst/>
            <a:gdLst/>
            <a:ahLst/>
            <a:rect l="l" t="t" r="r" b="b"/>
            <a:pathLst>
              <a:path w="529" h="530">
                <a:moveTo>
                  <a:pt x="3" y="0"/>
                </a:moveTo>
                <a:lnTo>
                  <a:pt x="8" y="22"/>
                </a:lnTo>
                <a:lnTo>
                  <a:pt x="20" y="50"/>
                </a:lnTo>
                <a:lnTo>
                  <a:pt x="68" y="82"/>
                </a:lnTo>
                <a:lnTo>
                  <a:pt x="149" y="116"/>
                </a:lnTo>
                <a:lnTo>
                  <a:pt x="263" y="133"/>
                </a:lnTo>
                <a:lnTo>
                  <a:pt x="369" y="149"/>
                </a:lnTo>
                <a:lnTo>
                  <a:pt x="442" y="171"/>
                </a:lnTo>
                <a:lnTo>
                  <a:pt x="495" y="210"/>
                </a:lnTo>
                <a:lnTo>
                  <a:pt x="518" y="232"/>
                </a:lnTo>
                <a:lnTo>
                  <a:pt x="528" y="254"/>
                </a:lnTo>
                <a:lnTo>
                  <a:pt x="523" y="287"/>
                </a:lnTo>
                <a:lnTo>
                  <a:pt x="503" y="314"/>
                </a:lnTo>
                <a:lnTo>
                  <a:pt x="452" y="348"/>
                </a:lnTo>
                <a:lnTo>
                  <a:pt x="374" y="374"/>
                </a:lnTo>
                <a:lnTo>
                  <a:pt x="263" y="396"/>
                </a:lnTo>
                <a:lnTo>
                  <a:pt x="147" y="408"/>
                </a:lnTo>
                <a:lnTo>
                  <a:pt x="56" y="452"/>
                </a:lnTo>
                <a:lnTo>
                  <a:pt x="20" y="485"/>
                </a:lnTo>
                <a:lnTo>
                  <a:pt x="8" y="507"/>
                </a:lnTo>
                <a:lnTo>
                  <a:pt x="0" y="529"/>
                </a:lnTo>
                <a:lnTo>
                  <a:pt x="3" y="0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600" y="18144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quid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34440" y="18144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2920" y="5022720"/>
            <a:ext cx="693720" cy="69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74880" y="5022720"/>
            <a:ext cx="68580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2920" y="5022720"/>
            <a:ext cx="3047760" cy="6858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8480" y="5137200"/>
            <a:ext cx="45864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4880" y="531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86120" y="5133960"/>
            <a:ext cx="46008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63960" y="5311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76640" y="326232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724200" y="3110040"/>
            <a:ext cx="685800" cy="36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176480" y="4657680"/>
            <a:ext cx="685800" cy="365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1479600" y="5175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74680" y="44895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14560" y="448956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39240" y="35812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ntinuous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46560" y="4994280"/>
            <a:ext cx="692280" cy="69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08880" y="4994280"/>
            <a:ext cx="68580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46560" y="4994280"/>
            <a:ext cx="3048120" cy="6858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1040" y="5108400"/>
            <a:ext cx="46008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40320" y="5286240"/>
            <a:ext cx="874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5105520"/>
            <a:ext cx="46152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97960" y="5283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213240" y="51465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343400" y="5334120"/>
          <a:ext cx="660240" cy="66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5334120"/>
                    <a:ext cx="6602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876920" y="4800600"/>
            <a:ext cx="374400" cy="434880"/>
          </a:xfrm>
          <a:custGeom>
            <a:avLst/>
            <a:gdLst/>
            <a:ahLst/>
            <a:rect l="l" t="t" r="r" b="b"/>
            <a:pathLst>
              <a:path w="236" h="274">
                <a:moveTo>
                  <a:pt x="236" y="0"/>
                </a:moveTo>
                <a:cubicBezTo>
                  <a:pt x="211" y="14"/>
                  <a:pt x="116" y="35"/>
                  <a:pt x="77" y="81"/>
                </a:cubicBezTo>
                <a:cubicBezTo>
                  <a:pt x="38" y="127"/>
                  <a:pt x="16" y="234"/>
                  <a:pt x="0" y="2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952880"/>
            <a:ext cx="374760" cy="435240"/>
          </a:xfrm>
          <a:custGeom>
            <a:avLst/>
            <a:gdLst/>
            <a:ahLst/>
            <a:rect l="l" t="t" r="r" b="b"/>
            <a:pathLst>
              <a:path w="236" h="274">
                <a:moveTo>
                  <a:pt x="236" y="0"/>
                </a:moveTo>
                <a:cubicBezTo>
                  <a:pt x="211" y="14"/>
                  <a:pt x="116" y="35"/>
                  <a:pt x="77" y="81"/>
                </a:cubicBezTo>
                <a:cubicBezTo>
                  <a:pt x="38" y="127"/>
                  <a:pt x="16" y="234"/>
                  <a:pt x="0" y="2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799200">
            <a:off x="8077320" y="4695840"/>
            <a:ext cx="664920" cy="355680"/>
          </a:xfrm>
          <a:custGeom>
            <a:avLst/>
            <a:gdLst/>
            <a:ahLst/>
            <a:rect l="l" t="t" r="r" b="b"/>
            <a:pathLst>
              <a:path w="960" h="496">
                <a:moveTo>
                  <a:pt x="0" y="0"/>
                </a:moveTo>
                <a:cubicBezTo>
                  <a:pt x="204" y="92"/>
                  <a:pt x="408" y="184"/>
                  <a:pt x="480" y="240"/>
                </a:cubicBezTo>
                <a:cubicBezTo>
                  <a:pt x="552" y="296"/>
                  <a:pt x="480" y="336"/>
                  <a:pt x="432" y="336"/>
                </a:cubicBezTo>
                <a:cubicBezTo>
                  <a:pt x="384" y="336"/>
                  <a:pt x="208" y="280"/>
                  <a:pt x="192" y="240"/>
                </a:cubicBezTo>
                <a:cubicBezTo>
                  <a:pt x="176" y="200"/>
                  <a:pt x="232" y="64"/>
                  <a:pt x="336" y="96"/>
                </a:cubicBezTo>
                <a:cubicBezTo>
                  <a:pt x="440" y="128"/>
                  <a:pt x="712" y="368"/>
                  <a:pt x="816" y="432"/>
                </a:cubicBezTo>
                <a:cubicBezTo>
                  <a:pt x="920" y="496"/>
                  <a:pt x="936" y="472"/>
                  <a:pt x="96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4761000" y="3040200"/>
            <a:ext cx="1068480" cy="441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1933560" y="4600440"/>
            <a:ext cx="10684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152280"/>
            <a:ext cx="8229600" cy="70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8 de Septiembre 16:15  Sala B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T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RUSADELLI ACUÑA, PAULINA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Prof Guía: Blanca Esco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MARIN, LUIS MARCELO 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Leandro Herr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YANADEL MARTINEZ, GERMAN EN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Blanca Escob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 NUÑEZ, YORDI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Jesús Casa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152280"/>
            <a:ext cx="8229600" cy="89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5 de Octubre 16: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Q 69E Sala B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AZ ROZAS, PATRICIA CAROLI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Tomas Var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COBAR GUTIERREZ, KARLA FABIO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INEZ SAPERAS, VERONICA MARI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ia: Leandro Herrera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visar a los profesores gu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21080" y="1752480"/>
            <a:ext cx="440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0"/>
            <a:ext cx="8381880" cy="85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06.10.2006: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ence el plazo para solicitar cambio al 69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on aceptables quienes cumplen alguna de las condiciones siguie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ber reprobado muy pocas asignaturas pero tener inscrito el curso XX69E en su undécimo semestre de permanencia en la    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ber figurado en los dos años anteriores al que se inscribe el XX69E, en la Lista de Alumnos Destacados de la Escue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0"/>
            <a:ext cx="8381880" cy="81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ntajas del IQ-BT 69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o Nota Final  IQ-BT69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2/3 Nota Carrera + 1/3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o Nota Final  IQ-BT69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½ Nota Carrera + ½ 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 la Nota de Examen  &gt;&gt; 5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uta par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TACIONES ORALES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52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 Unicode MS"/>
              </a:rPr>
              <a:t>Estructura de una Present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ontenidos de la 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Justificación de la Present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laves para una buena 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structura de una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ítulo y datos de los au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ido de la pres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ción del problema y su solución- el marc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y su Disc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 Por qué Presentaciones Or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municación oral es crucial en las actividades de la ingeni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ando se hace bien, se puede comunicar  resultados e ideas más rápidos que en el lenguaje escr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bjetivos de las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ña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cuáles s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resultados más importan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las conclusi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n el contexto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talles del trabaj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modo d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ncer a la audiencia de la valide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sus resultados y recomend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r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planes de acciones a segui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ados en sus resultados y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581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105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9-12T21:42:10Z</dcterms:modified>
  <cp:revision>74</cp:revision>
  <dc:subject/>
  <dc:title>El ingeniero, etica y sociedad</dc:title>
</cp:coreProperties>
</file>