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driveby.wav" ContentType="audio/x-wav"/>
  <Override PartName="/ppt/media/cashreg.wav" ContentType="audio/x-wav"/>
  <Override PartName="/ppt/media/image7.wmf" ContentType="image/x-wmf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6EFC-81C8-48DF-B981-71ADC81A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BCDC-7856-45D1-9869-4A3E4411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60F8-D573-453D-B0F6-3AFC9CDFF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F248-B350-4BB5-A498-9EBD7B0D6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EBCD-86F8-4AB5-9731-763795EE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E5FF-A760-4FF4-9501-5073DAC9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A45F-BC6D-4B0A-B0D8-74A49E5B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4AC9-C415-4C09-872C-1CAD2FF7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43D4-2102-452E-BF06-4409E8A0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7CA9-E1AF-4B4C-A52E-22033CFC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83B3-60DC-45A2-A1A4-1BFEE929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B04D-A18B-4271-BD40-46943DFD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F51C-1272-400A-8FC7-961D4940C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roducción al Trabajo de Título</a:t>
            </a:r>
            <a:br>
              <a:rPr sz="4000"/>
            </a:br>
            <a:br>
              <a:rPr sz="4000"/>
            </a:br>
            <a:r>
              <a:rPr b="1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T-IQ 69E</a:t>
            </a:r>
            <a:br>
              <a:rPr sz="2400"/>
            </a:b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4 UD</a:t>
            </a:r>
            <a:br>
              <a:rPr sz="2400"/>
            </a:br>
            <a:r>
              <a:rPr b="1" lang="es-ES_tradnl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sobre Presentaciones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475776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Dpto. Ingeniería Química y Bio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Universidad de 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imes New Roman"/>
              </a:rPr>
              <a:t>Claves en una buena present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6629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75248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y un antes, durante y después de la presen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914400" y="3809880"/>
            <a:ext cx="2438280" cy="914400"/>
            <a:chOff x="914400" y="3809880"/>
            <a:chExt cx="2438280" cy="914400"/>
          </a:xfrm>
        </p:grpSpPr>
        <p:sp>
          <p:nvSpPr>
            <p:cNvPr id="63" name=""/>
            <p:cNvSpPr/>
            <p:nvPr/>
          </p:nvSpPr>
          <p:spPr>
            <a:xfrm>
              <a:off x="914400" y="3809880"/>
              <a:ext cx="2438280" cy="914400"/>
            </a:xfrm>
            <a:prstGeom prst="rightArrowCallout">
              <a:avLst>
                <a:gd name="adj1" fmla="val 25002"/>
                <a:gd name="adj2" fmla="val 25000"/>
                <a:gd name="adj3" fmla="val 44442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4038480"/>
              <a:ext cx="1523880" cy="3682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imes New Roman"/>
                </a:rPr>
                <a:t>Prepa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352680" y="3809880"/>
            <a:ext cx="2742840" cy="914400"/>
            <a:chOff x="3352680" y="3809880"/>
            <a:chExt cx="2742840" cy="914400"/>
          </a:xfrm>
        </p:grpSpPr>
        <p:sp>
          <p:nvSpPr>
            <p:cNvPr id="66" name=""/>
            <p:cNvSpPr/>
            <p:nvPr/>
          </p:nvSpPr>
          <p:spPr>
            <a:xfrm>
              <a:off x="3352680" y="3809880"/>
              <a:ext cx="2742840" cy="914400"/>
            </a:xfrm>
            <a:prstGeom prst="rightArrowCallout">
              <a:avLst>
                <a:gd name="adj1" fmla="val 25002"/>
                <a:gd name="adj2" fmla="val 25000"/>
                <a:gd name="adj3" fmla="val 49993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52680" y="4038480"/>
              <a:ext cx="1714320" cy="3988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00"/>
                  </a:solidFill>
                  <a:latin typeface="Times New Roman"/>
                </a:rPr>
                <a:t>Pres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248520" y="3733920"/>
            <a:ext cx="2286000" cy="1599840"/>
            <a:chOff x="6248520" y="3733920"/>
            <a:chExt cx="2286000" cy="1599840"/>
          </a:xfrm>
        </p:grpSpPr>
        <p:sp>
          <p:nvSpPr>
            <p:cNvPr id="69" name=""/>
            <p:cNvSpPr/>
            <p:nvPr/>
          </p:nvSpPr>
          <p:spPr>
            <a:xfrm>
              <a:off x="6248520" y="3733920"/>
              <a:ext cx="2209680" cy="1599840"/>
            </a:xfrm>
            <a:prstGeom prst="downArrowCallout">
              <a:avLst>
                <a:gd name="adj1" fmla="val 34533"/>
                <a:gd name="adj2" fmla="val 34530"/>
                <a:gd name="adj3" fmla="val 16667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248520" y="3986280"/>
              <a:ext cx="2286000" cy="3988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00"/>
                  </a:solidFill>
                  <a:latin typeface="Times New Roman"/>
                </a:rPr>
                <a:t>Retroali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066680" y="4800600"/>
            <a:ext cx="1067040" cy="5335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5334120"/>
            <a:ext cx="624852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Ante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2057400"/>
            <a:ext cx="7619760" cy="29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ga todo lo posible para que su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diencia y Ud. estén confortabl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vise la sal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los equipos audiovisuales con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suficiente antela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para evitar sorpre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 buen análisis previo de las características de la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dienci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048120" y="5029200"/>
            <a:ext cx="1990440" cy="1631520"/>
            <a:chOff x="3048120" y="5029200"/>
            <a:chExt cx="1990440" cy="1631520"/>
          </a:xfrm>
        </p:grpSpPr>
        <p:grpSp>
          <p:nvGrpSpPr>
            <p:cNvPr id="77" name=""/>
            <p:cNvGrpSpPr/>
            <p:nvPr/>
          </p:nvGrpSpPr>
          <p:grpSpPr>
            <a:xfrm>
              <a:off x="3048120" y="5029200"/>
              <a:ext cx="1990440" cy="1631520"/>
              <a:chOff x="3048120" y="5029200"/>
              <a:chExt cx="1990440" cy="1631520"/>
            </a:xfrm>
          </p:grpSpPr>
          <p:pic>
            <p:nvPicPr>
              <p:cNvPr id="7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048120" y="5029200"/>
                <a:ext cx="1990440" cy="148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"/>
              <p:cNvSpPr/>
              <p:nvPr/>
            </p:nvSpPr>
            <p:spPr>
              <a:xfrm>
                <a:off x="3505320" y="5105160"/>
                <a:ext cx="1371600" cy="155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3505320" y="5257440"/>
              <a:ext cx="1218960" cy="1295280"/>
            </a:xfrm>
            <a:prstGeom prst="noSmoking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Audi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aga un detallado análisis de la audiencia antes de su presentación, los antecedentes de los auditores, y las necesidades de información que requieren.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943600" y="228600"/>
            <a:ext cx="320040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lemento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 deben utilizar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lementos visual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que ayuden a enfocar la atención de los asistentes en las áreas importa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os Informe se pueden volver a leer. En las presentaciones, si los auditores de pierden o se aburren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la información se pierd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mantener la aten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 la audi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Poner atención en el tiempo de la exposición</a:t>
            </a: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lemento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vite el nerviosism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nga cuidado de no incluir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ucha informació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porque no podrá ser leí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nuncie con cuidado y mantenga un tono de voz adecuado al tamaño de la sala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aga paus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enfatice lo important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a buena presentación requiere de un buen nivel d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to-confianz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tes de cualquier presentación, la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áctic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e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senci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! Si puede, practique frente a una audiencia real – o use grabadoras de voz o vide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 recomendabl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tener una guía escrit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 lo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imeros minut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En ese período muchas veces se produce un nerviosismo natural que bloquea la memor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604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unca mire a alguien en particula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mucho tiempo. Si ella pierde interés, puede ser devastador para U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la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interrupcion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lo ponen nervioso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id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que estas se hagan una vez que termine la presen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comete un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rro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e saltarse una part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vuelva atrá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Cuando hayan preguntas tendrá la oportunidad de exponer esos pu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Otros detalle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cuerde, que solo Ud. tiene el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ontrol de la pres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d. es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responsable del ritmo y contenid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ga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paus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nfatice lo impor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epare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notas escrit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obre sus transparencias.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vite leerl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de corrido, ya que puede dar la impresión de que no domina lo que está presenta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tregue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material escrit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a la audi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Pregu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ga el esfuerzo d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scuchar bie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la pregunta y contestar lo que le piden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evadiendo la respues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conozca de inmediato qu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sabe la respuest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si es el ca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Despué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Convers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con amigos en otro lugar y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ciba los comentari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sugerencias.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gunte que estuvo bien, y que </a:t>
            </a: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estuvo m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para mejorar sus presentaciones futu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Retroali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3200"/>
            </a:br>
            <a:r>
              <a:rPr b="1" lang="es-ES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8/9 (7 semana)</a:t>
            </a:r>
            <a:br>
              <a:rPr sz="20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la selección del Tema y Prof. Guía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 formulario disponible en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marugo.cec.uchile.cl/~btcursos/titulo/index_E.html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4/9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sobre presentaciones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8/9-5/10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de tema seleccionado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Taller sobre preparación de entrevistas y CVs.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6.10.2006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licitud de Cambio al 69H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0.11.2006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6.12.2006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probado (T) o Reprobado (R).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24280" y="1693800"/>
            <a:ext cx="3294000" cy="3468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62520" y="1752480"/>
            <a:ext cx="2057400" cy="221004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286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17524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na buena presentación requiere de un buen nivel de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auto-confianz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tes de cualquier presentación, la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ráctic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e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sencial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! Si puede, practique frente a una audiencia real – o use grabadoras de voz o vide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 recomendable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tener una guía escrit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de lo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rimeros minuto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En ese período muchas veces se produce un nerviosismo natural que bloquea la memoria.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Nunca mire a alguien en particula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mucho tiempo. Si ella pierde interés, puede ser devastador para U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la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interrupcion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lo ponen nervioso,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id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que estas se hagan una vez que termine la pres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comete un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rro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de saltarse una part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no vuelva atrá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Cuando hayan preguntas tendrá la oportunidad de exponer esos pu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924280" y="1693800"/>
            <a:ext cx="32940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8163000" y="5057640"/>
          <a:ext cx="981000" cy="8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3000" y="5057640"/>
                    <a:ext cx="98100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352440" y="856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Princi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3914640" y="-585720"/>
            <a:ext cx="1371600" cy="5715000"/>
          </a:xfrm>
          <a:prstGeom prst="can">
            <a:avLst>
              <a:gd name="adj" fmla="val 8106"/>
            </a:avLst>
          </a:prstGeom>
          <a:gradFill rotWithShape="0">
            <a:gsLst>
              <a:gs pos="0">
                <a:srgbClr val="001a00"/>
              </a:gs>
              <a:gs pos="50000">
                <a:srgbClr val="006600"/>
              </a:gs>
              <a:gs pos="100000">
                <a:srgbClr val="001a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3436200" y="1678680"/>
            <a:ext cx="1185840" cy="1067040"/>
          </a:xfrm>
          <a:custGeom>
            <a:avLst/>
            <a:gdLst/>
            <a:ahLst/>
            <a:rect l="l" t="t" r="r" b="b"/>
            <a:pathLst>
              <a:path w="628" h="464">
                <a:moveTo>
                  <a:pt x="3" y="0"/>
                </a:moveTo>
                <a:lnTo>
                  <a:pt x="9" y="19"/>
                </a:lnTo>
                <a:lnTo>
                  <a:pt x="24" y="43"/>
                </a:lnTo>
                <a:lnTo>
                  <a:pt x="81" y="72"/>
                </a:lnTo>
                <a:lnTo>
                  <a:pt x="177" y="101"/>
                </a:lnTo>
                <a:lnTo>
                  <a:pt x="312" y="116"/>
                </a:lnTo>
                <a:lnTo>
                  <a:pt x="438" y="130"/>
                </a:lnTo>
                <a:lnTo>
                  <a:pt x="525" y="150"/>
                </a:lnTo>
                <a:lnTo>
                  <a:pt x="588" y="183"/>
                </a:lnTo>
                <a:lnTo>
                  <a:pt x="615" y="203"/>
                </a:lnTo>
                <a:lnTo>
                  <a:pt x="627" y="222"/>
                </a:lnTo>
                <a:lnTo>
                  <a:pt x="621" y="251"/>
                </a:lnTo>
                <a:lnTo>
                  <a:pt x="597" y="275"/>
                </a:lnTo>
                <a:lnTo>
                  <a:pt x="537" y="304"/>
                </a:lnTo>
                <a:lnTo>
                  <a:pt x="444" y="328"/>
                </a:lnTo>
                <a:lnTo>
                  <a:pt x="312" y="347"/>
                </a:lnTo>
                <a:lnTo>
                  <a:pt x="174" y="357"/>
                </a:lnTo>
                <a:lnTo>
                  <a:pt x="66" y="395"/>
                </a:lnTo>
                <a:lnTo>
                  <a:pt x="24" y="424"/>
                </a:lnTo>
                <a:lnTo>
                  <a:pt x="9" y="444"/>
                </a:lnTo>
                <a:lnTo>
                  <a:pt x="0" y="463"/>
                </a:lnTo>
                <a:lnTo>
                  <a:pt x="3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482360" y="1886760"/>
            <a:ext cx="998640" cy="838080"/>
          </a:xfrm>
          <a:custGeom>
            <a:avLst/>
            <a:gdLst/>
            <a:ahLst/>
            <a:rect l="l" t="t" r="r" b="b"/>
            <a:pathLst>
              <a:path w="529" h="530">
                <a:moveTo>
                  <a:pt x="3" y="0"/>
                </a:moveTo>
                <a:lnTo>
                  <a:pt x="8" y="22"/>
                </a:lnTo>
                <a:lnTo>
                  <a:pt x="20" y="50"/>
                </a:lnTo>
                <a:lnTo>
                  <a:pt x="68" y="82"/>
                </a:lnTo>
                <a:lnTo>
                  <a:pt x="149" y="116"/>
                </a:lnTo>
                <a:lnTo>
                  <a:pt x="263" y="133"/>
                </a:lnTo>
                <a:lnTo>
                  <a:pt x="369" y="149"/>
                </a:lnTo>
                <a:lnTo>
                  <a:pt x="442" y="171"/>
                </a:lnTo>
                <a:lnTo>
                  <a:pt x="495" y="210"/>
                </a:lnTo>
                <a:lnTo>
                  <a:pt x="518" y="232"/>
                </a:lnTo>
                <a:lnTo>
                  <a:pt x="528" y="254"/>
                </a:lnTo>
                <a:lnTo>
                  <a:pt x="523" y="287"/>
                </a:lnTo>
                <a:lnTo>
                  <a:pt x="503" y="314"/>
                </a:lnTo>
                <a:lnTo>
                  <a:pt x="452" y="348"/>
                </a:lnTo>
                <a:lnTo>
                  <a:pt x="374" y="374"/>
                </a:lnTo>
                <a:lnTo>
                  <a:pt x="263" y="396"/>
                </a:lnTo>
                <a:lnTo>
                  <a:pt x="147" y="408"/>
                </a:lnTo>
                <a:lnTo>
                  <a:pt x="56" y="452"/>
                </a:lnTo>
                <a:lnTo>
                  <a:pt x="20" y="485"/>
                </a:lnTo>
                <a:lnTo>
                  <a:pt x="8" y="507"/>
                </a:lnTo>
                <a:lnTo>
                  <a:pt x="0" y="529"/>
                </a:lnTo>
                <a:lnTo>
                  <a:pt x="3" y="0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600" y="1814400"/>
            <a:ext cx="1600200" cy="99072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quid 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534440" y="1814400"/>
            <a:ext cx="1600200" cy="99072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2920" y="5022720"/>
            <a:ext cx="693720" cy="692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74880" y="5022720"/>
            <a:ext cx="685800" cy="68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2920" y="5022720"/>
            <a:ext cx="3047760" cy="6858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8480" y="5137200"/>
            <a:ext cx="458640" cy="46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0914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09145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4880" y="5315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86120" y="5133960"/>
            <a:ext cx="460080" cy="46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0914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09145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63960" y="5311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76640" y="326232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724200" y="3110040"/>
            <a:ext cx="685800" cy="365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176480" y="4657680"/>
            <a:ext cx="685800" cy="365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H="1">
            <a:off x="1479600" y="5175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74680" y="44895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14560" y="4489560"/>
            <a:ext cx="60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39240" y="3581280"/>
            <a:ext cx="30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Continuous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46560" y="4994280"/>
            <a:ext cx="692280" cy="692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508880" y="4994280"/>
            <a:ext cx="685800" cy="68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46560" y="4994280"/>
            <a:ext cx="3048120" cy="6858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1040" y="5108400"/>
            <a:ext cx="460080" cy="46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0914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09145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40320" y="5286240"/>
            <a:ext cx="8748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5105520"/>
            <a:ext cx="46152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0914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09145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797960" y="52833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213240" y="51465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343400" y="5334120"/>
          <a:ext cx="660240" cy="66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5334120"/>
                    <a:ext cx="66024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4876920" y="4800600"/>
            <a:ext cx="374400" cy="434880"/>
          </a:xfrm>
          <a:custGeom>
            <a:avLst/>
            <a:gdLst/>
            <a:ahLst/>
            <a:rect l="l" t="t" r="r" b="b"/>
            <a:pathLst>
              <a:path w="236" h="274">
                <a:moveTo>
                  <a:pt x="236" y="0"/>
                </a:moveTo>
                <a:cubicBezTo>
                  <a:pt x="211" y="14"/>
                  <a:pt x="116" y="35"/>
                  <a:pt x="77" y="81"/>
                </a:cubicBezTo>
                <a:cubicBezTo>
                  <a:pt x="38" y="127"/>
                  <a:pt x="16" y="234"/>
                  <a:pt x="0" y="27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4952880"/>
            <a:ext cx="374760" cy="435240"/>
          </a:xfrm>
          <a:custGeom>
            <a:avLst/>
            <a:gdLst/>
            <a:ahLst/>
            <a:rect l="l" t="t" r="r" b="b"/>
            <a:pathLst>
              <a:path w="236" h="274">
                <a:moveTo>
                  <a:pt x="236" y="0"/>
                </a:moveTo>
                <a:cubicBezTo>
                  <a:pt x="211" y="14"/>
                  <a:pt x="116" y="35"/>
                  <a:pt x="77" y="81"/>
                </a:cubicBezTo>
                <a:cubicBezTo>
                  <a:pt x="38" y="127"/>
                  <a:pt x="16" y="234"/>
                  <a:pt x="0" y="27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799200">
            <a:off x="8077320" y="4695840"/>
            <a:ext cx="664920" cy="355680"/>
          </a:xfrm>
          <a:custGeom>
            <a:avLst/>
            <a:gdLst/>
            <a:ahLst/>
            <a:rect l="l" t="t" r="r" b="b"/>
            <a:pathLst>
              <a:path w="960" h="496">
                <a:moveTo>
                  <a:pt x="0" y="0"/>
                </a:moveTo>
                <a:cubicBezTo>
                  <a:pt x="204" y="92"/>
                  <a:pt x="408" y="184"/>
                  <a:pt x="480" y="240"/>
                </a:cubicBezTo>
                <a:cubicBezTo>
                  <a:pt x="552" y="296"/>
                  <a:pt x="480" y="336"/>
                  <a:pt x="432" y="336"/>
                </a:cubicBezTo>
                <a:cubicBezTo>
                  <a:pt x="384" y="336"/>
                  <a:pt x="208" y="280"/>
                  <a:pt x="192" y="240"/>
                </a:cubicBezTo>
                <a:cubicBezTo>
                  <a:pt x="176" y="200"/>
                  <a:pt x="232" y="64"/>
                  <a:pt x="336" y="96"/>
                </a:cubicBezTo>
                <a:cubicBezTo>
                  <a:pt x="440" y="128"/>
                  <a:pt x="712" y="368"/>
                  <a:pt x="816" y="432"/>
                </a:cubicBezTo>
                <a:cubicBezTo>
                  <a:pt x="920" y="496"/>
                  <a:pt x="936" y="472"/>
                  <a:pt x="960" y="4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4761000" y="3040200"/>
            <a:ext cx="1068480" cy="441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1933560" y="4600440"/>
            <a:ext cx="106848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228600"/>
            <a:ext cx="8991720" cy="67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empo:    La presentación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NO DEBE DURAR MÁS DE 10 MINUT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e cuenta con PC y Data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a presentación se debe centrar en los siguientes punt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tulo de la memoria y profesor guí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Introducción a la problemática a abord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Objetivo general de la memo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etodología que se aplicará para lograr el obje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ta Gantt de la actividades a realizar durante el BT-IQ 69E (Recuerde que se deben considerar  las  4UD del curs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esultados esper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457200"/>
            <a:ext cx="8229600" cy="59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untos a Considerar en una 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TREGUE MATERIAL DE LA PRESENTACIÓN A LA AUDI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ra 10 minutos de presentación no se deben presentar más de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7 TRANSPARENCI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el caso dar animación a la presentación siempre controle el tiemp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o que se escribe en las transparencias debe poder ser leído por el públic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su presentación intente no leer lo que está en las transparencias, sino comentarl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 exponer diríjase siempre hacia la audienc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IEMPRE ENSAYE PREVIAMENTE SU EXPOSICIÓN.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152280"/>
            <a:ext cx="8229600" cy="70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8 de Septiembre 16:15  Sala B1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T69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RUSADELLI ACUÑA, PAULINA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Prof Guía: Blanca Esco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MARIN, LUIS MARCELO 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Leandro Herr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OYANADEL MARTINEZ, GERMAN EN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Blanca Escob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ÑA NUÑEZ, YORDI AND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Jesús Casa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152280"/>
            <a:ext cx="8229600" cy="89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5 de Octubre 16: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IQ 69E Sala B1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IAZ ROZAS, PATRICIA CAROLI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Tomas Var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SCOBAR GUTIERREZ, KARLA FABIO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RTINEZ SAPERAS, VERONICA MARI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ia: Leandro Herrera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Avisar a los profesores gu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21080" y="1752480"/>
            <a:ext cx="4405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0"/>
            <a:ext cx="8381880" cy="85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06.10.2006: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Vence el plazo para solicitar cambio al 69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on aceptables quienes cumplen alguna de las condiciones siguien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o haber reprobado ninguna asignatura desde que ingresaron a la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Haber reprobado muy pocas asignaturas pero tener inscrito el curso XX69E en su undécimo semestre de permanencia en la    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Haber figurado en los dos años anteriores al que se inscribe el XX69E, en la Lista de Alumnos Destacados de la Escue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0"/>
            <a:ext cx="8381880" cy="81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ntajas del IQ-BT 69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lculo Nota Final  IQ-BT69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F = 2/3 Nota Carrera + 1/3 Nota Exa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lculo Nota Final  IQ-BT69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F = ½ Nota Carrera + ½  Nota Exa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 la Nota de Examen  &gt;&gt; 5.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F = Nota Exa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uta para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NTACIONES ORALES</a:t>
            </a:r>
            <a:br>
              <a:rPr sz="4400"/>
            </a:b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475776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Dpto. Ingeniería Quí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Universidad de 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em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7524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 Unicode MS"/>
              </a:rPr>
              <a:t>Estructura de una Presentació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ontenidos de la Presen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Justificación de la Present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laves para una buena Presen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structura de una Present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ítulo y datos de los au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nido de la present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ción del problema y su solución- el marco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ados de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ados y su Discu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mendaciones de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 Por qué Presentaciones Oral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comunicación oral es crucial en las actividades de la ingenierí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uando se hace bien, se puede comunicar  resultados e ideas más rápidos que en el lenguaje escri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Objetivos de las Present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ñal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la audiencia cuáles so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s resultados más importan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y las conclusion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en el contexto gener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esent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o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etalles del trabaj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 modo d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nvencer a la audiencia de la validez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 sus resultados y recomendacio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str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la audiencia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s planes de acciones a seguir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asados en sus resultados y conclu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358128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5105520"/>
            <a:ext cx="739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6-09-12T21:42:10Z</dcterms:modified>
  <cp:revision>74</cp:revision>
  <dc:subject/>
  <dc:title>El ingeniero, etica y sociedad</dc:title>
</cp:coreProperties>
</file>