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6C58-6AAA-4EE2-9E5C-5113D46E7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F082-CEB9-4BFF-971A-2D1578BD2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5486-1F5C-4110-904C-C60386C78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E827-24F0-422B-A1E2-9C847FB7F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324C-5B14-412B-A37D-F67F1932B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4A92-B84F-41BE-8C5D-0D47F35AC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A553-16B7-4C5C-9B8E-4E8065874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38D2-15E3-44DA-BF6A-979EF6944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F6B6-2889-4538-8E3B-05D8B2861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7412-CFDC-4054-A8F0-C23C77AB2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5F7D-D254-4E89-AE73-448C67280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4801-DECF-4E98-8EE1-9E3EC387D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D347A-40C9-42C3-8D5A-0C230B6A31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troducción al Trabajo de Título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T-IQ 69E</a:t>
            </a:r>
            <a:br>
              <a:rPr sz="4400"/>
            </a:br>
            <a:r>
              <a:rPr b="1" lang="es-ES_tradnl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04 UD</a:t>
            </a:r>
            <a:br>
              <a:rPr sz="4400"/>
            </a:br>
            <a:r>
              <a:rPr b="1" lang="es-ES_tradnl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ttp://tamarugo.cec.uchile.cl/~btcursos/titulo/index_E.html</a:t>
            </a:r>
            <a:r>
              <a:rPr b="1" lang="es-ES_tradnl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4757760"/>
            <a:ext cx="72388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Dpto. Ingeniería Química y Biotecn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Universidad de  Ch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" y="457200"/>
            <a:ext cx="8229600" cy="59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untos a Considerar en una pres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NTREGUE MATERIAL DE LA PRESENTACIÓN A LA AUDIEN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ara 10 minutos de presentación no se deben presentar más de </a:t>
            </a: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7 TRANSPARENCIA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n el caso dar animación a la presentación siempre controle el tiemp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Lo que se escribe en las transparencias debe poder ser leído por el públic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n su presentación intente no leer lo que está en las transparencias, sino comentarl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Al exponer diríjase siempre hacia la audienci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SIEMPRE ENSAYE PREVIAMENTE SU EXPOSICIÓN.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152280"/>
            <a:ext cx="8229600" cy="72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28 de Septiembre 14:3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BT69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BRUSADELLI ACUÑA, PAUL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ORTES MARIN, LUIS MARCEL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OYANADEL MARTINEZ, GERMAN ENRIQUE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LA ASISTENCIA ES OBLIGATORIA A TODAS LAS PRESEN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7200" y="152280"/>
            <a:ext cx="8229600" cy="72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5 de Octubre 14: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IQ 69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IAZ ROZAS, PATRICIA CAROLI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SCOBAR GUTIERREZ, KARLA FABIO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ARTINEZ SAPERAS, VERONICA MARIA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LA ASISTENCIA ES OBLIGATORIA A TODAS LAS PRESEN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57200" y="731880"/>
            <a:ext cx="822960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eben inscribir el curso 69E en las dos especialidade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jemplo      BT69E e IQ69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ero sólo deben inscribir un solo 69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jemplo BT69 F  o IQ 69F o IN69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47920" y="2286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00"/>
                </a:solidFill>
                <a:uFillTx/>
                <a:latin typeface="Comic Sans MS"/>
              </a:rPr>
              <a:t>Alumnos que cursan 2 carre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7200" y="731880"/>
            <a:ext cx="82296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NO DEBEN  inscribir los cursos 69E ni 69F, éstos se convalidarán automáticamente con los Talleres de Titulo del Magist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47920" y="22860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Alumnos que cursan Magist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57200" y="731880"/>
            <a:ext cx="8229600" cy="60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Antecedentes del alum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a.No haber reprobado ninguna asignatura desde que ingresaron a la Facult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b.Haber reprobado muy pocas asignaturas pero tener inscrito el curso XX69E en su undécimo semestre de permanencia en la Facult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.Haber figurado en los dos años anteriores al que se inscribe el XX69E, en la Lista de Alumnos Destacados de la Escuela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Antecedentes del 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l informe del Profesor Guía debe explicar por qué el tema califica al tratarse de un trabajo experimental, profesionalmente innovativo o de investigación. De manera concisa pero clara hay que describir cómo el tema se inscribe en una de estas categorí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47920" y="22860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CAMBIO XX69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57200" y="457200"/>
            <a:ext cx="8229600" cy="52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Cambio al XX69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Ventaj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Nota Final de la carrera se calcula como 50% nota de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la memoria y examen de título + 50% Nota de Present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7e8f9"/>
                </a:solidFill>
                <a:latin typeface="Comic Sans MS"/>
                <a:ea typeface="Times New Roman"/>
              </a:rPr>
              <a:t>Si la de presentación es igual o superior a 5,5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Nota Final de la carrera se calcula como la nota de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la memoria y examen de títul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Comisión Titul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María Elena Lienque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Juan Asenj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Ziomara Gerdtzen (B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Francisco Gracia (IQ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</a:t>
            </a:r>
            <a:br>
              <a:rPr sz="4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0/8</a:t>
            </a: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aller de Búsquedas Bibliograficas</a:t>
            </a: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8/9 (7 semana)</a:t>
            </a:r>
            <a:br>
              <a:rPr sz="32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la selección del Tema y Prof. Guía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 formulario disponible en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amarugo.cec.uchile.cl/~btcursos/titulo/index_E.html</a:t>
            </a:r>
            <a:r>
              <a:rPr b="1" lang="es-ES_tradnl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4/9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aller sobre presentaciones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8/9-5/10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de tema seleccionado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or Fijar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Taller sobre preparación de entrevistas y CVs.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9/9 (10 semana)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olicitud de Cambio al 69H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in de semestre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in de exámenes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895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TEMA PROPUESTOS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es-ES_tradnl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rofesor Guía: Jesus Casas (email jecasas@ing.uchile.cl)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0" lang="es-ES_tradnl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terminación de la especiación del hierro en soluciones procedentes de circuitos hidrometalúrgicos mediante experimentación y la aplicación de modelos geoquímicos. </a:t>
            </a:r>
            <a:br>
              <a:rPr sz="2000"/>
            </a:br>
            <a:r>
              <a:rPr b="0" lang="es-ES_tradnl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studio del proceso de precipitación hidrotermal del hierro a escala de laboratorio. Análisis de experimentos y formulación de modelos fenomenológicos. </a:t>
            </a:r>
            <a:br>
              <a:rPr sz="2000"/>
            </a:br>
            <a:br>
              <a:rPr sz="2400"/>
            </a:br>
            <a:r>
              <a:rPr b="1" lang="es-ES_tradnl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rofesor Guía: Luis Cifuentes(Dpto. Ingeniería de Minas) 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studio de la obtencion de molibdeno metalico por deposicion con Fe, Co o Ni.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Estudio de la cementacion de molibdeno sobre Fe o Zn.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Separación de Mo, a partir de electrolitos que lo contienen, mediante electro diálisis.</a:t>
            </a:r>
            <a:br>
              <a:rPr sz="2000"/>
            </a:br>
            <a:br>
              <a:rPr sz="2000"/>
            </a:br>
            <a:r>
              <a:rPr b="0" lang="es-ES_tradnl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sarrollo de modelos matematicos (2-D y 3-D) de procesos electro metalurgicos por medio del software FEMLAB.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ES_tradnl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rofesor Guía: Tomas Vargas V. 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r>
              <a:rPr b="0" lang="es-ES_tradnl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ol de aditivos en la electrocristalización de cobre </a:t>
            </a:r>
            <a:br>
              <a:rPr sz="2000"/>
            </a:br>
            <a:r>
              <a:rPr b="0" lang="es-ES_tradnl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Cinética de disolución de minerales oxidados de cobre con soluciones lixiviantes con alta concentración iónica. </a:t>
            </a:r>
            <a:br>
              <a:rPr sz="2000"/>
            </a:br>
            <a:r>
              <a:rPr b="0" lang="es-ES_tradnl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Influencia de la concentración iónica de soluciones lixiviantes sobre la eficiencia de la extracción por solventes de cobre </a:t>
            </a:r>
            <a:br>
              <a:rPr sz="2000"/>
            </a:br>
            <a:r>
              <a:rPr b="0" lang="es-ES_tradnl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Determinación de la actividad catalítica de bacterias en circuitos </a:t>
            </a:r>
            <a:br>
              <a:rPr sz="2000"/>
            </a:br>
            <a:r>
              <a:rPr b="0" lang="es-ES_tradnl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 lixiviación industrial mediante métodos biooelectroquímicos </a:t>
            </a:r>
            <a:br>
              <a:rPr sz="2000"/>
            </a:br>
            <a:r>
              <a:rPr b="0" lang="es-ES_tradnl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Lixiviación bacteriana de minerales sulfurados de cobre con bacterias termófilas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es-ES_tradnl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rofesor Guía: Leandro Herrera 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r>
              <a:rPr b="0" lang="es-ES_tradnl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trol automático de una Planta de Tratamiento de Aguas Servidas de escala mediana (15 L/s). Implica programación de OPTO22 y análisis de cerradura de lazos ON/OFF </a:t>
            </a:r>
            <a:br>
              <a:rPr sz="2000"/>
            </a:br>
            <a:r>
              <a:rPr b="0" lang="es-ES_tradnl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Energías alternativas: Producción solar de hidrógeno. Implica diseño mecánico y evaluación de factibilidad técnica elemental. </a:t>
            </a:r>
            <a:br>
              <a:rPr sz="2000"/>
            </a:br>
            <a:r>
              <a:rPr b="0" lang="es-ES_tradnl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Producción biológica industrial de ácido sulfhídrico a partir de azufre elemental </a:t>
            </a:r>
            <a:br>
              <a:rPr sz="2000"/>
            </a:br>
            <a:r>
              <a:rPr b="0" lang="es-ES_tradnl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Corrosión bacteriana (quìmica, física y electroquímica) de ducterías industriales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rofesor Guía: Francisco Gracia </a:t>
            </a:r>
            <a:br>
              <a:rPr sz="2400"/>
            </a:br>
            <a:br>
              <a:rPr sz="2400"/>
            </a:br>
            <a:r>
              <a:rPr b="0" lang="es-ES_tradnl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studio de catalizadores de cobre y niquel para la producción de hidrógeno y su uso en celdas de combustible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es-ES_tradnl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rofesora Guía: Blanca Escobar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os alternativos del Cobre </a:t>
            </a:r>
            <a:br>
              <a:rPr sz="2400"/>
            </a:br>
            <a:br>
              <a:rPr sz="2400"/>
            </a:b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s-ES_tradnl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rofesora Guía: Oriana Salazar-M.Elena Lienqueo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fecto de la adición de extremos polipeptídicos en el comportamiento cromatográfico de las proteí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200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ES_tradnl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CIByB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rigirse a página web del CIByB (www.cibyb.uchile.cl) y que  conversar con los Profesores del CIByB para ver la posibilidad de realizar su Memoria en temas de Biotecnología y de acuerdo a los intereses de los estudiantes.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s-ES_tradnl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atricio Jorquera (IDIEM)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studio de correlación de viscosidad del asfalto.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s-ES_tradnl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OTROS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ben presentar el tema a evaluación de la comisión de titulación del DIQBT</a:t>
            </a:r>
            <a:br>
              <a:rPr sz="20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troducción al Trabajo de Títu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600200"/>
            <a:ext cx="2057400" cy="825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Selección Prof Guía y 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2819520"/>
            <a:ext cx="2057400" cy="825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Entrega a la com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971800" y="4114800"/>
            <a:ext cx="2057400" cy="825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Presentación del 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971800" y="5334120"/>
            <a:ext cx="2057400" cy="825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Búsqueda Biblio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629400" y="5562720"/>
            <a:ext cx="2057400" cy="10159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Evalu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A o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629400" y="3505320"/>
            <a:ext cx="2057400" cy="459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BT-IQ 69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657600" y="2438280"/>
            <a:ext cx="380880" cy="381240"/>
          </a:xfrm>
          <a:prstGeom prst="downArrow">
            <a:avLst>
              <a:gd name="adj1" fmla="val 50000"/>
              <a:gd name="adj2" fmla="val 25024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733920" y="3733920"/>
            <a:ext cx="3808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4952880"/>
            <a:ext cx="380880" cy="381240"/>
          </a:xfrm>
          <a:prstGeom prst="downArrow">
            <a:avLst>
              <a:gd name="adj1" fmla="val 50000"/>
              <a:gd name="adj2" fmla="val 25024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1905120"/>
            <a:ext cx="838080" cy="380880"/>
          </a:xfrm>
          <a:prstGeom prst="leftArrow">
            <a:avLst>
              <a:gd name="adj1" fmla="val 50000"/>
              <a:gd name="adj2" fmla="val 55009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715000" y="1981080"/>
            <a:ext cx="152280" cy="10670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029200" y="3048120"/>
            <a:ext cx="8380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5880" y="2057400"/>
            <a:ext cx="2210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Modific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O Recha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5715000"/>
            <a:ext cx="1523880" cy="304920"/>
          </a:xfrm>
          <a:prstGeom prst="rightArrow">
            <a:avLst>
              <a:gd name="adj1" fmla="val 50000"/>
              <a:gd name="adj2" fmla="val 124941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003640" y="6035760"/>
            <a:ext cx="233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Informe al Profesor Gu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81480" y="3657600"/>
            <a:ext cx="1524240" cy="304920"/>
          </a:xfrm>
          <a:prstGeom prst="rightArrow">
            <a:avLst>
              <a:gd name="adj1" fmla="val 50000"/>
              <a:gd name="adj2" fmla="val 12497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81480" y="41911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Solicitud de camb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28954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7 sem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42670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10 sem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228600"/>
            <a:ext cx="8991720" cy="67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es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Tiempo:    La presentación </a:t>
            </a: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NO DEBE DURAR MÁS DE 10 MINUTO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        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Se cuenta con PC y Datash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La presentación se debe centrar en los siguientes punto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Titulo de la memoria y profesor guí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Introducción a la problemática a abord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Objetivo general de la memor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etodología que se aplicará para lograr el objetiv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arta Gantt de la actividades a realizar durante el BT-IQ 69E (Recuerde que se deben considerar  las  4UD del curso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Resultados esperad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Ing Quimica</cp:lastModifiedBy>
  <dcterms:modified xsi:type="dcterms:W3CDTF">2006-07-26T16:02:02Z</dcterms:modified>
  <cp:revision>109</cp:revision>
  <dc:subject/>
  <dc:title>El ingeniero, etica y sociedad</dc:title>
</cp:coreProperties>
</file>