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281-A603-4DF5-A73F-79B53C71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D9D-CC99-4F8C-A48D-1D0D1B35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6AE-7719-4BCE-B2E8-893A1025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73A-D58D-488D-B179-ED3BA414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802-E75A-40C7-B271-A0EA43A7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AD4-BB97-4FF9-881E-C48CE37E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3B0-EEFA-4405-87F5-7385B29B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52F-424A-41F0-A98E-C38C3F5B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6AD-469E-49A8-8E65-DE8C661D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B80-A544-4297-B9C2-9AB89580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A00-29E0-44F3-9361-32DC62C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13A-1106-4134-8C1C-5BF87898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756F-DB44-4644-831B-144C7536E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82296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4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2296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4: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omisión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aría Elena Lienqu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Ziomara Gerdtzen (B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rancisco Gracia (I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aficas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9/9 (10 semana)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exámenes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Jesus Casas (email jecasas@ing.uchile.cl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rminación de la especiación del hierro en soluciones procedentes de circuitos hidrometalúrgicos mediante experimentación y la aplicación de modelos geoquímicos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l proceso de precipitación hidrotermal del hierro a escala de laboratorio. Análisis de experimentos y formulación de modelos fenomenológicos. </a:t>
            </a:r>
            <a:br>
              <a:rPr sz="20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Luis Cifuentes(Dpto. Ingeniería de Minas)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la obtencion de molibdeno metalico por deposicion con Fe, Co o Ni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Estudio de la cementacion de molibdeno sobre Fe o Zn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Separación de Mo, a partir de electrolitos que lo contienen, mediante electro diálisis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arrollo de modelos matematicos (2-D y 3-D) de procesos electro metalurgicos por medio del software FEMLAB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Tomas Vargas V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l de aditivos en la electrocristalización de cobre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Cinética de disolución de minerales oxidados de cobre con soluciones lixiviantes con alta concentración iónica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Influencia de la concentración iónica de soluciones lixiviantes sobre la eficiencia de la extracción por solventes de cobre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Determinación de la actividad catalítica de bacterias en circuitos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ixiviación industrial mediante métodos biooelectroquímicos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Lixiviación bacteriana de minerales sulfurados de cobre con bacterias termófil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 automático de una Planta de Tratamiento de Aguas Servidas de escala mediana (15 L/s). Implica programación de OPTO22 y análisis de cerradura de lazos ON/OFF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Energías alternativas: Producción solar de hidrógeno. Implica diseño mecánico y evaluación de factibilidad técnica elemental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Producción biológica industrial de ácido sulfhídrico a partir de azufre elemental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Corrosión bacteriana (quìmica, física y electroquímica) de ducterías industria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Francisco Gracia 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catalizadores de cobre y niquel para la producción de hidrógeno y su uso en celdas de combustibl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a Guía: Blanca Escob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s alternativos del Cobre 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a Guía: Oriana Salazar-M.Elena Lienqueo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fecto de la adición de extremos polipeptídicos en el comportamiento cromatográfico d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IByB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igirse a página web del CIByB (www.cibyb.uchile.cl) y que  conversar con los Profesores del CIByB para ver la posibilidad de realizar su Memoria en temas de Biotecnología y de acuerdo a los intereses de los estudiantes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tricio Jorquera (IDIEM)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correlación de viscosidad del asfalto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ROS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ben presentar el tema a evaluación de la comisión de titulación del DIQBT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0020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elección Prof Guía y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81952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trega a la co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11480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esentación de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33412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úsqueda Bibli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562720"/>
            <a:ext cx="2057400" cy="101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 o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505320"/>
            <a:ext cx="20574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T-IQ 69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4382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733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9528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9051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1981080"/>
            <a:ext cx="1522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048120"/>
            <a:ext cx="8380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205740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O Rech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7150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6035760"/>
            <a:ext cx="23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forme al Profesor Gu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65760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191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licitud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7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0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7-26T16:02:02Z</dcterms:modified>
  <cp:revision>109</cp:revision>
  <dc:subject/>
  <dc:title>El ingeniero, etica y sociedad</dc:title>
</cp:coreProperties>
</file>