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B66-E4F1-4C86-A16A-5327E0DE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423-5018-4835-AD5D-C7352483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142-2E14-46CB-BDED-30B6644B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2E0-886E-4F0E-B96A-EF2EF360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B2C-5B1C-410A-827D-8AEB8DDE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14F-0BBC-4CC1-8456-A44B23BB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11C-7872-4DF5-90FB-97993A4F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54A-7746-42CC-9A72-EFE581E5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D3F-DCD2-4674-AA87-049DC711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C90-7A62-4B90-A0E0-71B8F8D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46C-E228-4C5B-893F-BC38FBA0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FE1-BCEF-422B-8B6B-C3921253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29F4-069B-417D-916F-244D5E16C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 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uede llegar a ser ren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5640" y="4581360"/>
            <a:ext cx="468360" cy="648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75640" y="4365720"/>
            <a:ext cx="468360" cy="64764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2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!! Las tareas no son necesariamente consecutivas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Tipos de Pla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87280" y="3357720"/>
            <a:ext cx="6648480" cy="1191600"/>
            <a:chOff x="1187280" y="335772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322360" y="359388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944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796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15040" y="359388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506240" y="3939120"/>
              <a:ext cx="5986800" cy="11520"/>
              <a:chOff x="1506240" y="393912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2971080" y="394884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2685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5663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6864120" y="393912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506240" y="393948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29876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284360" y="369360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5814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6880320" y="368568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522440" y="368568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509480" y="4218840"/>
              <a:ext cx="5986800" cy="9720"/>
              <a:chOff x="1509480" y="421884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2974320" y="422676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2717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5695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6867360" y="421884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509480" y="421884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187280" y="335772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4480" y="336204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1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06560" y="69228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403280" y="3068280"/>
            <a:ext cx="5576760" cy="1627560"/>
            <a:chOff x="1403280" y="3068280"/>
            <a:chExt cx="5576760" cy="1627560"/>
          </a:xfrm>
        </p:grpSpPr>
        <p:sp>
          <p:nvSpPr>
            <p:cNvPr id="78" name=""/>
            <p:cNvSpPr/>
            <p:nvPr/>
          </p:nvSpPr>
          <p:spPr>
            <a:xfrm>
              <a:off x="235548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4376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1680" y="352620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140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76000" y="394056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164280" y="393120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670760" y="393156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83000" y="3631320"/>
              <a:ext cx="5022720" cy="10800"/>
              <a:chOff x="1683000" y="3631320"/>
              <a:chExt cx="502272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91204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4000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89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77960" y="363132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83000" y="363168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403280" y="325008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3480" y="325512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98720" y="392832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209120" y="392976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121200" y="307620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224960" y="311040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135240" y="306828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80840" y="420552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73520" y="418356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969000" y="418500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145560" y="421992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347080" y="424548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227840" y="418212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361120" y="428616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95080" y="4681800"/>
              <a:ext cx="117720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6-11-03T20:40:41Z</dcterms:modified>
  <cp:revision>109</cp:revision>
  <dc:subject/>
  <dc:title>Principios y Metodología de Modelación</dc:title>
</cp:coreProperties>
</file>