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E91-D060-476D-B04B-1ABCE299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9EF-7CAD-4A84-BD51-05063E2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141-4B57-4A17-9A35-48D3B32E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37C-F333-428E-93F1-61CB462F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468-9E3F-4D0E-90CD-0F051885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5CC-6C8D-4134-A653-B6C87C8D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EEB-4DFC-4981-9FFD-89E1FA2D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803-733A-427A-AAB3-BE208045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EC7-6840-4D51-A045-24981DE9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905-1EED-4DAB-B7C0-A3852EF8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E6D-3005-4819-B354-5197600F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12F-0C44-41D1-84C3-8EAA264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4940-AA0C-4E1A-82D3-847D5AD96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 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uede llegar a ser ren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5640" y="4581360"/>
            <a:ext cx="468360" cy="648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75640" y="4365720"/>
            <a:ext cx="468360" cy="64764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2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!! Las tareas no son necesariamente consecutivas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Tipos de Pla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87280" y="3357720"/>
            <a:ext cx="6648480" cy="1191600"/>
            <a:chOff x="1187280" y="335772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322360" y="359388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944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796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15040" y="359388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506240" y="3939120"/>
              <a:ext cx="5986800" cy="11520"/>
              <a:chOff x="1506240" y="393912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2971080" y="394884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2685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5663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6864120" y="393912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506240" y="393948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29876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284360" y="369360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5814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6880320" y="368568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522440" y="368568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509480" y="4218840"/>
              <a:ext cx="5986800" cy="9720"/>
              <a:chOff x="1509480" y="421884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2974320" y="422676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2717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5695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6867360" y="421884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509480" y="421884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187280" y="335772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4480" y="336204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1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06560" y="69228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403280" y="3068280"/>
            <a:ext cx="5576760" cy="1627560"/>
            <a:chOff x="1403280" y="3068280"/>
            <a:chExt cx="5576760" cy="1627560"/>
          </a:xfrm>
        </p:grpSpPr>
        <p:sp>
          <p:nvSpPr>
            <p:cNvPr id="78" name=""/>
            <p:cNvSpPr/>
            <p:nvPr/>
          </p:nvSpPr>
          <p:spPr>
            <a:xfrm>
              <a:off x="235548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4376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1680" y="352620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140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76000" y="394056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164280" y="393120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670760" y="393156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83000" y="3631320"/>
              <a:ext cx="5022720" cy="10800"/>
              <a:chOff x="1683000" y="3631320"/>
              <a:chExt cx="502272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91204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4000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89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77960" y="363132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83000" y="363168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403280" y="325008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3480" y="325512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98720" y="392832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209120" y="392976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121200" y="307620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224960" y="311040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135240" y="306828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80840" y="420552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73520" y="418356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969000" y="418500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145560" y="421992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347080" y="424548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227840" y="418212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361120" y="428616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95080" y="4681800"/>
              <a:ext cx="117720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6-11-03T20:40:41Z</dcterms:modified>
  <cp:revision>109</cp:revision>
  <dc:subject/>
  <dc:title>Principios y Metodología de Modelación</dc:title>
</cp:coreProperties>
</file>