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24.png" ContentType="image/png"/>
  <Override PartName="/ppt/media/image19.png" ContentType="image/png"/>
  <Override PartName="/ppt/media/image20.jpeg" ContentType="image/jpeg"/>
  <Override PartName="/ppt/media/image7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33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30.jpeg" ContentType="image/jpeg"/>
  <Override PartName="/ppt/media/image31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15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18.png" ContentType="image/png"/>
  <Override PartName="/ppt/media/image2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8E1F-2172-4212-8AC3-AD8C1ACD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C494-B442-43B9-B767-A6E22BEB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E75C-9A4C-4F3B-855A-CF8DD60A6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73E0-FDFB-4F9D-82B6-784E35B4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89ED-81BF-46E5-827D-78FDB4B0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79E2-092B-4866-9FBF-70550869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D672-33C4-4E6B-BA6A-56082C38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F64A-22F8-45F0-A23C-3695B72B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9001-ED4F-4D17-A294-E7F25479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2432-047F-4693-A4DF-3CEE40B7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F11A-9CFB-4DF4-96A2-86D94175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C8EC-1122-44A9-9A6C-7CC120BB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4F2F-F235-4877-8DBA-07BBB87EA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0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Operaciones de Refinamiento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580000" y="4005360"/>
            <a:ext cx="158292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03280" y="3933720"/>
            <a:ext cx="2319480" cy="2438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284720" y="476280"/>
            <a:ext cx="4394160" cy="5933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476280"/>
            <a:ext cx="381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quema de formación de agregación, aglomeración y rompimiento de crist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37083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lgunos tipos de dependencia de la solubilidad con la temperatura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36040" cy="3795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3961080" cy="3209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92720" y="2276640"/>
            <a:ext cx="3340080" cy="3208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08000" y="40464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quemas básicos de cristaliz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58920" y="566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80000" y="5661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tin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457200" y="609480"/>
            <a:ext cx="8496000" cy="6037560"/>
            <a:chOff x="457200" y="609480"/>
            <a:chExt cx="8496000" cy="6037560"/>
          </a:xfrm>
        </p:grpSpPr>
        <p:grpSp>
          <p:nvGrpSpPr>
            <p:cNvPr id="82" name=""/>
            <p:cNvGrpSpPr/>
            <p:nvPr/>
          </p:nvGrpSpPr>
          <p:grpSpPr>
            <a:xfrm>
              <a:off x="463320" y="613800"/>
              <a:ext cx="8482680" cy="6028200"/>
              <a:chOff x="463320" y="613800"/>
              <a:chExt cx="8482680" cy="602820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463320" y="613800"/>
                <a:ext cx="1719000" cy="764280"/>
                <a:chOff x="463320" y="613800"/>
                <a:chExt cx="1719000" cy="7642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521640" y="613800"/>
                  <a:ext cx="16023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dependenci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63320" y="613800"/>
                  <a:ext cx="1719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182680" y="613800"/>
                <a:ext cx="3087000" cy="764280"/>
                <a:chOff x="2182680" y="613800"/>
                <a:chExt cx="3087000" cy="7642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241360" y="613800"/>
                  <a:ext cx="2969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182680" y="613800"/>
                  <a:ext cx="3087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5270400" y="613800"/>
                <a:ext cx="3675600" cy="764280"/>
                <a:chOff x="5270400" y="613800"/>
                <a:chExt cx="3675600" cy="7642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5329080" y="613800"/>
                  <a:ext cx="35582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5270400" y="613800"/>
                  <a:ext cx="36756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63320" y="1378080"/>
                <a:ext cx="1719000" cy="2886480"/>
                <a:chOff x="463320" y="1378080"/>
                <a:chExt cx="1719000" cy="28864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521640" y="1378080"/>
                  <a:ext cx="1602360" cy="288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63320" y="1378080"/>
                  <a:ext cx="1719000" cy="288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182680" y="1378080"/>
                <a:ext cx="3087000" cy="1782720"/>
                <a:chOff x="2182680" y="1378080"/>
                <a:chExt cx="3087000" cy="1782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241360" y="1378080"/>
                  <a:ext cx="29696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182680" y="1378080"/>
                  <a:ext cx="30870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5270400" y="1378080"/>
                <a:ext cx="3675600" cy="1782720"/>
                <a:chOff x="5270400" y="1378080"/>
                <a:chExt cx="3675600" cy="1782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5329080" y="1378080"/>
                  <a:ext cx="35582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s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o de c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íquido refrigerante inmiscible en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rendi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consumo de energí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270400" y="1378080"/>
                  <a:ext cx="36756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182680" y="3160800"/>
                <a:ext cx="3087000" cy="1103760"/>
                <a:chOff x="2182680" y="3160800"/>
                <a:chExt cx="3087000" cy="11037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241360" y="3160800"/>
                  <a:ext cx="29696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 evaporativ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182680" y="3160800"/>
                  <a:ext cx="30870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5270400" y="3160800"/>
                <a:ext cx="3675600" cy="1103760"/>
                <a:chOff x="5270400" y="3160800"/>
                <a:chExt cx="3675600" cy="11037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329080" y="3160800"/>
                  <a:ext cx="35582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friamiento adiabático por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270400" y="3160800"/>
                  <a:ext cx="36756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463320" y="4264920"/>
                <a:ext cx="1719000" cy="933840"/>
                <a:chOff x="463320" y="4264920"/>
                <a:chExt cx="1719000" cy="9338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21640" y="4264920"/>
                  <a:ext cx="160236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in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63320" y="4264920"/>
                  <a:ext cx="1719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182680" y="4264920"/>
                <a:ext cx="3087000" cy="933840"/>
                <a:chOff x="2182680" y="4264920"/>
                <a:chExt cx="3087000" cy="93384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241360" y="4264920"/>
                  <a:ext cx="29696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vaporación térmic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182680" y="4264920"/>
                  <a:ext cx="3087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5270400" y="4264920"/>
                <a:ext cx="3675600" cy="933840"/>
                <a:chOff x="5270400" y="4264920"/>
                <a:chExt cx="3675600" cy="9338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5329080" y="4264920"/>
                  <a:ext cx="35582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evapora el solv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ador con vap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270400" y="4264920"/>
                  <a:ext cx="36756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463320" y="5198760"/>
                <a:ext cx="1719000" cy="1443240"/>
                <a:chOff x="463320" y="5198760"/>
                <a:chExt cx="1719000" cy="144324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21640" y="5198760"/>
                  <a:ext cx="160236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que depende en forma intermedia con la 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63320" y="5198760"/>
                  <a:ext cx="1719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2182680" y="5198760"/>
                <a:ext cx="3087000" cy="1443240"/>
                <a:chOff x="2182680" y="5198760"/>
                <a:chExt cx="3087000" cy="144324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2241360" y="5198760"/>
                  <a:ext cx="29696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térmic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182680" y="5198760"/>
                  <a:ext cx="3087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270400" y="5198760"/>
                <a:ext cx="3675600" cy="1443240"/>
                <a:chOff x="5270400" y="5198760"/>
                <a:chExt cx="3675600" cy="14432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329080" y="5198760"/>
                  <a:ext cx="35582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n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en presencia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270400" y="5198760"/>
                  <a:ext cx="36756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457200" y="609480"/>
              <a:ext cx="8496000" cy="6037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533520" y="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odos de operación de Cristalizadores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228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sensible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438280" y="3879720"/>
            <a:ext cx="4419720" cy="2977920"/>
            <a:chOff x="2438280" y="3879720"/>
            <a:chExt cx="4419720" cy="2977920"/>
          </a:xfrm>
        </p:grpSpPr>
        <p:sp>
          <p:nvSpPr>
            <p:cNvPr id="129" name=""/>
            <p:cNvSpPr/>
            <p:nvPr/>
          </p:nvSpPr>
          <p:spPr>
            <a:xfrm>
              <a:off x="2438280" y="38797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Comic Sans MS"/>
                  <a:ea typeface="Times New Roman"/>
                </a:rPr>
                <a:t>Productos insensible a la temperatu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0" name=""/>
            <p:cNvGraphicFramePr/>
            <p:nvPr/>
          </p:nvGraphicFramePr>
          <p:xfrm>
            <a:off x="2743200" y="4412880"/>
            <a:ext cx="2530440" cy="244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3200" y="4412880"/>
                      <a:ext cx="2530440" cy="24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32" name=""/>
          <p:cNvGraphicFramePr/>
          <p:nvPr/>
        </p:nvGraphicFramePr>
        <p:xfrm>
          <a:off x="2484360" y="836640"/>
          <a:ext cx="3724200" cy="29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836640"/>
                    <a:ext cx="37242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71600" y="30492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que depende en forma intermedia con la 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124000" y="1498680"/>
          <a:ext cx="400068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498680"/>
                    <a:ext cx="400068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85345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os equipos pueden operar en fo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·        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Batch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sultando la mayoría de los productos biotecnológ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 tiempos de operación entre 2 a 8 h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835280" y="2209680"/>
          <a:ext cx="52578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209680"/>
                    <a:ext cx="52578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830592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tinu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irculación del líquido de manera de recuperar todo el soluto de interés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852640" y="2085840"/>
            <a:ext cx="3438720" cy="3791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4367160" cy="5616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03280" y="404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Evapo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194440" y="1628640"/>
            <a:ext cx="3949560" cy="4865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92720" y="404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Contacto 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362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Se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ir el contenido de solvente (agua) por evaporación o subli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iliza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eserva l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e el volumen, lo cual lo hace más fácil de traspor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upera el solvente, en el caso de no ser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Métodos de se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método de secado a utilizar dependerá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ipo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piedades fisicoquímicas del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olerancia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8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151760" y="4495680"/>
            <a:ext cx="1423800" cy="2057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352680" y="4038480"/>
            <a:ext cx="5791320" cy="2590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1363680" y="1027080"/>
            <a:ext cx="6418080" cy="4805280"/>
            <a:chOff x="1363680" y="1027080"/>
            <a:chExt cx="6418080" cy="4805280"/>
          </a:xfrm>
        </p:grpSpPr>
        <p:grpSp>
          <p:nvGrpSpPr>
            <p:cNvPr id="149" name=""/>
            <p:cNvGrpSpPr/>
            <p:nvPr/>
          </p:nvGrpSpPr>
          <p:grpSpPr>
            <a:xfrm>
              <a:off x="1368360" y="1031760"/>
              <a:ext cx="6408720" cy="4795920"/>
              <a:chOff x="1368360" y="1031760"/>
              <a:chExt cx="6408720" cy="479592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368360" y="1031760"/>
                <a:ext cx="1898640" cy="639720"/>
                <a:chOff x="1368360" y="1031760"/>
                <a:chExt cx="1898640" cy="6397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412640" y="103176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368360" y="103176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7000" y="1031760"/>
                <a:ext cx="2733840" cy="639720"/>
                <a:chOff x="3267000" y="1031760"/>
                <a:chExt cx="2733840" cy="63972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11640" y="1031760"/>
                  <a:ext cx="26445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7000" y="1031760"/>
                  <a:ext cx="27338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6000840" y="1031760"/>
                <a:ext cx="1776240" cy="639720"/>
                <a:chOff x="6000840" y="1031760"/>
                <a:chExt cx="1776240" cy="6397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6045120" y="1031760"/>
                  <a:ext cx="1687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000840" y="1031760"/>
                  <a:ext cx="177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1368360" y="1671480"/>
                <a:ext cx="6408720" cy="776160"/>
                <a:chOff x="1368360" y="1671480"/>
                <a:chExt cx="6408720" cy="7761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412640" y="1671480"/>
                  <a:ext cx="6320160" cy="77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990033"/>
                      </a:solidFill>
                      <a:latin typeface="Times New Roman"/>
                      <a:ea typeface="Times New Roman"/>
                    </a:rPr>
                    <a:t>Contacto directo con aire caliente en forma adiabátic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368360" y="1671480"/>
                  <a:ext cx="6408720" cy="77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1368360" y="2447640"/>
                <a:ext cx="1897200" cy="1187640"/>
                <a:chOff x="1368360" y="2447640"/>
                <a:chExt cx="1897200" cy="11876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1412640" y="244764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ho fluidizad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368360" y="244764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3265560" y="2447640"/>
                <a:ext cx="2735280" cy="1187640"/>
                <a:chOff x="3265560" y="2447640"/>
                <a:chExt cx="2735280" cy="11876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309840" y="2447640"/>
                  <a:ext cx="264636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sólido (concentraciones del orden de 30% o más de sólido) se ponen en contacto con aire cali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atamiento de grandes volúmenes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265560" y="2447640"/>
                  <a:ext cx="273528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000840" y="2447640"/>
                <a:ext cx="1776240" cy="1187640"/>
                <a:chOff x="6000840" y="2447640"/>
                <a:chExt cx="1776240" cy="11876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6045120" y="2447640"/>
                  <a:ext cx="16876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000840" y="2447640"/>
                  <a:ext cx="177624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1368360" y="3635280"/>
                <a:ext cx="1897200" cy="1187280"/>
                <a:chOff x="1368360" y="3635280"/>
                <a:chExt cx="1897200" cy="11872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412640" y="3635280"/>
                  <a:ext cx="18082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cado por aspersión o spr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68360" y="3635280"/>
                  <a:ext cx="189720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5560" y="3635280"/>
                <a:ext cx="2735280" cy="1187280"/>
                <a:chOff x="3265560" y="3635280"/>
                <a:chExt cx="2735280" cy="11872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09840" y="3635280"/>
                  <a:ext cx="26463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 termo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des Volúme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solución debe tener más de un 25% de sólido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5560" y="3635280"/>
                  <a:ext cx="27352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000840" y="3635280"/>
                <a:ext cx="1776240" cy="1187280"/>
                <a:chOff x="6000840" y="3635280"/>
                <a:chExt cx="1776240" cy="11872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045120" y="3635280"/>
                  <a:ext cx="16876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unicelula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000840" y="3635280"/>
                  <a:ext cx="17762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1368360" y="4822560"/>
                <a:ext cx="1897200" cy="1005120"/>
                <a:chOff x="1368360" y="4822560"/>
                <a:chExt cx="1897200" cy="10051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412640" y="4822560"/>
                  <a:ext cx="18082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ntáneo o Flas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368360" y="4822560"/>
                  <a:ext cx="189720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3265560" y="4822560"/>
                <a:ext cx="2735280" cy="1005120"/>
                <a:chOff x="3265560" y="4822560"/>
                <a:chExt cx="2735280" cy="1005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309840" y="4822560"/>
                  <a:ext cx="26463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ólidos con baja humedad y difíciles de manejar (por tamaño o pegajoso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265560" y="4822560"/>
                  <a:ext cx="27352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000840" y="4822560"/>
                <a:ext cx="1776240" cy="1005120"/>
                <a:chOff x="6000840" y="4822560"/>
                <a:chExt cx="1776240" cy="10051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045120" y="4822560"/>
                  <a:ext cx="16876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que no toleran altas temperat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000840" y="4822560"/>
                  <a:ext cx="17762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9" name=""/>
            <p:cNvSpPr/>
            <p:nvPr/>
          </p:nvSpPr>
          <p:spPr>
            <a:xfrm>
              <a:off x="1363680" y="1027080"/>
              <a:ext cx="6418080" cy="4805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362320" y="304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étodos de secado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105600" cy="49831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554560" y="83664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spray o por asp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5925960" cy="4802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624400" y="620640"/>
            <a:ext cx="35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flash o instantá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600200" y="990720"/>
          <a:ext cx="5791320" cy="38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90720"/>
                    <a:ext cx="5791320" cy="38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1235160" y="-11160"/>
            <a:ext cx="6673680" cy="6464160"/>
            <a:chOff x="1235160" y="-11160"/>
            <a:chExt cx="6673680" cy="6464160"/>
          </a:xfrm>
        </p:grpSpPr>
        <p:grpSp>
          <p:nvGrpSpPr>
            <p:cNvPr id="201" name=""/>
            <p:cNvGrpSpPr/>
            <p:nvPr/>
          </p:nvGrpSpPr>
          <p:grpSpPr>
            <a:xfrm>
              <a:off x="1239840" y="-6120"/>
              <a:ext cx="6664320" cy="6454800"/>
              <a:chOff x="1239840" y="-6120"/>
              <a:chExt cx="6664320" cy="645480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1239840" y="-6120"/>
                <a:ext cx="1898640" cy="639720"/>
                <a:chOff x="1239840" y="-6120"/>
                <a:chExt cx="1898640" cy="6397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284120" y="-612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239840" y="-612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138480" y="-6120"/>
                <a:ext cx="2965320" cy="639720"/>
                <a:chOff x="3138480" y="-6120"/>
                <a:chExt cx="2965320" cy="6397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183120" y="-6120"/>
                  <a:ext cx="2876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138480" y="-6120"/>
                  <a:ext cx="2965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6103800" y="-6120"/>
                <a:ext cx="1800360" cy="639720"/>
                <a:chOff x="6103800" y="-6120"/>
                <a:chExt cx="1800360" cy="639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6148440" y="-6120"/>
                  <a:ext cx="1711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103800" y="-6120"/>
                  <a:ext cx="1800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1239840" y="633600"/>
                <a:ext cx="6434280" cy="1704960"/>
                <a:chOff x="1239840" y="633600"/>
                <a:chExt cx="6434280" cy="170496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1284120" y="633600"/>
                  <a:ext cx="6345360" cy="1509480"/>
                  <a:chOff x="1284120" y="633600"/>
                  <a:chExt cx="6345360" cy="15094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1284120" y="633600"/>
                    <a:ext cx="6345360" cy="412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1284120" y="1227600"/>
                    <a:ext cx="6345360" cy="91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No adiabático por conducción: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Método indirecto por conducción a través de paredes metálicas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1239840" y="633600"/>
                  <a:ext cx="6434280" cy="170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1239840" y="2338560"/>
                <a:ext cx="1897200" cy="1917720"/>
                <a:chOff x="1239840" y="2338560"/>
                <a:chExt cx="1897200" cy="19177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1284120" y="2338560"/>
                  <a:ext cx="180828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iofilizado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239840" y="2338560"/>
                  <a:ext cx="189720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3137040" y="2338560"/>
                <a:ext cx="2968560" cy="1917720"/>
                <a:chOff x="3137040" y="2338560"/>
                <a:chExt cx="2968560" cy="19177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3181320" y="2338560"/>
                  <a:ext cx="287964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Poductos muy lábiles, frágiles o muy soluble. Cuenta con varias etapas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tapa de Filtrado, concentración 5-25% p/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Congelado de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hidratación por calentamiento </a:t>
                  </a:r>
                  <a:r>
                    <a:rPr b="1" lang="es-ES_tradnl" sz="12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al vacío,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el agua siempre se encuentra en forma sólida y su pérdida es sólo por sublimació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137040" y="2338560"/>
                  <a:ext cx="296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105600" y="2338560"/>
                <a:ext cx="1798560" cy="1917720"/>
                <a:chOff x="6105600" y="2338560"/>
                <a:chExt cx="1798560" cy="19177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49880" y="2338560"/>
                  <a:ext cx="171000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rmon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terapéu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105600" y="2338560"/>
                  <a:ext cx="179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239840" y="4256280"/>
                <a:ext cx="1897200" cy="1187640"/>
                <a:chOff x="1239840" y="4256280"/>
                <a:chExt cx="1897200" cy="1187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284120" y="425628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239840" y="425628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3137040" y="4256280"/>
                <a:ext cx="2968560" cy="1187640"/>
                <a:chOff x="3137040" y="4256280"/>
                <a:chExt cx="2968560" cy="1187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3181320" y="4256280"/>
                  <a:ext cx="287964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Nivel de produc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valor del produc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licación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137040" y="4256280"/>
                  <a:ext cx="296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6105600" y="4256280"/>
                <a:ext cx="1798560" cy="1187640"/>
                <a:chOff x="6105600" y="4256280"/>
                <a:chExt cx="1798560" cy="11876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6149880" y="4256280"/>
                  <a:ext cx="171000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105600" y="4256280"/>
                  <a:ext cx="179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1239840" y="5443920"/>
                <a:ext cx="1897200" cy="1004760"/>
                <a:chOff x="1239840" y="5443920"/>
                <a:chExt cx="1897200" cy="10047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1284120" y="5443920"/>
                  <a:ext cx="180828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stemas Rotatori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239840" y="5443920"/>
                  <a:ext cx="18972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3137040" y="5443920"/>
                <a:ext cx="2968560" cy="1004760"/>
                <a:chOff x="3137040" y="5443920"/>
                <a:chExt cx="2968560" cy="10047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3181320" y="5443920"/>
                  <a:ext cx="28796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giratoria a la cual se le aplica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137040" y="5443920"/>
                  <a:ext cx="296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105600" y="5443920"/>
                <a:ext cx="1798560" cy="1004760"/>
                <a:chOff x="6105600" y="5443920"/>
                <a:chExt cx="1798560" cy="10047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49880" y="5443920"/>
                  <a:ext cx="17100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105600" y="5443920"/>
                  <a:ext cx="179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3" name=""/>
            <p:cNvSpPr/>
            <p:nvPr/>
          </p:nvSpPr>
          <p:spPr>
            <a:xfrm>
              <a:off x="1235160" y="-11160"/>
              <a:ext cx="6673680" cy="6464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28600" y="609480"/>
          <a:ext cx="286056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286056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6496200" y="4726080"/>
            <a:ext cx="2468520" cy="1942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347920" y="1125360"/>
            <a:ext cx="4448160" cy="3962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470720" cy="33181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246400" y="1052640"/>
            <a:ext cx="383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Times New Roman"/>
              </a:rPr>
              <a:t>Secadores rotatorios a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187280" y="3284640"/>
          <a:ext cx="3124440" cy="23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84640"/>
                    <a:ext cx="312444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250920" y="33336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ofiliz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un liofilizador convencional, el vacío se logra mediante la combinación de bombas extractoras de aire y "trampas frías" que operan a -40 o -50 °C, para congelar el agua extraída del producto y crear, dentro de la cámara, una presión menor a la atmosfé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50920" y="2924280"/>
            <a:ext cx="8381520" cy="2730600"/>
            <a:chOff x="250920" y="2924280"/>
            <a:chExt cx="8381520" cy="2730600"/>
          </a:xfrm>
        </p:grpSpPr>
        <p:graphicFrame>
          <p:nvGraphicFramePr>
            <p:cNvPr id="260" name=""/>
            <p:cNvGraphicFramePr/>
            <p:nvPr/>
          </p:nvGraphicFramePr>
          <p:xfrm>
            <a:off x="4518000" y="3000600"/>
            <a:ext cx="2437920" cy="2031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18000" y="3000600"/>
                      <a:ext cx="2437920" cy="203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2" name=""/>
            <p:cNvGraphicFramePr/>
            <p:nvPr/>
          </p:nvGraphicFramePr>
          <p:xfrm>
            <a:off x="1012680" y="3000600"/>
            <a:ext cx="3123720" cy="2301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12680" y="3000600"/>
                      <a:ext cx="3123720" cy="230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"/>
            <p:cNvSpPr/>
            <p:nvPr/>
          </p:nvSpPr>
          <p:spPr>
            <a:xfrm>
              <a:off x="860400" y="2924280"/>
              <a:ext cx="19044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stema de refrige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0920" y="4676760"/>
              <a:ext cx="1904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ací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27680" y="3686400"/>
              <a:ext cx="19047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lución Congel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75400" y="4829400"/>
              <a:ext cx="19044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Placas calefacto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6118200" y="4676400"/>
              <a:ext cx="532800" cy="762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270480" y="3990960"/>
              <a:ext cx="68544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2381400" cy="22147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132000" y="1197000"/>
            <a:ext cx="2428920" cy="21272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13986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468360" y="47628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ala Labor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5280" y="3933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ala 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987640" y="4005360"/>
            <a:ext cx="4032360" cy="2654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Form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écnicas de Refinamiento Final o  Acab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Incrementar la pureza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iminar principalmente sales y agua, muy pocas proteínas (no purifica significativam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Facilitar su man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 más fácil transportar un sólido que soluciones líqu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oteínas en estado sólido son más est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jora la apa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Form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uando se tiene una proteína, como producto, requi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(1) Formu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(2) Estabi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a una de estas etapas requiere solo de trabajo experim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755280" y="3500280"/>
            <a:ext cx="72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abilización: se orienta a algunas zonas de la proteína que se deben proteger. Para ello se adicionan excipientes específ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71640" y="3573360"/>
            <a:ext cx="304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33336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Formulación en si indica en que porcentaje se encontrará la proteína de inter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5292720" y="1052640"/>
            <a:ext cx="1116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71640" y="3573360"/>
            <a:ext cx="304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9640" y="6922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r ejemplo, en el caso de proteína en solución se pueden adicion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708360" y="2060640"/>
            <a:ext cx="1252440" cy="23050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6372360" y="1773360"/>
            <a:ext cx="309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zúc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lím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rfac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7280" y="1916280"/>
            <a:ext cx="2410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ones metá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gentes quel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33120" y="386064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mino ácido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076720" y="2133720"/>
            <a:ext cx="790560" cy="7189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5003280" y="3212640"/>
            <a:ext cx="122580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11280" y="2492280"/>
            <a:ext cx="100836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556000" y="3499920"/>
            <a:ext cx="936360" cy="505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04920" y="833400"/>
            <a:ext cx="8534160" cy="51912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258920" y="18900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Comic Sans MS"/>
              </a:rPr>
              <a:t>Estabilizantes formulación en estado 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28684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85920" y="1166760"/>
            <a:ext cx="83721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684360" y="189000"/>
            <a:ext cx="7704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el caso de proteínas en estado sólido se debe control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780000" y="2133720"/>
            <a:ext cx="1644480" cy="23749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11280" y="1773360"/>
            <a:ext cx="1873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cip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42920" y="1700280"/>
            <a:ext cx="241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umedad res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dio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onstit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11280" y="2492280"/>
            <a:ext cx="100836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795640" y="2421000"/>
            <a:ext cx="647640" cy="792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28760" y="1552680"/>
            <a:ext cx="8286480" cy="3752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258920" y="189000"/>
            <a:ext cx="66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Comic Sans MS"/>
              </a:rPr>
              <a:t>Factores que afectan las estabilidad de proteína en estado sól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800" y="1662120"/>
            <a:ext cx="82584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6732720" y="765000"/>
            <a:ext cx="1582560" cy="2286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1042920" y="620640"/>
            <a:ext cx="2319480" cy="24386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5435640" y="4076640"/>
            <a:ext cx="1001520" cy="18432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1835280" y="4005360"/>
            <a:ext cx="1158840" cy="2058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incipales técnicas aplicadas para estas etapas de Acab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Crist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siste en la  separación de un soluto desde una solución 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sobresaturada,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diante la formación de cristales en el seno de la solución. La idea es que se formen los cristales y luego crezc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Uso 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ción de: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Ácidos orgá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terapéuticos,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1968480" cy="2070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n una sola etapa se logran purezas superiores al 99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controlar el tamaño de los cristales con tamaño uniforme, por medio de control de las condiciones de ope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 cristalización mejora la apariencia del producto come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trabajar a temperatura moderada</a:t>
            </a:r>
            <a:r>
              <a:rPr b="1" lang="es-E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32000" y="4581360"/>
            <a:ext cx="1968480" cy="2070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373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proceso global de cristalización involucra a lo menos 3 etap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: Esta etapa es controlada por la solubilidad que presenta tanto las proteínas como impurezas a diferentes temperatur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xiste una relació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= A +B*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: Solu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 :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paración sólido-liquido: adicionalmente se realiza un lavado de los cristales para eliminar impurezas solu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: etapa donde se elimina el remanente de agua.</a:t>
            </a: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04920" y="1828800"/>
            <a:ext cx="7848360" cy="3733560"/>
            <a:chOff x="304920" y="1828800"/>
            <a:chExt cx="7848360" cy="3733560"/>
          </a:xfrm>
        </p:grpSpPr>
        <p:sp>
          <p:nvSpPr>
            <p:cNvPr id="55" name=""/>
            <p:cNvSpPr/>
            <p:nvPr/>
          </p:nvSpPr>
          <p:spPr>
            <a:xfrm>
              <a:off x="139464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ristaliz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6608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par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-Líqu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3716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c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8304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1800" y="3510720"/>
              <a:ext cx="762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19840" y="220248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19840" y="407124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1828800"/>
              <a:ext cx="108972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liment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29760" y="2015640"/>
              <a:ext cx="871920" cy="93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de lav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84720" y="4254480"/>
              <a:ext cx="136224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 disuel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5412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6488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 Húme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2724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ducto Se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989280" y="457200"/>
            <a:ext cx="704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Diagrama del 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3500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odos de Op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pendiendo de la relación entre la solubilidad y la temperatura se pueden presentar diferentes modos de operación para llevar a cabo la cristalización. Esto se debe a que las curvas de solubilidad permi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si el sólido que cristaliza sólo contiene el soluto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leccionar el solv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lecer el rango de temperatura y presión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ocer las concentraciones del líquido de salida del cris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la recuperación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2:16:40Z</dcterms:created>
  <dc:creator>Maria Elena Lienqueo C.</dc:creator>
  <dc:description/>
  <dc:language>en-US</dc:language>
  <cp:lastModifiedBy>Ing Quimica</cp:lastModifiedBy>
  <dcterms:modified xsi:type="dcterms:W3CDTF">2006-09-29T22:32:23Z</dcterms:modified>
  <cp:revision>11</cp:revision>
  <dc:subject/>
  <dc:title>Operaciones de Refinamiento Final</dc:title>
</cp:coreProperties>
</file>