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D027B-6533-436E-BAFD-9FAEE6E91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F97D1-325C-4536-ABE3-3A40A66BB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3C415-84C5-48AC-BCAC-90C7D382C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CC3AF-9F10-4E9C-A440-632F49F3E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F3E18-A1C6-46DB-9AE0-3D4FC89BD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A2FA3-B3C7-4B2D-AE1E-DAC3445F6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5E0D5-0280-48FE-BF81-A2DCE80AE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B298E-8838-45FD-8512-356687204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AB29D-4B30-4476-9516-275260E37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7D8B3-71DB-4A83-9846-093233A81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4436-860E-413E-9FE8-E11B35E78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85F04-BAB9-4787-BA19-F2AF1013B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B43A-2744-4EAA-AB66-6AB54BBDB2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duction of stages due to affinity adsorption</a:t>
            </a:r>
            <a:endParaRPr b="0" lang="en-US" sz="44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00 psi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01T21:22:22Z</dcterms:modified>
  <cp:revision>48</cp:revision>
  <dc:subject/>
  <dc:title>Cromatografía en Lecho Fijo</dc:title>
</cp:coreProperties>
</file>