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74A49-2D5A-4939-B4DF-12D9C2F22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BF91-BB17-4E6C-AA9D-C4D4AC70C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1018B-A329-4FC4-8486-854D85E33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0BB2D-20DC-4112-B61B-EB5FDF62C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B5597-7654-474A-811C-F984244DB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AE9A8-0F66-4980-B23F-0364FC8EA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91EBA-6C75-4A13-8A32-062516AB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DC59B-47BE-434D-B601-2840147A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61D0A-A1C3-45D6-9657-1CD60E1AB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EDAC7-5241-4070-8FBD-ECC4CFB00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CC1A2-D781-4EF6-B285-B49B02E0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2924-C877-4260-9A7A-0062A0795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9DD1-3BD8-4D1B-A2D1-A1D60851F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duction of stages due to affinity adsorption</a:t>
            </a:r>
            <a:endParaRPr b="0" lang="en-US" sz="44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01T21:22:22Z</dcterms:modified>
  <cp:revision>48</cp:revision>
  <dc:subject/>
  <dc:title>Cromatografía en Lecho Fijo</dc:title>
</cp:coreProperties>
</file>