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20B3-6085-4D11-A9EA-3372A461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0466-1E9C-4834-B2A3-981C641A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7CA6-7AA5-4D3A-92B8-5324C983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AED7-E1D6-4D51-A4B1-C2F84082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AC0-D0C5-46C0-BC6F-A45E7795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BE3E-EB8C-4D4C-9D91-38739531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55B1-BA3C-4A49-BDA2-0E2C6D1E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ACFC-9151-467C-AF7B-135DC49E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5EC8-3E8F-4E13-8744-2D9C8629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8EB-5860-4F1F-924B-8B0D53D3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92A1-136E-4E20-9622-6B99198F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2823-3777-4B61-A4D5-191216BF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144E-A520-407E-B8DE-EB10C0E27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lumen o tiempo necesario para transportar al soluto a través de una columna hasta que sale su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876920" y="2133720"/>
          <a:ext cx="352404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133720"/>
                    <a:ext cx="35240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380880" y="4114800"/>
            <a:ext cx="8458200" cy="2422080"/>
            <a:chOff x="380880" y="4114800"/>
            <a:chExt cx="8458200" cy="2422080"/>
          </a:xfrm>
        </p:grpSpPr>
        <p:sp>
          <p:nvSpPr>
            <p:cNvPr id="148" name=""/>
            <p:cNvSpPr/>
            <p:nvPr/>
          </p:nvSpPr>
          <p:spPr>
            <a:xfrm>
              <a:off x="380880" y="4114800"/>
              <a:ext cx="44197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 u="sng">
                  <a:solidFill>
                    <a:srgbClr val="333399"/>
                  </a:solidFill>
                  <a:uFillTx/>
                  <a:latin typeface="Comic Sans MS"/>
                  <a:ea typeface="Times New Roman"/>
                </a:rPr>
                <a:t>2.Factor de Capac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1447920" y="4788000"/>
                  <a:ext cx="1734840" cy="98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3505320" y="5486400"/>
              <a:ext cx="533376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V</a:t>
              </a:r>
              <a:r>
                <a:rPr b="0" lang="es-CL" sz="2000" spc="-1" strike="noStrike" baseline="-25000">
                  <a:solidFill>
                    <a:srgbClr val="333399"/>
                  </a:solidFill>
                  <a:latin typeface="Comic Sans MS"/>
                  <a:ea typeface="Times New Roman"/>
                </a:rPr>
                <a:t>H</a:t>
              </a: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 : Volumen de huecos, ie, el volumen de líquido existente en la columna que no se encuentra en el interior de las partícu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5" name="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09480" y="3581280"/>
                <a:ext cx="809172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esde Tablas de Integ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72000" y="320040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33520" y="1752480"/>
            <a:ext cx="8610480" cy="1685880"/>
            <a:chOff x="533520" y="1752480"/>
            <a:chExt cx="8610480" cy="1685880"/>
          </a:xfrm>
        </p:grpSpPr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4572000" y="1752480"/>
                  <a:ext cx="4572000" cy="16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yield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533520" y="2209680"/>
              <a:ext cx="8076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i t</a:t>
              </a:r>
              <a:r>
                <a:rPr b="0" lang="es-CL" sz="2000" spc="-1" strike="noStrike" baseline="-25000">
                  <a:solidFill>
                    <a:srgbClr val="333399"/>
                  </a:solidFill>
                  <a:latin typeface="Comic Sans MS"/>
                  <a:ea typeface="Times New Roman"/>
                </a:rPr>
                <a:t>1</a:t>
              </a: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 = 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533520" y="2971800"/>
          <a:ext cx="4724280" cy="35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971800"/>
                    <a:ext cx="472428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76" name="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3" name="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24000" y="4762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18" name="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24" name="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25" name="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7" name="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95280" y="2349360"/>
                <a:ext cx="4881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4000" y="4653000"/>
                <a:ext cx="39621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143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2" name="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33" name="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2" name="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cuan difícil es separar 2 componentes de una mezcla. 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87" name="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9" name="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290" name="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0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533520" y="457200"/>
            <a:ext cx="4267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724280" y="914400"/>
          <a:ext cx="44197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914400"/>
                    <a:ext cx="44197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457200" y="3657600"/>
            <a:ext cx="39625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ncentració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867280" y="533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na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867280" y="2286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05520" y="41911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nivel de laboratorio se tiene un diseño óptimo (Optimo Nivel de Pureza y Resolución), se supone que los fenó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ó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ó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o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o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57200"/>
            <a:ext cx="835956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ordenando la ecuac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92360" y="981000"/>
                <a:ext cx="28573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43520" cy="244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68360" y="5157720"/>
                <a:ext cx="2719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ón má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o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o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úmero de Pl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:  Velocidad de la fase mó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: Diámetro de las partículas de adsorb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33520" y="0"/>
            <a:ext cx="807696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empo o volumen de re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t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ó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V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Vc/F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 Vc/F =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endiendo de cual es la etapa controlante en el fenómeno de transferencia de masa el ancho de los peak (o Número de platos)  se verá alterado por las variables L y v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609480" y="1219320"/>
          <a:ext cx="8229600" cy="454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Interna y adsor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yorí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muy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spersió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3520" y="457200"/>
            <a:ext cx="80769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tiempo de retención del peak, to, es 93 minutos y la desviación estándar,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de 0,129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-  Si se trabajó a pequeña escala se utilizaron partículas de adsorbente pequeñas (5-100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Buen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Poca disp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)                  Ciclos Cortos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ado que se presenta poca difusión en las partículas, pero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Sólo se utiliza una parte pequeña del l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os parámetros geom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s partí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ón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ño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as condicione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304920" y="1371600"/>
          <a:ext cx="8458200" cy="5497560"/>
        </p:xfrm>
        <a:graphic>
          <a:graphicData uri="http://schemas.openxmlformats.org/drawingml/2006/table">
            <a:tbl>
              <a:tblPr/>
              <a:tblGrid>
                <a:gridCol w="1447560"/>
                <a:gridCol w="666720"/>
                <a:gridCol w="1057320"/>
                <a:gridCol w="1057320"/>
                <a:gridCol w="974880"/>
                <a:gridCol w="1139760"/>
                <a:gridCol w="1057320"/>
                <a:gridCol w="1057320"/>
              </a:tblGrid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de la columna, D [cm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3068640"/>
          <a:ext cx="464184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068640"/>
                    <a:ext cx="46418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43520" cy="244656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771640" y="4365360"/>
            <a:ext cx="648000" cy="360720"/>
            <a:chOff x="2771640" y="4365360"/>
            <a:chExt cx="648000" cy="360720"/>
          </a:xfrm>
        </p:grpSpPr>
        <p:sp>
          <p:nvSpPr>
            <p:cNvPr id="59" name=""/>
            <p:cNvSpPr/>
            <p:nvPr/>
          </p:nvSpPr>
          <p:spPr>
            <a:xfrm>
              <a:off x="2771640" y="4726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419640" y="436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042920" y="1052640"/>
                <a:ext cx="271944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291636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80880" y="609480"/>
          <a:ext cx="8305920" cy="47196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28600"/>
            <a:ext cx="822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65" name="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24000" y="4292640"/>
            <a:ext cx="4966920" cy="2457360"/>
            <a:chOff x="2124000" y="4292640"/>
            <a:chExt cx="4966920" cy="2457360"/>
          </a:xfrm>
        </p:grpSpPr>
        <p:grpSp>
          <p:nvGrpSpPr>
            <p:cNvPr id="105" name=""/>
            <p:cNvGrpSpPr/>
            <p:nvPr/>
          </p:nvGrpSpPr>
          <p:grpSpPr>
            <a:xfrm>
              <a:off x="2771640" y="4292640"/>
              <a:ext cx="4319280" cy="2087640"/>
              <a:chOff x="2771640" y="4292640"/>
              <a:chExt cx="4319280" cy="2087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771640" y="4292640"/>
              <a:ext cx="3495600" cy="208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71640" y="4292640"/>
                        <a:ext cx="3495600" cy="208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4037400" y="4519800"/>
                <a:ext cx="193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0000"/>
                    </a:solidFill>
                    <a:latin typeface="Times New Roman"/>
                  </a:rPr>
                  <a:t>Anticuer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54840" y="5089680"/>
                <a:ext cx="1936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333399"/>
                    </a:solidFill>
                    <a:latin typeface="Times New Roman"/>
                  </a:rPr>
                  <a:t>Contamina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427640" y="638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42  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2400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4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16360" y="4365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6360" y="5229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6972480" cy="2047680"/>
        </p:xfrm>
        <a:graphic>
          <a:graphicData uri="http://schemas.openxmlformats.org/drawingml/2006/table">
            <a:tbl>
              <a:tblPr/>
              <a:tblGrid>
                <a:gridCol w="1311480"/>
                <a:gridCol w="774720"/>
                <a:gridCol w="873000"/>
                <a:gridCol w="1231920"/>
                <a:gridCol w="774720"/>
                <a:gridCol w="774720"/>
                <a:gridCol w="123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0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859280" y="3500280"/>
          <a:ext cx="4033800" cy="24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500280"/>
                    <a:ext cx="40338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24000" y="3424320"/>
          <a:ext cx="4176720" cy="25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4320"/>
                    <a:ext cx="4176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134880" y="3500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33520" y="3573360"/>
            <a:ext cx="8610480" cy="2783160"/>
            <a:chOff x="533520" y="3573360"/>
            <a:chExt cx="8610480" cy="278316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609480" y="555480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4038480" y="542916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520" y="357336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88320" y="5013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Ecuación de van Deem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332000" y="189000"/>
                <a:ext cx="27432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T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u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755640" y="98100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Donde u: es la velocidad lineal del líq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A: la distribución no lineal del líquido  a través del relleno, debido a diferentes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B: la dispersión axial hacia delante y atr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C: efectos de transferencia intra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1240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3009960"/>
            <a:ext cx="6170400" cy="384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88000" y="4005360"/>
            <a:ext cx="23767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la fase mó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el po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l l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 la 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40" name="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2" name="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55:07Z</dcterms:created>
  <dc:creator>Ing Quimica</dc:creator>
  <dc:description/>
  <dc:language>en-US</dc:language>
  <cp:lastModifiedBy>Ing Quimica</cp:lastModifiedBy>
  <dcterms:modified xsi:type="dcterms:W3CDTF">2006-08-31T19:42:45Z</dcterms:modified>
  <cp:revision>9</cp:revision>
  <dc:subject/>
  <dc:title>Perfiles Cromatográficos</dc:title>
</cp:coreProperties>
</file>