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957-0289-4425-B7B6-E45BB91D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79DE-E29E-474D-B68C-B049A32E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15B-5F1D-4AF5-B897-A1DA87E1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CC0-9E04-4905-B521-3EF90760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553-FA21-4366-BFBE-33F13EF4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6C8-4581-49B4-A80A-B694EC30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48F-8994-422B-8C49-1BF5F005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AB44-E518-4D12-8E56-81CE0E9F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37C-FAC3-4DF5-A3AE-FCD42955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C9AA-C0D8-4ECB-95A8-E81276A9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BC6-7270-4592-9C1D-C38C45D9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3554-9D0E-456E-8B17-F38D3879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F33B-7848-445C-9EEA-90FD73015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su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876920" y="2133720"/>
          <a:ext cx="352404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133720"/>
                    <a:ext cx="35240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380880" y="4114800"/>
            <a:ext cx="8458200" cy="2422080"/>
            <a:chOff x="380880" y="4114800"/>
            <a:chExt cx="8458200" cy="2422080"/>
          </a:xfrm>
        </p:grpSpPr>
        <p:sp>
          <p:nvSpPr>
            <p:cNvPr id="148" name=""/>
            <p:cNvSpPr/>
            <p:nvPr/>
          </p:nvSpPr>
          <p:spPr>
            <a:xfrm>
              <a:off x="380880" y="4114800"/>
              <a:ext cx="4419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 u="sng">
                  <a:solidFill>
                    <a:srgbClr val="333399"/>
                  </a:solidFill>
                  <a:uFillTx/>
                  <a:latin typeface="Comic Sans MS"/>
                  <a:ea typeface="Times New Roman"/>
                </a:rPr>
                <a:t>2.Factor de Capac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1447920" y="4788000"/>
                  <a:ext cx="1734840" cy="98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3505320" y="5486400"/>
              <a:ext cx="533376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V</a:t>
              </a:r>
              <a:r>
                <a:rPr b="0" lang="es-CL" sz="2000" spc="-1" strike="noStrike" baseline="-25000">
                  <a:solidFill>
                    <a:srgbClr val="333399"/>
                  </a:solidFill>
                  <a:latin typeface="Comic Sans MS"/>
                  <a:ea typeface="Times New Roman"/>
                </a:rPr>
                <a:t>H</a:t>
              </a: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 : Volumen de huecos, ie, el volumen de líquido existente en la columna que no se encuentra en el interior de las partícu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5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09480" y="3581280"/>
                <a:ext cx="809172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72000" y="320040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3520" y="1752480"/>
            <a:ext cx="8610480" cy="1685880"/>
            <a:chOff x="533520" y="1752480"/>
            <a:chExt cx="8610480" cy="168588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4572000" y="1752480"/>
                  <a:ext cx="4572000" cy="16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ield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533520" y="2209680"/>
              <a:ext cx="807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i t</a:t>
              </a:r>
              <a:r>
                <a:rPr b="0" lang="es-CL" sz="2000" spc="-1" strike="noStrike" baseline="-25000">
                  <a:solidFill>
                    <a:srgbClr val="333399"/>
                  </a:solidFill>
                  <a:latin typeface="Comic Sans MS"/>
                  <a:ea typeface="Times New Roman"/>
                </a:rPr>
                <a:t>1</a:t>
              </a: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 = 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533520" y="2971800"/>
          <a:ext cx="4724280" cy="35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971800"/>
                    <a:ext cx="472428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76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3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18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24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25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7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2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33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2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87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9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290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33520" y="457200"/>
            <a:ext cx="4267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724280" y="914400"/>
          <a:ext cx="44197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914400"/>
                    <a:ext cx="44197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57200" y="3657600"/>
            <a:ext cx="39625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867280" y="533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na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67280" y="2286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05520" y="41911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33520" y="0"/>
            <a:ext cx="80769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c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c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3520" y="457200"/>
            <a:ext cx="80769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o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304920" y="1371600"/>
          <a:ext cx="8458200" cy="5497560"/>
        </p:xfrm>
        <a:graphic>
          <a:graphicData uri="http://schemas.openxmlformats.org/drawingml/2006/table">
            <a:tbl>
              <a:tblPr/>
              <a:tblGrid>
                <a:gridCol w="1447560"/>
                <a:gridCol w="666720"/>
                <a:gridCol w="1057320"/>
                <a:gridCol w="1057320"/>
                <a:gridCol w="974880"/>
                <a:gridCol w="1139760"/>
                <a:gridCol w="1057320"/>
                <a:gridCol w="1057320"/>
              </a:tblGrid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332000" y="189000"/>
                <a:ext cx="27432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6-08-31T19:42:45Z</dcterms:modified>
  <cp:revision>9</cp:revision>
  <dc:subject/>
  <dc:title>Perfiles Cromatográficos</dc:title>
</cp:coreProperties>
</file>