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jpeg" ContentType="image/jpeg"/>
  <Override PartName="/ppt/media/image29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33.wmf" ContentType="image/x-wmf"/>
  <Override PartName="/ppt/media/image13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8.png" ContentType="image/png"/>
  <Override PartName="/ppt/media/image36.wmf" ContentType="image/x-wmf"/>
  <Override PartName="/ppt/media/image35.wmf" ContentType="image/x-wmf"/>
  <Override PartName="/ppt/media/image1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9.png" ContentType="image/png"/>
  <Override PartName="/ppt/media/image20.png" ContentType="image/png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6641-A862-4C7B-BF60-29DEE56ADE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, the last theory that I will pr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the rate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heory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s also b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 Balance or Dispersion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heory us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re realistic description of the proce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work inside A column, THEN 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t can be used for testing different chromatographic condition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nd also for simulating the more complex ways for operating a chromatographic process, that is,  the simula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d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oving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is theory </a:t>
            </a:r>
            <a:r>
              <a:rPr b="0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ke</a:t>
            </a:r>
            <a:r>
              <a:rPr b="1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nto accou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and BRO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A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ffect of elution rate on band shap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vailability of different paths for different solute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is rate model usually consistS of two setS of differential mass balance equations, one for the mobile phase, and the other for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ass balance in a small element in the column for the mobile phase is given by this equ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Whe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a solute in the mobile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ransport of the solute by longitudinal dispersion by convection and by volume-averaGED accumulation of the solute in the gel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dditionally, the </a:t>
            </a:r>
            <a:r>
              <a:rPr b="1" lang="en-GB" sz="7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ffusion inside A spherical porous particle is given by this equ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nd the </a:t>
            </a:r>
            <a:r>
              <a:rPr b="1" lang="en-GB" sz="1200" spc="-1" strike="noStrike">
                <a:solidFill>
                  <a:srgbClr val="000099"/>
                </a:solidFill>
                <a:latin typeface="Times New Roman"/>
              </a:rPr>
              <a:t>Transport of the solute in the  film around the particl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sidering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ndi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ss bala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qua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ntly, Shene and co-workers simul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ree-prote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ixture using the Rate Model at different operat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ith very goo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ults, shown as in this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mmary, these last two theories, Modified Plate Model and Rate theory, are very good f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ula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mixtures of prot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I will talk about the plat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is one of the most widely used models for simul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is model, t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column is divided into a series of small artificial cells, each with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x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mass balance, this give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set of first order Ordinary Differential Equations that describe the adsorption and INTERFACIAL mass TRANSF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dditionally, this model assume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that the chromatographic column contain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 LARGE number of separat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yer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called </a:t>
            </a:r>
            <a:r>
              <a:rPr b="0" i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eoretical plat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t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ation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of the sample between the stationary and mobil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has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occur in these "plates". Th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NALYTE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oves down the column by transfer of the equilibrated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bile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phase from one plate to the n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e disadvantage of this model is that it is not generally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I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BLE for multicom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O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ent chroma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raphy, since the equilibrium STA</a:t>
            </a:r>
            <a:r>
              <a:rPr b="1" lang="en-GB" sz="12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G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ay not b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ssumed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s equal for different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ss Balance Solute in each plat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this is the 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This is the input solute and this is the output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nd this is the Accumulation of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the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 the void fraction in each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this is the Volume of step n  (liquid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dsorbent)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ss Balance Solute in each plat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this is the 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This is the input solute and this is the output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nd this is the Accumulation of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the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 the void fraction in each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this is the Volume of step n  (liquid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dsorbent)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Using a linear relationship for the equilibrium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ng a new variable t, the mass balanc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side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initial 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ndi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HERE condition 1 is before the injection, the protein concentration in all column is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injection, the concentration in the first plate is Cf, which is the concentration of the pulse f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ing this equation, th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pression obtained is a Poisson fu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oisson function for a number of plateS under 30 is an asymmetric distribution, but If the number of plates is over 30, IT is similar to a GAUSSIAN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Like in this equation, where C0 is the Maximum Concentration, and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sigma is the standard deviation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the elution curve is well represe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a Gaussian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only for a si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302D-626F-4735-A62F-CEA7F9CF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C3E-429A-49F9-B442-ED8471C3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8D6-37E0-4324-8EB2-D4F4CCCC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9F5-A422-43FF-B729-7CD34E32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46A0-CA94-46C7-B383-41C9305A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5C97-9663-40E9-A30C-DE7651B8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85EC-8105-41DD-A104-D3437816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EE2-4630-4DC8-9864-CA677752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E838-267B-4AFB-8FA9-259E2E3D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CBC-85D5-4E83-A10B-4594778A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4A2-92C3-4CDE-A741-36CF820B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8095-3FAC-4B07-B48E-4E645CCB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E948-D6A4-418F-B81C-8D438B485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102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508720" y="2852640"/>
            <a:ext cx="363528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675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considerar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940360" y="3486240"/>
          <a:ext cx="320364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3486240"/>
                    <a:ext cx="320364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11280" y="3860640"/>
            <a:ext cx="511308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al predecir cambios en las condiciones de 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442200" y="3716280"/>
            <a:ext cx="2701800" cy="21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Do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lumen de huecos en la colum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Volumen Total de la colum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4581360"/>
            <a:ext cx="482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ondición de Equilib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24000" y="2637000"/>
            <a:ext cx="2519280" cy="1156680"/>
            <a:chOff x="324000" y="2637000"/>
            <a:chExt cx="2519280" cy="1156680"/>
          </a:xfrm>
        </p:grpSpPr>
        <p:sp>
          <p:nvSpPr>
            <p:cNvPr id="171" name=""/>
            <p:cNvSpPr/>
            <p:nvPr/>
          </p:nvSpPr>
          <p:spPr>
            <a:xfrm>
              <a:off x="324000" y="321300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umulación de soluto en la fase móv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203640" y="3141720"/>
            <a:ext cx="2519280" cy="1012320"/>
            <a:chOff x="3203640" y="3141720"/>
            <a:chExt cx="2519280" cy="1012320"/>
          </a:xfrm>
        </p:grpSpPr>
        <p:sp>
          <p:nvSpPr>
            <p:cNvPr id="174" name=""/>
            <p:cNvSpPr/>
            <p:nvPr/>
          </p:nvSpPr>
          <p:spPr>
            <a:xfrm>
              <a:off x="3203640" y="357336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umulación de soluto en la fase estacionari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3851280" y="3141720"/>
              <a:ext cx="28872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177" name="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Transferencia de masa por convec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180" name="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s-CL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s-CL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971640" y="5445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álculo de Curvas de elución usando teoría de equilibrio como función del coeficiente de distribu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lantean los balances de masas tanto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1374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 una descripción más realista del proceso que se produce en el interior de la colu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ma en conside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nsanchamiento de ba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fecto de la velocidad de elución en la forma de la b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sponibilidad de diferentes rutas para diferentes moleculas de sol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uede usar para probar diferente condiciones cromatográficas y simular hasta el proceso de lecho móvil simu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223056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alance de masa de soluto en un pequeño elemento de volumen de la columna en la fase mó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692360" y="1752480"/>
                <a:ext cx="55436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H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3348000" y="3068640"/>
            <a:ext cx="25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ransporte de soluto por dispersión  longitudinal y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39640" y="4292640"/>
            <a:ext cx="7920000" cy="2244240"/>
            <a:chOff x="539640" y="4292640"/>
            <a:chExt cx="7920000" cy="2244240"/>
          </a:xfrm>
        </p:grpSpPr>
        <p:graphicFrame>
          <p:nvGraphicFramePr>
            <p:cNvPr id="195" name=""/>
            <p:cNvGraphicFramePr/>
            <p:nvPr/>
          </p:nvGraphicFramePr>
          <p:xfrm>
            <a:off x="5076720" y="5160960"/>
            <a:ext cx="2735280" cy="39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76720" y="5160960"/>
                      <a:ext cx="273528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4932360" y="5661000"/>
              <a:ext cx="35272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: Coeficiente efectivo de dispersión  longitudi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539640" y="4292640"/>
            <a:ext cx="3961080" cy="20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9640" y="4292640"/>
                      <a:ext cx="3961080" cy="20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0" name=""/>
          <p:cNvGrpSpPr/>
          <p:nvPr/>
        </p:nvGrpSpPr>
        <p:grpSpPr>
          <a:xfrm>
            <a:off x="468360" y="2637000"/>
            <a:ext cx="2158920" cy="1440360"/>
            <a:chOff x="468360" y="2637000"/>
            <a:chExt cx="2158920" cy="1440360"/>
          </a:xfrm>
        </p:grpSpPr>
        <p:sp>
          <p:nvSpPr>
            <p:cNvPr id="201" name=""/>
            <p:cNvSpPr/>
            <p:nvPr/>
          </p:nvSpPr>
          <p:spPr>
            <a:xfrm>
              <a:off x="468360" y="3068640"/>
              <a:ext cx="2158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Acumulación de soluto en la fase móv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116000" y="2637000"/>
              <a:ext cx="64764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227640" y="3068640"/>
            <a:ext cx="2124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cumulación de  soluto en la fase gel por unidad de volumen 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7164360" y="2492280"/>
            <a:ext cx="5032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81240" y="3200400"/>
            <a:ext cx="840420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900000" y="1052640"/>
                <a:ext cx="3456000" cy="12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fusión dentro de particulas esféricas por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2637000"/>
            <a:ext cx="518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24000" y="2781360"/>
            <a:ext cx="6083280" cy="3679200"/>
            <a:chOff x="324000" y="2781360"/>
            <a:chExt cx="6083280" cy="3679200"/>
          </a:xfrm>
        </p:grpSpPr>
        <p:sp>
          <p:nvSpPr>
            <p:cNvPr id="210" name=""/>
            <p:cNvSpPr/>
            <p:nvPr/>
          </p:nvSpPr>
          <p:spPr>
            <a:xfrm>
              <a:off x="611280" y="5300640"/>
              <a:ext cx="579600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D: Coeficiente de difusión en la fase estaciona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f: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Coeficiente de transferencia de mas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 Radio de la partícula 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4000" y="2781360"/>
              <a:ext cx="51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Transporte del soluto en el film que rodea a la partícu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684360" y="3792600"/>
                  <a:ext cx="4174920" cy="116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sub>
                          </m:sSub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C</m:t>
                          </m:r>
                          <m:r>
                            <m:t xml:space="preserve">−</m:t>
                          </m:r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K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3" name=""/>
          <p:cNvGraphicFramePr/>
          <p:nvPr/>
        </p:nvGraphicFramePr>
        <p:xfrm>
          <a:off x="5076720" y="1033560"/>
          <a:ext cx="3810240" cy="37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33560"/>
                    <a:ext cx="381024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5867280" y="2276640"/>
            <a:ext cx="1657440" cy="151272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3640" y="2492280"/>
            <a:ext cx="115272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691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ciones de iniciales y de bor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0 at t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= 0 at z=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9640" y="2565360"/>
          <a:ext cx="2160720" cy="8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216072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067280" y="1557360"/>
          <a:ext cx="4140000" cy="213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557360"/>
                    <a:ext cx="41400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5229360"/>
            <a:ext cx="8820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rimental and simulated elution curves of the three protein mixtures using the Rate Model (P1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toalbumin; P2: ovalbumin; P3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toglobulin) obtained for an ionic strength gradient of 0.1 M/mL and different flow rates. (a) 0.3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9.5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4.5 (b) 0.7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6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6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3 (c) 1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(Shene et al, 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58920" y="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urvas experimentales y simuladas usando el modelo de Rate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9758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 de Platos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(Premios Nobel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tin &amp; Synge 1954 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611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columna esta dividida en una serie de pequeños reactores (N), cada uno de mezcla completa, llamados platos teór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balances de masa, esto da un set de ecuaciones diferenciales ordinarias de primer orden, que describen la adsorción y la transferencia de masa interfacial.</a:t>
            </a: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7020000" y="1773360"/>
          <a:ext cx="1460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1773360"/>
                    <a:ext cx="146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6192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oduce una separación basada en equilibrio entre la fase estacionaria y móvil en cada uno de estos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3645000"/>
            <a:ext cx="648180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La desventaja de este modelo es que no son generalmente apropiados para sistemas multicomponentes, ya que las condiciones de equilibrio no se pueden considerar iguales para cada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310520" y="765000"/>
          <a:ext cx="183348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0520" y="765000"/>
                    <a:ext cx="183348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6516720" y="1557360"/>
            <a:ext cx="93672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667640" y="1773360"/>
            <a:ext cx="217440" cy="2016000"/>
            <a:chOff x="7667640" y="1773360"/>
            <a:chExt cx="217440" cy="2016000"/>
          </a:xfrm>
        </p:grpSpPr>
        <p:sp>
          <p:nvSpPr>
            <p:cNvPr id="235" name=""/>
            <p:cNvSpPr/>
            <p:nvPr/>
          </p:nvSpPr>
          <p:spPr>
            <a:xfrm>
              <a:off x="7812000" y="1773360"/>
              <a:ext cx="0" cy="431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67640" y="2349360"/>
              <a:ext cx="0" cy="432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85080" y="2852640"/>
              <a:ext cx="0" cy="432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67640" y="3357720"/>
              <a:ext cx="0" cy="431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907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11280" y="2060640"/>
                <a:ext cx="55371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468360" y="558972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modelo considera que la columna esta formada por Np plat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4572000"/>
            <a:ext cx="80010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huecos en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 (líquido + adsorbente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4800" y="0"/>
            <a:ext cx="51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 de Platos Clá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3284640"/>
            <a:ext cx="24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Acumul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oluto en la fase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87640" y="1413000"/>
            <a:ext cx="172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Entrada de solu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56000" y="3213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alid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32360" y="3213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Acumul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oluto en la fase estacio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8798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1042920" y="2707920"/>
            <a:ext cx="360360" cy="360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0364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16000" y="1989000"/>
            <a:ext cx="36036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564000" y="2708280"/>
            <a:ext cx="216000" cy="28728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292720" y="2707920"/>
            <a:ext cx="71280" cy="2890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24000" y="549360"/>
            <a:ext cx="54720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dición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C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C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C</a:t>
            </a:r>
            <a:r>
              <a:rPr b="1" lang="es-C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879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20364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076640"/>
            <a:ext cx="471636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balance de masa que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484360" y="4861080"/>
                <a:ext cx="309096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9" name=""/>
          <p:cNvGrpSpPr/>
          <p:nvPr/>
        </p:nvGrpSpPr>
        <p:grpSpPr>
          <a:xfrm>
            <a:off x="-8640" y="2133720"/>
            <a:ext cx="5949000" cy="1350360"/>
            <a:chOff x="-8640" y="2133720"/>
            <a:chExt cx="5949000" cy="1350360"/>
          </a:xfrm>
        </p:grpSpPr>
        <p:sp>
          <p:nvSpPr>
            <p:cNvPr id="260" name=""/>
            <p:cNvSpPr/>
            <p:nvPr/>
          </p:nvSpPr>
          <p:spPr>
            <a:xfrm>
              <a:off x="-8640" y="2133720"/>
              <a:ext cx="401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 define un  tiempo adimensional, </a:t>
              </a:r>
              <a:r>
                <a:rPr b="0" lang="es-C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3059280" y="2617560"/>
                  <a:ext cx="2881080" cy="86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F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num>
                        <m:den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ξ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ξ</m:t>
                              </m:r>
                              <m:r>
                                <m:t xml:space="preserve">)</m:t>
                              </m:r>
                              <m:r>
                                <m:t xml:space="preserve">⋅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V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692280"/>
            <a:ext cx="69134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inici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 &lt;0  Cn = 0     n =1,2,....,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i) t=0  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40072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0" y="3429000"/>
            <a:ext cx="6588000" cy="3177360"/>
            <a:chOff x="0" y="3429000"/>
            <a:chExt cx="6588000" cy="3177360"/>
          </a:xfrm>
        </p:grpSpPr>
        <p:sp>
          <p:nvSpPr>
            <p:cNvPr id="267" name=""/>
            <p:cNvSpPr/>
            <p:nvPr/>
          </p:nvSpPr>
          <p:spPr>
            <a:xfrm>
              <a:off x="0" y="3429000"/>
              <a:ext cx="6588000" cy="24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Luego de una aproximación se obtiene como solución una Función de Poiss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1476360" y="4724280"/>
                  <a:ext cx="3313080" cy="111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⋅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τ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p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τ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!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875880" y="6165720"/>
              <a:ext cx="4727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 Concentración del pulso de 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489080" y="4046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716360" y="0"/>
          <a:ext cx="3705480" cy="33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0"/>
                    <a:ext cx="37054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50920" y="260280"/>
            <a:ext cx="4321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un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&lt;30: Distribución asimé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&gt; 30: fun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809880"/>
            <a:ext cx="7467480" cy="2912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erfiles de concentración son Funciones Gaussian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C</a:t>
            </a:r>
            <a:r>
              <a:rPr b="1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centración Ma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a50021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desviación standard , </a:t>
            </a:r>
            <a:r>
              <a:rPr b="1" lang="es-CL" sz="2400" spc="-1" strike="noStrike">
                <a:solidFill>
                  <a:srgbClr val="a50021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 baseline="30000">
                <a:solidFill>
                  <a:srgbClr val="a50021"/>
                </a:solidFill>
                <a:latin typeface="Symbol"/>
                <a:ea typeface="Symbol"/>
              </a:rPr>
              <a:t>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1/N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330720" y="4403880"/>
                <a:ext cx="31860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084720" y="126828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1268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un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39640" y="189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erfiles de concentración Funciones Gaussian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251080" y="981000"/>
                <a:ext cx="407196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979640" y="2546280"/>
          <a:ext cx="4392720" cy="43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546280"/>
                    <a:ext cx="439272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6516720" y="292428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inas individ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612880" y="858960"/>
          <a:ext cx="174168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2880" y="858960"/>
                    <a:ext cx="174168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302000" y="1800360"/>
          <a:ext cx="1702080" cy="84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2000" y="1800360"/>
                    <a:ext cx="170208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022560" y="4224240"/>
          <a:ext cx="40640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22560" y="4224240"/>
                    <a:ext cx="40640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641680" y="5402160"/>
          <a:ext cx="1877760" cy="9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41680" y="5402160"/>
                    <a:ext cx="18777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58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907920"/>
            <a:ext cx="815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tre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64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533520" y="4648320"/>
              <a:ext cx="4190760" cy="16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Elu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85800" y="2057400"/>
            <a:ext cx="8172360" cy="2269440"/>
            <a:chOff x="685800" y="2057400"/>
            <a:chExt cx="8172360" cy="2269440"/>
          </a:xfrm>
        </p:grpSpPr>
        <p:graphicFrame>
          <p:nvGraphicFramePr>
            <p:cNvPr id="68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685800" y="2209680"/>
              <a:ext cx="4495680" cy="21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55640" y="2286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3333cc"/>
                </a:solidFill>
                <a:uFillTx/>
                <a:latin typeface="Comic Sans MS"/>
              </a:rPr>
              <a:t>Tipos de llevar a cabo una cromatografía en lecho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990720"/>
            <a:ext cx="548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990033"/>
                </a:solidFill>
                <a:uFillTx/>
                <a:latin typeface="Comic Sans MS"/>
              </a:rPr>
              <a:t>Cromatografía de substitución (NUE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n este proceso la fase móvil contiene un compuesto (displacer) que se retiene más fuertemente que los componentes de la muestra en estudio, luego las despla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muestra se adiciona en un volumen fin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principal desventaja es que los solutos no pueden eluir en forma discreta y cada soluto está siempre contaminado por sus veci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26920" y="1881360"/>
          <a:ext cx="7848720" cy="41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7848720" cy="41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84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90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</cp:lastModifiedBy>
  <dcterms:modified xsi:type="dcterms:W3CDTF">2006-08-28T02:20:33Z</dcterms:modified>
  <cp:revision>129</cp:revision>
  <dc:subject/>
  <dc:title>Separación Sólido-Líquido</dc:title>
</cp:coreProperties>
</file>