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5FF-630F-415D-B289-840B775A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F73-31BE-42D7-A6CB-A6B0125F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7EB-8038-48C0-B0DA-2325FC2D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C76-5666-4AE1-B78C-F822F18A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C84-DD36-449F-9FBB-E60FFE6F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6C9-DC45-4BA6-AD4A-0F99BDBB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36A-E844-4DE3-905E-3AEE19BA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6B8-96D1-4F6B-B34A-080D8A98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5F7-BA4B-4E8E-9B05-320326EC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044-6D4A-4EEA-96AB-CECB7735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4BE-6164-433E-9370-5222392C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588-C172-45AA-AB5A-D5EB6335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2460-A851-4292-85C1-9AA7A026D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masa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3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24T19:46:01Z</dcterms:modified>
  <cp:revision>119</cp:revision>
  <dc:subject/>
  <dc:title>Separación Sólido-Líquido</dc:title>
</cp:coreProperties>
</file>