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384-4DC5-4F1B-87F3-CB8F7D5A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85A-1146-4CEC-A275-50FB0843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891-955E-4A47-90A7-F4CE2647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ADC-A15C-4528-98E6-BE96B949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396-6383-408E-8087-B67FA70C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054-26C8-41E0-A9BF-58D22F01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DBC-8323-4223-AA97-A87D76A0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9BE-B300-4FDE-83C2-F8FD3575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AED-775E-4F7D-9A1C-8A487415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69B-7EE0-47D7-94E1-D9D8D73D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C75-7AC5-47C0-96FB-6B990A4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2EC-C1E0-459B-99C3-837F65B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B825-EC9B-43D4-A9E0-AB52B40DF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6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7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0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1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3T21:49:09Z</dcterms:modified>
  <cp:revision>98</cp:revision>
  <dc:subject/>
  <dc:title>Separación Sólido-Líquido</dc:title>
</cp:coreProperties>
</file>