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3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28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1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B9D-74A3-4CFE-A39B-EA87289E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2F8-A715-4FF9-A225-6645A013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C87-275A-4E19-A4DA-6F490AB3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511-8B72-4894-9759-D67A5C0A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72A-CF80-4DEB-BFA5-DA3A767D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034-7F55-482F-810E-75E9F0AC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9B1-B510-4168-BE24-73182C7F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F0F-47D4-41BB-9D06-645F2410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C12-278F-47CE-B62D-108FAA44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E2F-06AF-408C-A2A3-62C4EDD0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8D2-AF10-41AA-A4BC-38496B51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C60-5B08-4A4C-AB6E-D9D65C9F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FD7E-07FB-4C60-A6BD-2BF83D37D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7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4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31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319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349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350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2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360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361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3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374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538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542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5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546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554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558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563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5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567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571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574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371520"/>
            <a:ext cx="7848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los límites de integración son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los datos entreg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= 20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n(15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[L/h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124080" y="914400"/>
                <a:ext cx="3521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2819520" y="380880"/>
          <a:ext cx="571500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880"/>
                    <a:ext cx="5715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09480" y="762120"/>
                <a:ext cx="19144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6" name=""/>
          <p:cNvGrpSpPr/>
          <p:nvPr/>
        </p:nvGrpSpPr>
        <p:grpSpPr>
          <a:xfrm>
            <a:off x="0" y="2666880"/>
            <a:ext cx="6858000" cy="3638520"/>
            <a:chOff x="0" y="2666880"/>
            <a:chExt cx="6858000" cy="3638520"/>
          </a:xfrm>
        </p:grpSpPr>
        <p:grpSp>
          <p:nvGrpSpPr>
            <p:cNvPr id="597" name=""/>
            <p:cNvGrpSpPr/>
            <p:nvPr/>
          </p:nvGrpSpPr>
          <p:grpSpPr>
            <a:xfrm>
              <a:off x="0" y="2666880"/>
              <a:ext cx="6858000" cy="3638520"/>
              <a:chOff x="0" y="2666880"/>
              <a:chExt cx="6858000" cy="3638520"/>
            </a:xfrm>
          </p:grpSpPr>
          <p:graphicFrame>
            <p:nvGraphicFramePr>
              <p:cNvPr id="598" name=""/>
              <p:cNvGraphicFramePr/>
              <p:nvPr/>
            </p:nvGraphicFramePr>
            <p:xfrm>
              <a:off x="0" y="2666880"/>
              <a:ext cx="6858000" cy="36385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2666880"/>
                        <a:ext cx="6858000" cy="363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600" name=""/>
                  <p:cNvSpPr txBox="1"/>
                  <p:nvPr/>
                </p:nvSpPr>
                <p:spPr>
                  <a:xfrm>
                    <a:off x="3048120" y="2985840"/>
                    <a:ext cx="3524040" cy="13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1" name=""/>
            <p:cNvSpPr/>
            <p:nvPr/>
          </p:nvSpPr>
          <p:spPr>
            <a:xfrm>
              <a:off x="2972880" y="496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3366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043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781680" y="3352680"/>
            <a:ext cx="2362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V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C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B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I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1,6 m 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9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3T21:49:09Z</dcterms:modified>
  <cp:revision>98</cp:revision>
  <dc:subject/>
  <dc:title>Separación Sólido-Líquido</dc:title>
</cp:coreProperties>
</file>