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3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9.jpeg" ContentType="image/jpeg"/>
  <Override PartName="/ppt/media/image30.png" ContentType="image/png"/>
  <Override PartName="/ppt/media/image35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28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980-2041-496A-B81A-69170412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B68-58D4-4F18-AEB8-D18BFB0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2A3-25A1-4F4E-8E8A-FCC15408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D51-EF03-4C9C-9DAC-9D3874C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FDE-3610-4C43-BE3B-D62B0113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657-5EFB-414B-9ED3-2E8C1F52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A330-B957-446A-90A8-4EE8D2C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FFF-3755-4C9C-9335-1531BE37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FAB-B44C-47FA-A629-EEE41B9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5CB-17F2-4554-BEB6-59105E7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CD5-1827-46D2-AE27-ADE25CF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F1E-DC87-4A83-A6B5-2124248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E99-3B30-450C-B502-BCDAA59F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peracione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W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ltros y membranas se caracterizan por un tamaño de corte según la masa molecular en base a solutos solubles (NMWC, Nominal Molecular Weight Cut-Off ) que es retenido en un 90% por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WMC varía entre 500-1.000.000 Da o 1-10.0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. PM-5 o XM-10 (KDa)   ¿ Cuántos gramos es un 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962520"/>
            <a:ext cx="71629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Materiales de construcción de las membr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Esteres de cel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Cloruro de vini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Acrilonitratos</a:t>
            </a:r>
            <a:r>
              <a:rPr b="0" lang="es-ES_tradnl" sz="2000" spc="-1" strike="noStrike">
                <a:solidFill>
                  <a:srgbClr val="660033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" y="-684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404640"/>
            <a:ext cx="8915040" cy="6705720"/>
            <a:chOff x="0" y="404640"/>
            <a:chExt cx="8915040" cy="6705720"/>
          </a:xfrm>
        </p:grpSpPr>
        <p:grpSp>
          <p:nvGrpSpPr>
            <p:cNvPr id="77" name=""/>
            <p:cNvGrpSpPr/>
            <p:nvPr/>
          </p:nvGrpSpPr>
          <p:grpSpPr>
            <a:xfrm>
              <a:off x="5400" y="408600"/>
              <a:ext cx="8903520" cy="6697080"/>
              <a:chOff x="5400" y="408600"/>
              <a:chExt cx="8903520" cy="66970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5400" y="408600"/>
                <a:ext cx="1529640" cy="564840"/>
                <a:chOff x="5400" y="408600"/>
                <a:chExt cx="1529640" cy="564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7240" y="4086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ariab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00" y="4086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35400" y="408600"/>
                <a:ext cx="1900800" cy="564840"/>
                <a:chOff x="1535400" y="408600"/>
                <a:chExt cx="1900800" cy="564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58760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3540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436560" y="408600"/>
                <a:ext cx="1900800" cy="564840"/>
                <a:chOff x="3436560" y="408600"/>
                <a:chExt cx="1900800" cy="564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88760" y="4086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ltrafilt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436560" y="4086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338080" y="408600"/>
                <a:ext cx="2322360" cy="564840"/>
                <a:chOff x="5338080" y="408600"/>
                <a:chExt cx="2322360" cy="564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90280" y="4086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Osmosis Invers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38080" y="4086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660800" y="408600"/>
                <a:ext cx="1248120" cy="564840"/>
                <a:chOff x="7660800" y="408600"/>
                <a:chExt cx="1248120" cy="5648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712640" y="4086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660800" y="4086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400" y="973440"/>
                <a:ext cx="1529640" cy="726120"/>
                <a:chOff x="5400" y="973440"/>
                <a:chExt cx="1529640" cy="7261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7240" y="973440"/>
                  <a:ext cx="142596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uerza Impulsor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00" y="973440"/>
                  <a:ext cx="152964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535400" y="973440"/>
                <a:ext cx="1900800" cy="726120"/>
                <a:chOff x="1535400" y="973440"/>
                <a:chExt cx="1900800" cy="7261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58760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53540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6560" y="973440"/>
                <a:ext cx="1900800" cy="726120"/>
                <a:chOff x="3436560" y="973440"/>
                <a:chExt cx="1900800" cy="7261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88760" y="973440"/>
                  <a:ext cx="17964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36560" y="973440"/>
                  <a:ext cx="190080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338080" y="973440"/>
                <a:ext cx="2322360" cy="726120"/>
                <a:chOff x="5338080" y="973440"/>
                <a:chExt cx="2322360" cy="726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90280" y="973440"/>
                  <a:ext cx="221760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38080" y="973440"/>
                  <a:ext cx="232236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60800" y="973440"/>
                <a:ext cx="1248120" cy="726120"/>
                <a:chOff x="7660800" y="973440"/>
                <a:chExt cx="1248120" cy="726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712640" y="973440"/>
                  <a:ext cx="1144440" cy="72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60800" y="973440"/>
                  <a:ext cx="1248120" cy="72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400" y="1699920"/>
                <a:ext cx="1529640" cy="887760"/>
                <a:chOff x="5400" y="1699920"/>
                <a:chExt cx="1529640" cy="88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7240" y="169992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esión de Operación [Kpa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400" y="169992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535400" y="1699920"/>
                <a:ext cx="1900800" cy="887760"/>
                <a:chOff x="1535400" y="1699920"/>
                <a:chExt cx="1900800" cy="88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58760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53540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436560" y="1699920"/>
                <a:ext cx="1900800" cy="887760"/>
                <a:chOff x="3436560" y="1699920"/>
                <a:chExt cx="1900800" cy="88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488760" y="169992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0-5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6560" y="169992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338080" y="1699920"/>
                <a:ext cx="2322360" cy="887760"/>
                <a:chOff x="5338080" y="1699920"/>
                <a:chExt cx="2322360" cy="8877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5390280" y="169992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700-2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38080" y="169992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60800" y="1699920"/>
                <a:ext cx="1248120" cy="887760"/>
                <a:chOff x="7660800" y="1699920"/>
                <a:chExt cx="1248120" cy="8877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712640" y="169992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60800" y="169992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400" y="2587680"/>
                <a:ext cx="1529640" cy="887400"/>
                <a:chOff x="5400" y="2587680"/>
                <a:chExt cx="1529640" cy="887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7240" y="2587680"/>
                  <a:ext cx="142596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ipo de Membr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400" y="2587680"/>
                  <a:ext cx="152964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35400" y="2587680"/>
                <a:ext cx="1900800" cy="887400"/>
                <a:chOff x="1535400" y="2587680"/>
                <a:chExt cx="1900800" cy="887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8760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3540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436560" y="2587680"/>
                <a:ext cx="1900800" cy="887400"/>
                <a:chOff x="3436560" y="2587680"/>
                <a:chExt cx="1900800" cy="887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88760" y="2587680"/>
                  <a:ext cx="17964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icroporosa Simétrica o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36560" y="2587680"/>
                  <a:ext cx="190080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338080" y="2587680"/>
                <a:ext cx="2322360" cy="887400"/>
                <a:chOff x="5338080" y="2587680"/>
                <a:chExt cx="2322360" cy="8874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390280" y="2587680"/>
                  <a:ext cx="221760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mipermeable Asimétr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338080" y="2587680"/>
                  <a:ext cx="232236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60800" y="2587680"/>
                <a:ext cx="1248120" cy="887400"/>
                <a:chOff x="7660800" y="2587680"/>
                <a:chExt cx="1248120" cy="88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712640" y="2587680"/>
                  <a:ext cx="1144440" cy="88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iálisis Simétri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60800" y="2587680"/>
                  <a:ext cx="1248120" cy="887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00" y="3475080"/>
                <a:ext cx="1529640" cy="887760"/>
                <a:chOff x="5400" y="3475080"/>
                <a:chExt cx="1529640" cy="8877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7240" y="3475080"/>
                  <a:ext cx="142596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Tamaño de partículas [cm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00" y="3475080"/>
                  <a:ext cx="152964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35400" y="3475080"/>
                <a:ext cx="1900800" cy="887760"/>
                <a:chOff x="1535400" y="3475080"/>
                <a:chExt cx="1900800" cy="88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760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7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53540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36560" y="3475080"/>
                <a:ext cx="1900800" cy="887760"/>
                <a:chOff x="3436560" y="3475080"/>
                <a:chExt cx="1900800" cy="88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88760" y="3475080"/>
                  <a:ext cx="17964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6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36560" y="3475080"/>
                  <a:ext cx="190080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338080" y="3475080"/>
                <a:ext cx="2322360" cy="887760"/>
                <a:chOff x="5338080" y="3475080"/>
                <a:chExt cx="2322360" cy="88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390280" y="3475080"/>
                  <a:ext cx="221760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7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 2 10</a:t>
                  </a:r>
                  <a:r>
                    <a:rPr b="1" lang="es-ES_tradnl" sz="16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338080" y="3475080"/>
                  <a:ext cx="232236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60800" y="3475080"/>
                <a:ext cx="1248120" cy="887760"/>
                <a:chOff x="7660800" y="3475080"/>
                <a:chExt cx="1248120" cy="88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712640" y="3475080"/>
                  <a:ext cx="1144440" cy="88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60800" y="3475080"/>
                  <a:ext cx="1248120" cy="88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00" y="4363200"/>
                <a:ext cx="1529640" cy="564840"/>
                <a:chOff x="5400" y="4363200"/>
                <a:chExt cx="1529640" cy="5648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7240" y="4363200"/>
                  <a:ext cx="142596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lu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[l/m</a:t>
                  </a:r>
                  <a:r>
                    <a:rPr b="1" lang="es-ES_tradnl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h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00" y="4363200"/>
                  <a:ext cx="152964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35400" y="4363200"/>
                <a:ext cx="1900800" cy="564840"/>
                <a:chOff x="1535400" y="4363200"/>
                <a:chExt cx="1900800" cy="5648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58760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50-1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3540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436560" y="4363200"/>
                <a:ext cx="1900800" cy="564840"/>
                <a:chOff x="3436560" y="4363200"/>
                <a:chExt cx="1900800" cy="5648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88760" y="4363200"/>
                  <a:ext cx="17964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0-2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436560" y="4363200"/>
                  <a:ext cx="190080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38080" y="4363200"/>
                <a:ext cx="2322360" cy="564840"/>
                <a:chOff x="5338080" y="4363200"/>
                <a:chExt cx="2322360" cy="5648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90280" y="4363200"/>
                  <a:ext cx="221760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-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8080" y="4363200"/>
                  <a:ext cx="232236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60800" y="4363200"/>
                <a:ext cx="1248120" cy="564840"/>
                <a:chOff x="7660800" y="4363200"/>
                <a:chExt cx="1248120" cy="564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712640" y="4363200"/>
                  <a:ext cx="1144440" cy="56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60800" y="4363200"/>
                  <a:ext cx="1248120" cy="56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00" y="4928040"/>
                <a:ext cx="1529640" cy="2177640"/>
                <a:chOff x="5400" y="4928040"/>
                <a:chExt cx="1529640" cy="217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240" y="4928040"/>
                  <a:ext cx="142596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Us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eparación 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" y="4928040"/>
                  <a:ext cx="152964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535400" y="4928040"/>
                <a:ext cx="1900800" cy="2177640"/>
                <a:chOff x="1535400" y="4928040"/>
                <a:chExt cx="1900800" cy="2177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58760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evadura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ngos 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3540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36560" y="4928040"/>
                <a:ext cx="1900800" cy="2177640"/>
                <a:chOff x="3436560" y="4928040"/>
                <a:chExt cx="1900800" cy="2177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488760" y="4928040"/>
                  <a:ext cx="17964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c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 (30–3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(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4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6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6560" y="4928040"/>
                  <a:ext cx="190080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338080" y="4928040"/>
                <a:ext cx="2322360" cy="2177640"/>
                <a:chOff x="5338080" y="4928040"/>
                <a:chExt cx="2322360" cy="2177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390280" y="4928040"/>
                  <a:ext cx="221760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liminación de 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(300–10</a:t>
                  </a:r>
                  <a:r>
                    <a:rPr b="0" lang="es-ES_tradnl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zúcares (200–400 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Orgánicos (100–5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Iones Inorgánicos (10-100D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338080" y="4928040"/>
                  <a:ext cx="232236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60800" y="4928040"/>
                <a:ext cx="1248120" cy="2177640"/>
                <a:chOff x="7660800" y="4928040"/>
                <a:chExt cx="1248120" cy="2177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712640" y="4928040"/>
                  <a:ext cx="1144440" cy="21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iotenológ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Bacteri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Coloid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Viru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olisacári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ntibiótic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60800" y="4928040"/>
                  <a:ext cx="1248120" cy="217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0" y="404640"/>
              <a:ext cx="8915040" cy="6705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aracterísticas de las principales operaciones de membran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981000"/>
            <a:ext cx="115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628640"/>
            <a:ext cx="17272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365720"/>
            <a:ext cx="1619280" cy="792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609480"/>
            <a:ext cx="8229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scripción y Modos de Operación de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icro y Ultrafiltración (MF-U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iminar contaminantes de alta masa mole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macromoléculas de pequeñas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752480" y="1523880"/>
          <a:ext cx="6477120" cy="30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6477120" cy="30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concentración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91440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icio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63640" y="981000"/>
          <a:ext cx="612144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61214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n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55640" y="909720"/>
          <a:ext cx="632628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9720"/>
                    <a:ext cx="63262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9580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5562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quema de flujo para proceso de diafiltración.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3280" y="476280"/>
            <a:ext cx="3505320" cy="27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1472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60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cc66"/>
                </a:solidFill>
                <a:latin typeface="Times New Roman"/>
              </a:rPr>
              <a:t>Solución de Diál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87280" y="1268280"/>
          <a:ext cx="59994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59994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835280" y="907920"/>
            <a:ext cx="504720" cy="1152720"/>
          </a:xfrm>
          <a:prstGeom prst="downArrow">
            <a:avLst>
              <a:gd name="adj1" fmla="val 50000"/>
              <a:gd name="adj2" fmla="val 57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549360"/>
            <a:ext cx="3168720" cy="302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6094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smosis Inversa (O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 sistema que tiene una membrana semi-permeable que permite el paso sólo del solvente. La fuerza impulsora es una alta presión que debe vencer la presión osmótica, para invertir el flujo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n membrana no porosa de polímero que impiden la salida de iones que quedan solvatados y quedan atrapados en los espa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solvente continua hasta que se ejerce una presión en el capilar que detiene la dilución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dición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45086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33"/>
                </a:solidFill>
                <a:latin typeface="Comic Sans MS"/>
              </a:rPr>
              <a:t>Solvente pasa desde la zona menos concentrada a la mas concentrada, hasta que se alcanza la presión osmótica.(</a:t>
            </a:r>
            <a:r>
              <a:rPr b="0" lang="el-GR" sz="2400" spc="-1" strike="noStrike">
                <a:solidFill>
                  <a:srgbClr val="660033"/>
                </a:solidFill>
                <a:latin typeface="Comic Sans MS"/>
              </a:rPr>
              <a:t>Δ</a:t>
            </a:r>
            <a:r>
              <a:rPr b="0" lang="ru-RU" sz="2400" spc="-1" strike="noStrike">
                <a:solidFill>
                  <a:srgbClr val="660033"/>
                </a:solidFill>
                <a:latin typeface="Comic Sans MS"/>
              </a:rPr>
              <a:t>П</a:t>
            </a:r>
            <a:r>
              <a:rPr b="0" lang="es-CL" sz="2400" spc="-1" strike="noStrike">
                <a:solidFill>
                  <a:srgbClr val="6600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32000" y="1052640"/>
          <a:ext cx="32400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52640"/>
                    <a:ext cx="32400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H="1">
            <a:off x="6804000" y="2565360"/>
            <a:ext cx="72072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916000" y="3212640"/>
            <a:ext cx="1368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37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003640" y="1052640"/>
            <a:ext cx="3816360" cy="2369880"/>
            <a:chOff x="5003640" y="1052640"/>
            <a:chExt cx="3816360" cy="2369880"/>
          </a:xfrm>
        </p:grpSpPr>
        <p:graphicFrame>
          <p:nvGraphicFramePr>
            <p:cNvPr id="224" name=""/>
            <p:cNvGraphicFramePr/>
            <p:nvPr/>
          </p:nvGraphicFramePr>
          <p:xfrm>
            <a:off x="5003640" y="1052640"/>
            <a:ext cx="3816360" cy="23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052640"/>
                      <a:ext cx="3816360" cy="23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6804000" y="2349360"/>
              <a:ext cx="720720" cy="216000"/>
            </a:xfrm>
            <a:prstGeom prst="leftArrow">
              <a:avLst>
                <a:gd name="adj1" fmla="val 50000"/>
                <a:gd name="adj2" fmla="val 83417"/>
              </a:avLst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flipV="1">
            <a:off x="4427640" y="3068280"/>
            <a:ext cx="1944720" cy="865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260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smosis Re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5157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olvente pasa la membrana y los iones que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16280"/>
            <a:ext cx="4873680" cy="2727000"/>
            <a:chOff x="0" y="1916280"/>
            <a:chExt cx="4873680" cy="2727000"/>
          </a:xfrm>
        </p:grpSpPr>
        <p:graphicFrame>
          <p:nvGraphicFramePr>
            <p:cNvPr id="231" name=""/>
            <p:cNvGraphicFramePr/>
            <p:nvPr/>
          </p:nvGraphicFramePr>
          <p:xfrm>
            <a:off x="0" y="1916280"/>
            <a:ext cx="4873680" cy="272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916280"/>
                      <a:ext cx="4873680" cy="272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305080" y="3355560"/>
              <a:ext cx="1079640" cy="433080"/>
            </a:xfrm>
            <a:prstGeom prst="rightArrow">
              <a:avLst>
                <a:gd name="adj1" fmla="val 50000"/>
                <a:gd name="adj2" fmla="val 62323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920" y="981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981000"/>
            <a:ext cx="4356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Se aplica una presión mayor que la Presión osmótica que obliga a que el Solvente pase a través de la membrana y los iones queden retenidos en el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305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Dónde se  produce la mayor caída de presión en una filtración tradiciona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eliminar este efecto?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38480" y="2286000"/>
            <a:ext cx="4800600" cy="4285440"/>
            <a:chOff x="4038480" y="2286000"/>
            <a:chExt cx="4800600" cy="4285440"/>
          </a:xfrm>
        </p:grpSpPr>
        <p:graphicFrame>
          <p:nvGraphicFramePr>
            <p:cNvPr id="46" name=""/>
            <p:cNvGraphicFramePr/>
            <p:nvPr/>
          </p:nvGraphicFramePr>
          <p:xfrm>
            <a:off x="4876920" y="2286000"/>
            <a:ext cx="2904840" cy="280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286000"/>
                      <a:ext cx="2904840" cy="280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4038480" y="5257800"/>
              <a:ext cx="4800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Un flujo transversal es capaz de limpiar por si mismo el filtro, así se minimizan los efectos de resistencia de la tor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990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609480"/>
            <a:ext cx="8229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álisis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membranas de tamaño de poros muy pequeñas (menores que UF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oluto basándose en : peso molecular, conformación y ca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motriz es un gradiente de concentración que hace que los solutos fluyan a la solución de lav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lectrodiálisis (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álogo a la diálisis, pero la fuerza motriz se ve incrementada por un campo eléctrico.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609480"/>
            <a:ext cx="822960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Microfiltración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enta mayor área por unidad de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 de desconec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ben descartar cuando falla alguna parte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1219320"/>
          <a:ext cx="89154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9154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laca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04920" y="1523880"/>
          <a:ext cx="838188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38188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1008000"/>
          <a:ext cx="853452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08000"/>
                    <a:ext cx="853452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62320" y="3049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bra Hu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457200"/>
            <a:ext cx="8229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ido a las diferentes velocidades de transporte de los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erentes soluto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 produce un gradiente de concentración en la proximidad de la membrana, este efecto se conoce como “Efecto de Polarización”. </a:t>
            </a: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No se trata de formación de to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1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600200"/>
            <a:ext cx="43434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minución flux (F/A) de solvente (aumento en la resistenci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ón del soluto con la membrana, provocando incrust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800600" y="1371600"/>
          <a:ext cx="40863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371600"/>
                    <a:ext cx="4086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49528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33"/>
                </a:solidFill>
                <a:uFillTx/>
                <a:latin typeface="Comic Sans MS"/>
                <a:ea typeface="Times New Roman"/>
              </a:rPr>
              <a:t>Diáli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Disminución gradiente de concentración efectivo, disminuyendo el flux de impurez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8088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fectos de la Pol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, UltraFiltración , Osmasis In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676520"/>
            <a:ext cx="25146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1600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i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 ef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19051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4572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micro-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teoría permite predecir el flux (flujo/área transversal) a través de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eoría tiene una aplicación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arámetr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necesaria para lograr un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mp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ango de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lerancia de los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0880" y="3049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uerza impuls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uerza impulsora es un gradiente de presión a través de la membrana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743200" y="1981080"/>
          <a:ext cx="276228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81080"/>
                    <a:ext cx="276228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243828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3623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3048120"/>
            <a:ext cx="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752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3276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2666880" y="4876920"/>
                <a:ext cx="32292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e gradiente de presión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se calcul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609480"/>
            <a:ext cx="7848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icrofiltración y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así como surge las técnicas de Microfiltración y Ultrafiltración  que se diferencian de la Filtración Tradicional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amaño de poros de los medios filtrantes, llamados membr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cruzado, que es transversal  al medio filtrante, minimiza la formación de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resistencia se localiza en la membrana y no en la to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a50021"/>
                </a:solidFill>
                <a:uFillTx/>
                <a:latin typeface="Century Gothic"/>
              </a:rPr>
              <a:t>¿Cómo se mide en el equip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590920" y="1752480"/>
          <a:ext cx="229212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229212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828800" y="403848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40384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22096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520" y="38862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1828800"/>
            <a:ext cx="4572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43400" y="4038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1320" y="2895480"/>
            <a:ext cx="2895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J: Flux de 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Si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 = Pi –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 del flujo tang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02080" y="5562720"/>
                <a:ext cx="34938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T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3048120" y="1981080"/>
            <a:ext cx="533160" cy="381240"/>
          </a:xfrm>
          <a:prstGeom prst="flowChartSummingJuncti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876920" y="762120"/>
                <a:ext cx="38462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ujo Volumetr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Transvers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0880" y="457200"/>
            <a:ext cx="8229600" cy="23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flujo de Permeado, J,  variará c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radiente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 proteínas,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locidad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ve afectado  el flujo de permeado por cada varia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90720" y="304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8380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modelación del flux comprende 2 z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&lt;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nci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Zona I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&gt; </a:t>
            </a:r>
            <a:r>
              <a:rPr b="1" lang="es-ES_tradnl" sz="2000" spc="-1" strike="noStrike">
                <a:solidFill>
                  <a:srgbClr val="a50021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TM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J = 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562200" y="1523880"/>
          <a:ext cx="55818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2200" y="1523880"/>
                    <a:ext cx="55818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447920" y="1989000"/>
          <a:ext cx="7315200" cy="46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9000"/>
                    <a:ext cx="7315200" cy="46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4920" y="304920"/>
            <a:ext cx="731520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Concentración de Proteínas, Cp</a:t>
            </a:r>
            <a:r>
              <a:rPr b="1" lang="es-ES_tradnl" sz="2000" spc="-1" strike="noStrike" u="sng" baseline="-25000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p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304920"/>
            <a:ext cx="86868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Velocidades de Recirculación,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J = f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,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,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ona II: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J = (C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pteí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U) : En cierta forma se está formando un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133720"/>
          <a:ext cx="792504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925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0880" y="457200"/>
            <a:ext cx="8229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Para la región 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lt;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Se puede considerar que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,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hay control por la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J depende de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, pero los aumentos producen un aumento e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 alcanzándose un máx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066680" y="2438280"/>
          <a:ext cx="6705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6705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219320" y="266688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457200"/>
            <a:ext cx="82296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Para la región II don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 &gt;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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PT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No hay efectos por la diferencia de presión hay un cambio en el control, ahora  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c</a:t>
            </a:r>
            <a:r>
              <a:rPr b="1" lang="es-ES_tradnl" sz="2000" spc="-1" strike="noStrike">
                <a:solidFill>
                  <a:srgbClr val="a50021"/>
                </a:solidFill>
                <a:latin typeface="Century Gothic"/>
                <a:ea typeface="Times New Roman"/>
              </a:rPr>
              <a:t> &gt;R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Century Gothic"/>
                <a:ea typeface="Times New Roman"/>
              </a:rPr>
              <a:t>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Los incrementos en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 sólo aumentan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entury Gothic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, en esta zona sólo hay una dependencia con la velocidad de los flujos cruzados y la concentración de proteí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752480" y="3051000"/>
          <a:ext cx="6477120" cy="38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51000"/>
                    <a:ext cx="64771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800600" y="2971800"/>
            <a:ext cx="3581280" cy="34290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 para la determinación de una expresión para el Flujo de permeado,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0880" y="0"/>
            <a:ext cx="82296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 = 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 –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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Flux de Perme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76520" y="4724280"/>
                <a:ext cx="1512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46483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447920"/>
            <a:ext cx="54100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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sión osmótica, En el caso de macromoléculas en solución y dispersiones coloidales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proteínas y células)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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muy 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rechazo del soluto por la membrana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181480" y="1981080"/>
            <a:ext cx="3695760" cy="4515480"/>
            <a:chOff x="5181480" y="1981080"/>
            <a:chExt cx="3695760" cy="4515480"/>
          </a:xfrm>
        </p:grpSpPr>
        <p:grpSp>
          <p:nvGrpSpPr>
            <p:cNvPr id="319" name=""/>
            <p:cNvGrpSpPr/>
            <p:nvPr/>
          </p:nvGrpSpPr>
          <p:grpSpPr>
            <a:xfrm>
              <a:off x="5181480" y="2133720"/>
              <a:ext cx="3695760" cy="4362840"/>
              <a:chOff x="5181480" y="2133720"/>
              <a:chExt cx="3695760" cy="4362840"/>
            </a:xfrm>
          </p:grpSpPr>
          <p:sp>
            <p:nvSpPr>
              <p:cNvPr id="320" name=""/>
              <p:cNvSpPr/>
              <p:nvPr/>
            </p:nvSpPr>
            <p:spPr>
              <a:xfrm>
                <a:off x="5181480" y="4648320"/>
                <a:ext cx="3695760" cy="18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en el seno de la solución a la cual se desea llegar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C</a:t>
                </a:r>
                <a:r>
                  <a:rPr b="0" lang="es-ES" sz="2400" spc="-1" strike="noStrike" baseline="-25000">
                    <a:solidFill>
                      <a:srgbClr val="660033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>
                    <a:solidFill>
                      <a:srgbClr val="660033"/>
                    </a:solidFill>
                    <a:latin typeface="Times New Roman"/>
                  </a:rPr>
                  <a:t>: Conc. soluto permea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629400" y="2133720"/>
                <a:ext cx="1980720" cy="1828800"/>
                <a:chOff x="6629400" y="2133720"/>
                <a:chExt cx="1980720" cy="18288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543440" y="2133720"/>
                  <a:ext cx="152280" cy="1828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629400" y="2895840"/>
                  <a:ext cx="7617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2940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076960" y="335304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" name=""/>
            <p:cNvSpPr/>
            <p:nvPr/>
          </p:nvSpPr>
          <p:spPr>
            <a:xfrm>
              <a:off x="7772400" y="2895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010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09480" y="57913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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ención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0 Retención N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Modelo de polarización de Pel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un fenómeno de polarización en la capa límite próxima a la membr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erfiles se ven modificados sólo por cambios en 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PT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38480" y="2362320"/>
            <a:ext cx="457200" cy="1218960"/>
          </a:xfrm>
          <a:prstGeom prst="ellipse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76520" y="1860480"/>
          <a:ext cx="561960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60480"/>
                    <a:ext cx="561960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34320" y="2895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4191120"/>
            <a:ext cx="1066680" cy="457200"/>
          </a:xfrm>
          <a:prstGeom prst="rightArrow">
            <a:avLst>
              <a:gd name="adj1" fmla="val 50000"/>
              <a:gd name="adj2" fmla="val 58327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579132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952880"/>
            <a:ext cx="312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09480"/>
            <a:ext cx="78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orma de operación se inicia con suspensiones diluidas que se van concentrado, por medio recirculación hasta que la viscosidad y la capacidad de bombeo lo permitan. Esto lleva a que se deba continuar con una filtración tradicional u otro mé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tiene un “Filtrado” que es la solución que ha pasado a través de la membrana y un “Remanente o Concentrado” que se recir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donde se localice el producto de interés es la solución que se colecta o descarta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8080" y="914400"/>
            <a:ext cx="7848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entury Gothic"/>
                <a:ea typeface="Times New Roman"/>
              </a:rPr>
              <a:t>Balance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de soluto a la interfase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1208160" y="838080"/>
                <a:ext cx="58626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C       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J</m:t>
                        </m:r>
                      </m:e>
                      <m:sup/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762120" y="1981080"/>
            <a:ext cx="685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En 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nsideraciones de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0 C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x=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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 =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Integ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200400" y="5029200"/>
                <a:ext cx="29574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0" y="304920"/>
            <a:ext cx="2666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conv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de soluto a  la interf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 la interfase al seno del fluido</a:t>
            </a:r>
            <a:r>
              <a:rPr b="0" lang="es-ES_tradnl" sz="20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2286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entury Gothic"/>
                <a:ea typeface="Times New Roman"/>
              </a:rPr>
              <a:t>Movimiento difusivo del soluto desde la interfase al seno del flu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22860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Si hay un coeficiente  rechazo total 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=1 entonces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s-ES" sz="2400" spc="-1" strike="noStrike" baseline="30000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838080"/>
                <a:ext cx="38210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5800" y="198108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es el coeficiente de transferencia de masa, el cual se determina por medio de correlaciones o experimento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600200" y="2971800"/>
            <a:ext cx="6552720" cy="3582720"/>
            <a:chOff x="1600200" y="2971800"/>
            <a:chExt cx="6552720" cy="3582720"/>
          </a:xfrm>
        </p:grpSpPr>
        <p:grpSp>
          <p:nvGrpSpPr>
            <p:cNvPr id="349" name=""/>
            <p:cNvGrpSpPr/>
            <p:nvPr/>
          </p:nvGrpSpPr>
          <p:grpSpPr>
            <a:xfrm>
              <a:off x="1600200" y="2971800"/>
              <a:ext cx="6552720" cy="3582720"/>
              <a:chOff x="1600200" y="2971800"/>
              <a:chExt cx="6552720" cy="3582720"/>
            </a:xfrm>
          </p:grpSpPr>
          <p:graphicFrame>
            <p:nvGraphicFramePr>
              <p:cNvPr id="350" name=""/>
              <p:cNvGraphicFramePr/>
              <p:nvPr/>
            </p:nvGraphicFramePr>
            <p:xfrm>
              <a:off x="1600200" y="2971800"/>
              <a:ext cx="6552720" cy="35827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2971800"/>
                        <a:ext cx="6552720" cy="358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2" name=""/>
              <p:cNvSpPr/>
              <p:nvPr/>
            </p:nvSpPr>
            <p:spPr>
              <a:xfrm>
                <a:off x="4840920" y="4359960"/>
                <a:ext cx="0" cy="51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40920" y="4871880"/>
                <a:ext cx="84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223240" y="3508920"/>
              <a:ext cx="25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iferentes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400" spc="-1" strike="noStrike">
                  <a:solidFill>
                    <a:srgbClr val="000000"/>
                  </a:solidFill>
                  <a:latin typeface="Century Gothic"/>
                </a:rPr>
                <a:t>P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0384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8001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Times New Roman"/>
              </a:rPr>
              <a:t>Modelo de polarización en película y capa de g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Sólo en Regió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i se supone que el aumento de C</a:t>
            </a:r>
            <a:r>
              <a:rPr b="0" lang="es-ES" sz="2400" spc="-1" strike="noStrike" baseline="-25000">
                <a:solidFill>
                  <a:srgbClr val="000099"/>
                </a:solidFill>
                <a:latin typeface="Comic Sans MS"/>
              </a:rPr>
              <a:t>w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 con </a:t>
            </a:r>
            <a:r>
              <a:rPr b="0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TM tiene un límite C</a:t>
            </a:r>
            <a:r>
              <a:rPr b="0" lang="es-ES_tradnl" sz="24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donde se forma la llamada “capa g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048120" y="2590920"/>
                <a:ext cx="2008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886200" y="472428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371600" y="3808440"/>
            <a:ext cx="6477120" cy="3049560"/>
            <a:chOff x="1371600" y="3808440"/>
            <a:chExt cx="6477120" cy="3049560"/>
          </a:xfrm>
        </p:grpSpPr>
        <p:grpSp>
          <p:nvGrpSpPr>
            <p:cNvPr id="360" name=""/>
            <p:cNvGrpSpPr/>
            <p:nvPr/>
          </p:nvGrpSpPr>
          <p:grpSpPr>
            <a:xfrm>
              <a:off x="1371600" y="3808440"/>
              <a:ext cx="6477120" cy="3049560"/>
              <a:chOff x="1371600" y="3808440"/>
              <a:chExt cx="6477120" cy="3049560"/>
            </a:xfrm>
          </p:grpSpPr>
          <p:graphicFrame>
            <p:nvGraphicFramePr>
              <p:cNvPr id="361" name=""/>
              <p:cNvGraphicFramePr/>
              <p:nvPr/>
            </p:nvGraphicFramePr>
            <p:xfrm>
              <a:off x="1371600" y="3808440"/>
              <a:ext cx="6477120" cy="30495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3808440"/>
                        <a:ext cx="6477120" cy="30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"/>
              <p:cNvSpPr/>
              <p:nvPr/>
            </p:nvSpPr>
            <p:spPr>
              <a:xfrm>
                <a:off x="4574880" y="4989960"/>
                <a:ext cx="0" cy="43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74880" y="5425560"/>
                <a:ext cx="83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19920" y="5789520"/>
              <a:ext cx="609480" cy="228600"/>
            </a:xfrm>
            <a:prstGeom prst="line">
              <a:avLst/>
            </a:prstGeom>
            <a:ln w="57240">
              <a:solidFill>
                <a:srgbClr val="cc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0800" y="609444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a50021"/>
                  </a:solidFill>
                  <a:latin typeface="Times New Roman"/>
                </a:rPr>
                <a:t>Ln C</a:t>
              </a:r>
              <a:r>
                <a:rPr b="1" lang="es-ES" sz="2400" spc="-1" strike="noStrike" baseline="-25000">
                  <a:solidFill>
                    <a:srgbClr val="a50021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33520" y="38088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 de la capa 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Se producen problemas por incrustaciones en la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Este efecto es diferente a la polarización de la memb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4920" y="2590920"/>
          <a:ext cx="8839080" cy="38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839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5867280" y="3048120"/>
            <a:ext cx="76320" cy="2286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38088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Las incrustaciones disminuyen las porosidad de la membrana necesitándose tratamientos físicos y quí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Aumen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</a:rPr>
              <a:t>Disminuyendo la vida útil de los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0880" y="0"/>
            <a:ext cx="83822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oblema 1  Microfiltración Modelo de la capa de polar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n base a los datos de la siguiente tabla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.- Coeficiente de transferencia de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2.- La concentración de la “capa gel”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abla 1 Flux a diferentes condiciones de presión y concentración de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09480" y="2590920"/>
            <a:ext cx="8153280" cy="4267080"/>
            <a:chOff x="609480" y="2590920"/>
            <a:chExt cx="8153280" cy="4267080"/>
          </a:xfrm>
        </p:grpSpPr>
        <p:grpSp>
          <p:nvGrpSpPr>
            <p:cNvPr id="374" name=""/>
            <p:cNvGrpSpPr/>
            <p:nvPr/>
          </p:nvGrpSpPr>
          <p:grpSpPr>
            <a:xfrm>
              <a:off x="618480" y="2592720"/>
              <a:ext cx="8133480" cy="4262400"/>
              <a:chOff x="618480" y="2592720"/>
              <a:chExt cx="8133480" cy="426240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618480" y="2592720"/>
                <a:ext cx="2725200" cy="628920"/>
                <a:chOff x="618480" y="2592720"/>
                <a:chExt cx="2725200" cy="62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05600" y="2592720"/>
                  <a:ext cx="2550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_tradnl" sz="2400" spc="-1" strike="noStrike">
                      <a:solidFill>
                        <a:srgbClr val="000099"/>
                      </a:solidFill>
                      <a:latin typeface="Comic Sans MS"/>
                      <a:ea typeface="Times New Roman"/>
                    </a:rPr>
                    <a:t>PT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18480" y="2592720"/>
                  <a:ext cx="272520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344040" y="2592720"/>
                <a:ext cx="5407920" cy="628920"/>
                <a:chOff x="3344040" y="2592720"/>
                <a:chExt cx="5407920" cy="62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431880" y="2592720"/>
                  <a:ext cx="523152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Concentración en el seno de la solución C</a:t>
                  </a: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 baseline="-30000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[ % en peso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44040" y="2592720"/>
                  <a:ext cx="5407920" cy="62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618480" y="3221640"/>
                <a:ext cx="2725200" cy="349200"/>
                <a:chOff x="618480" y="3221640"/>
                <a:chExt cx="2725200" cy="3492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705600" y="32216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Kg/cm</a:t>
                  </a:r>
                  <a:r>
                    <a:rPr b="0" lang="es-ES_tradnl" sz="20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8480" y="32216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3344040" y="3221640"/>
                <a:ext cx="1328040" cy="349200"/>
                <a:chOff x="3344040" y="3221640"/>
                <a:chExt cx="1328040" cy="349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431880" y="32216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344040" y="32216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672440" y="3221640"/>
                <a:ext cx="1419120" cy="349200"/>
                <a:chOff x="4672440" y="3221640"/>
                <a:chExt cx="1419120" cy="3492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47602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6724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092280" y="3221640"/>
                <a:ext cx="1240200" cy="349200"/>
                <a:chOff x="6092280" y="3221640"/>
                <a:chExt cx="1240200" cy="3492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179400" y="32216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92280" y="32216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332840" y="3221640"/>
                <a:ext cx="1419120" cy="349200"/>
                <a:chOff x="7332840" y="3221640"/>
                <a:chExt cx="1419120" cy="3492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420680" y="32216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a50021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332840" y="32216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18480" y="3570840"/>
                <a:ext cx="2725200" cy="349200"/>
                <a:chOff x="618480" y="3570840"/>
                <a:chExt cx="2725200" cy="3492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05600" y="3570840"/>
                  <a:ext cx="2550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8480" y="3570840"/>
                  <a:ext cx="2725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344040" y="3570840"/>
                <a:ext cx="1328040" cy="349200"/>
                <a:chOff x="3344040" y="3570840"/>
                <a:chExt cx="1328040" cy="3492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431880" y="3570840"/>
                  <a:ext cx="115236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344040" y="3570840"/>
                  <a:ext cx="13280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72440" y="3570840"/>
                <a:ext cx="1419120" cy="349200"/>
                <a:chOff x="4672440" y="3570840"/>
                <a:chExt cx="1419120" cy="3492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7602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24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092280" y="3570840"/>
                <a:ext cx="1240200" cy="349200"/>
                <a:chOff x="6092280" y="3570840"/>
                <a:chExt cx="1240200" cy="3492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179400" y="3570840"/>
                  <a:ext cx="106524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092280" y="3570840"/>
                  <a:ext cx="12402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332840" y="3570840"/>
                <a:ext cx="1419120" cy="349200"/>
                <a:chOff x="7332840" y="3570840"/>
                <a:chExt cx="1419120" cy="349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420680" y="3570840"/>
                  <a:ext cx="124272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332840" y="3570840"/>
                  <a:ext cx="141912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18480" y="3920400"/>
                <a:ext cx="2725200" cy="489240"/>
                <a:chOff x="618480" y="3920400"/>
                <a:chExt cx="2725200" cy="489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05600" y="392040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18480" y="392040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344040" y="3920400"/>
                <a:ext cx="1328040" cy="489240"/>
                <a:chOff x="3344040" y="3920400"/>
                <a:chExt cx="1328040" cy="489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431880" y="392040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344040" y="392040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672440" y="3920400"/>
                <a:ext cx="1419120" cy="489240"/>
                <a:chOff x="4672440" y="3920400"/>
                <a:chExt cx="1419120" cy="489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7602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724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092280" y="3920400"/>
                <a:ext cx="1240200" cy="489240"/>
                <a:chOff x="6092280" y="3920400"/>
                <a:chExt cx="1240200" cy="4892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79400" y="392040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092280" y="392040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7332840" y="3920400"/>
                <a:ext cx="1419120" cy="489240"/>
                <a:chOff x="7332840" y="3920400"/>
                <a:chExt cx="1419120" cy="4892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420680" y="392040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332840" y="392040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18480" y="4409640"/>
                <a:ext cx="2725200" cy="488880"/>
                <a:chOff x="618480" y="4409640"/>
                <a:chExt cx="2725200" cy="488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05600" y="44096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0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18480" y="44096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344040" y="4409640"/>
                <a:ext cx="1328040" cy="488880"/>
                <a:chOff x="3344040" y="4409640"/>
                <a:chExt cx="1328040" cy="4888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431880" y="44096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44040" y="44096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672440" y="4409640"/>
                <a:ext cx="1419120" cy="488880"/>
                <a:chOff x="4672440" y="4409640"/>
                <a:chExt cx="1419120" cy="4888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7602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724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280" y="4409640"/>
                <a:ext cx="1240200" cy="488880"/>
                <a:chOff x="6092280" y="4409640"/>
                <a:chExt cx="1240200" cy="4888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79400" y="44096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,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280" y="44096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332840" y="4409640"/>
                <a:ext cx="1419120" cy="488880"/>
                <a:chOff x="7332840" y="4409640"/>
                <a:chExt cx="1419120" cy="4888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420680" y="44096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32840" y="44096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18480" y="4898880"/>
                <a:ext cx="2725200" cy="488880"/>
                <a:chOff x="618480" y="4898880"/>
                <a:chExt cx="2725200" cy="4888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5600" y="489888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18480" y="489888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344040" y="4898880"/>
                <a:ext cx="1328040" cy="488880"/>
                <a:chOff x="3344040" y="4898880"/>
                <a:chExt cx="1328040" cy="4888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31880" y="489888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44040" y="489888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672440" y="4898880"/>
                <a:ext cx="1419120" cy="488880"/>
                <a:chOff x="4672440" y="4898880"/>
                <a:chExt cx="1419120" cy="4888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7602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724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092280" y="4898880"/>
                <a:ext cx="1240200" cy="488880"/>
                <a:chOff x="6092280" y="4898880"/>
                <a:chExt cx="1240200" cy="488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179400" y="489888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092280" y="489888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332840" y="4898880"/>
                <a:ext cx="1419120" cy="488880"/>
                <a:chOff x="7332840" y="4898880"/>
                <a:chExt cx="1419120" cy="488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420680" y="489888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32840" y="489888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8480" y="5387760"/>
                <a:ext cx="2725200" cy="489240"/>
                <a:chOff x="618480" y="5387760"/>
                <a:chExt cx="2725200" cy="4892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05600" y="5387760"/>
                  <a:ext cx="2550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8480" y="5387760"/>
                  <a:ext cx="2725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344040" y="5387760"/>
                <a:ext cx="1328040" cy="489240"/>
                <a:chOff x="3344040" y="5387760"/>
                <a:chExt cx="1328040" cy="4892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431880" y="5387760"/>
                  <a:ext cx="115236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344040" y="5387760"/>
                  <a:ext cx="132804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672440" y="5387760"/>
                <a:ext cx="1419120" cy="489240"/>
                <a:chOff x="4672440" y="5387760"/>
                <a:chExt cx="1419120" cy="4892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602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6724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280" y="5387760"/>
                <a:ext cx="1240200" cy="489240"/>
                <a:chOff x="6092280" y="5387760"/>
                <a:chExt cx="1240200" cy="4892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79400" y="5387760"/>
                  <a:ext cx="106524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280" y="5387760"/>
                  <a:ext cx="124020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332840" y="5387760"/>
                <a:ext cx="1419120" cy="489240"/>
                <a:chOff x="7332840" y="5387760"/>
                <a:chExt cx="1419120" cy="4892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20680" y="5387760"/>
                  <a:ext cx="1242720" cy="4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332840" y="5387760"/>
                  <a:ext cx="1419120" cy="4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18480" y="5877360"/>
                <a:ext cx="2725200" cy="488880"/>
                <a:chOff x="618480" y="5877360"/>
                <a:chExt cx="2725200" cy="4888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05600" y="587736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1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18480" y="587736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344040" y="5877360"/>
                <a:ext cx="1328040" cy="488880"/>
                <a:chOff x="3344040" y="5877360"/>
                <a:chExt cx="1328040" cy="4888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431880" y="587736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44040" y="587736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672440" y="5877360"/>
                <a:ext cx="1419120" cy="488880"/>
                <a:chOff x="4672440" y="5877360"/>
                <a:chExt cx="1419120" cy="4888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7602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6724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092280" y="5877360"/>
                <a:ext cx="1240200" cy="488880"/>
                <a:chOff x="6092280" y="5877360"/>
                <a:chExt cx="1240200" cy="4888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79400" y="587736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92280" y="587736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32840" y="5877360"/>
                <a:ext cx="1419120" cy="488880"/>
                <a:chOff x="7332840" y="5877360"/>
                <a:chExt cx="1419120" cy="488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20680" y="587736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3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32840" y="587736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618480" y="6366240"/>
                <a:ext cx="2725200" cy="488880"/>
                <a:chOff x="618480" y="6366240"/>
                <a:chExt cx="2725200" cy="48888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05600" y="6366240"/>
                  <a:ext cx="2550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2.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18480" y="6366240"/>
                  <a:ext cx="2725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344040" y="6366240"/>
                <a:ext cx="1328040" cy="488880"/>
                <a:chOff x="3344040" y="6366240"/>
                <a:chExt cx="1328040" cy="488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431880" y="6366240"/>
                  <a:ext cx="115236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344040" y="6366240"/>
                  <a:ext cx="132804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72440" y="6366240"/>
                <a:ext cx="1419120" cy="488880"/>
                <a:chOff x="4672440" y="6366240"/>
                <a:chExt cx="1419120" cy="4888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7602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24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6092280" y="6366240"/>
                <a:ext cx="1240200" cy="488880"/>
                <a:chOff x="6092280" y="6366240"/>
                <a:chExt cx="1240200" cy="4888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179400" y="6366240"/>
                  <a:ext cx="106524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092280" y="6366240"/>
                  <a:ext cx="124020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32840" y="6366240"/>
                <a:ext cx="1419120" cy="488880"/>
                <a:chOff x="7332840" y="6366240"/>
                <a:chExt cx="1419120" cy="488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420680" y="6366240"/>
                  <a:ext cx="1242720" cy="48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6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32840" y="6366240"/>
                  <a:ext cx="1419120" cy="488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609480" y="2590920"/>
              <a:ext cx="8153280" cy="4267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"/>
          <p:cNvGraphicFramePr/>
          <p:nvPr/>
        </p:nvGraphicFramePr>
        <p:xfrm>
          <a:off x="0" y="914400"/>
          <a:ext cx="899172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9917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600200" y="6095880"/>
            <a:ext cx="624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J = -20.22*ln (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0.3) = 20.22* ln (30.3/C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70504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4920" y="2286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     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676520" y="1219320"/>
          <a:ext cx="619128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1912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4327560"/>
            <a:ext cx="822960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Ini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di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manente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eado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- V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onst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rm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743200" y="2286000"/>
                <a:ext cx="3348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685800" y="53352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</a:rPr>
              <a:t>Balance de Masa del Solu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La masa que disminuye del tanque de reciclo es la que aumente en el tanque de perm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200400"/>
            <a:ext cx="876312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centración del permeado (C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 se mantiene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 = t, 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 es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838080" y="4572000"/>
                <a:ext cx="71740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 flipV="1">
            <a:off x="5334120" y="4572000"/>
            <a:ext cx="38088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610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276720" y="5715000"/>
                <a:ext cx="2757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¿ Cómo funcion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9680"/>
            <a:ext cx="3352680" cy="23623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83808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066680"/>
          <a:ext cx="8383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383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581280" y="2057400"/>
            <a:ext cx="3353040" cy="2286000"/>
          </a:xfrm>
          <a:prstGeom prst="ellipse">
            <a:avLst/>
          </a:prstGeom>
          <a:noFill/>
          <a:ln w="7632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560680" y="1322280"/>
                <a:ext cx="37130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regla de la cadena al lad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514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orde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743200" y="2971800"/>
                <a:ext cx="3405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42670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38680" y="12193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7724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01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305160" y="4059360"/>
                <a:ext cx="227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5105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12920" y="5369040"/>
                <a:ext cx="2759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o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sup>
                              <m:e/>
                            </m:nary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7696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01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685800" y="533520"/>
            <a:ext cx="7772400" cy="1393560"/>
            <a:chOff x="685800" y="533520"/>
            <a:chExt cx="7772400" cy="1393560"/>
          </a:xfrm>
        </p:grpSpPr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3505320" y="1066680"/>
                  <a:ext cx="171612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5" name=""/>
            <p:cNvSpPr/>
            <p:nvPr/>
          </p:nvSpPr>
          <p:spPr>
            <a:xfrm>
              <a:off x="685800" y="5335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Por otra parte, el flux se puede calcul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2400" y="129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2209680"/>
            <a:ext cx="8763120" cy="1220760"/>
            <a:chOff x="0" y="2209680"/>
            <a:chExt cx="8763120" cy="1220760"/>
          </a:xfrm>
        </p:grpSpPr>
        <p:sp>
          <p:nvSpPr>
            <p:cNvPr id="538" name=""/>
            <p:cNvSpPr/>
            <p:nvPr/>
          </p:nvSpPr>
          <p:spPr>
            <a:xfrm>
              <a:off x="0" y="220968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lux promedio, &lt;J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0120" y="26668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819520" y="2514600"/>
                  <a:ext cx="2896920" cy="91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&gt;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0" y="3657600"/>
            <a:ext cx="8763120" cy="1436760"/>
            <a:chOff x="0" y="3657600"/>
            <a:chExt cx="8763120" cy="1436760"/>
          </a:xfrm>
        </p:grpSpPr>
        <p:sp>
          <p:nvSpPr>
            <p:cNvPr id="542" name=""/>
            <p:cNvSpPr/>
            <p:nvPr/>
          </p:nvSpPr>
          <p:spPr>
            <a:xfrm>
              <a:off x="7696080" y="4114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657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Aplicando regla de la cadena a (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"/>
                <p:cNvSpPr txBox="1"/>
                <p:nvPr/>
              </p:nvSpPr>
              <p:spPr>
                <a:xfrm>
                  <a:off x="2736720" y="4149720"/>
                  <a:ext cx="264348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5" name=""/>
          <p:cNvGrpSpPr/>
          <p:nvPr/>
        </p:nvGrpSpPr>
        <p:grpSpPr>
          <a:xfrm>
            <a:off x="0" y="5105520"/>
            <a:ext cx="8763120" cy="1428480"/>
            <a:chOff x="0" y="5105520"/>
            <a:chExt cx="8763120" cy="1428480"/>
          </a:xfrm>
        </p:grpSpPr>
        <p:sp>
          <p:nvSpPr>
            <p:cNvPr id="546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 la ecuación (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20120" y="5638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3054240" y="5562720"/>
                  <a:ext cx="2421000" cy="97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887400" y="976320"/>
                <a:ext cx="70610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</m:t>
                                        </m:r>
                                      </m:sub>
                                    </m:sSub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sup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C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p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685800" y="533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Comic Sans MS"/>
              </a:rPr>
              <a:t>Aplicando (10) en 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1447920"/>
            <a:ext cx="7617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4582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0" y="4191120"/>
            <a:ext cx="8763120" cy="2498760"/>
            <a:chOff x="0" y="4191120"/>
            <a:chExt cx="8763120" cy="2498760"/>
          </a:xfrm>
        </p:grpSpPr>
        <p:sp>
          <p:nvSpPr>
            <p:cNvPr id="554" name=""/>
            <p:cNvSpPr/>
            <p:nvPr/>
          </p:nvSpPr>
          <p:spPr>
            <a:xfrm>
              <a:off x="0" y="4191120"/>
              <a:ext cx="87631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Integr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ara  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   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t=0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676600" y="5105520"/>
                  <a:ext cx="363204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"/>
            <p:cNvSpPr/>
            <p:nvPr/>
          </p:nvSpPr>
          <p:spPr>
            <a:xfrm>
              <a:off x="7620120" y="5638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2514600"/>
            <a:ext cx="9144000" cy="1539720"/>
            <a:chOff x="0" y="2514600"/>
            <a:chExt cx="9144000" cy="1539720"/>
          </a:xfrm>
        </p:grpSpPr>
        <p:sp>
          <p:nvSpPr>
            <p:cNvPr id="558" name=""/>
            <p:cNvSpPr/>
            <p:nvPr/>
          </p:nvSpPr>
          <p:spPr>
            <a:xfrm>
              <a:off x="0" y="251460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ordena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381880" y="32004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2579760" y="2529000"/>
                  <a:ext cx="3882960" cy="152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∫"/>
                                    </m:naryPr>
                                    <m:sub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Bo</m:t>
                                          </m:r>
                                        </m:sub>
                                      </m:sSub>
                                    </m:sub>
                                    <m:sup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B</m:t>
                                          </m:r>
                                        </m:sub>
                                      </m:sSub>
                                    </m:sup>
                                    <m:e>
                                      <m:f>
                                        <m:num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C</m:t>
                                          </m:r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p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nary>
                                </m:e>
                              </m:d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51055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 expresión permitiría determinar el tiempo necesario para alcanzar una determinada concentración, si se conoce A y una expresión del fl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85800" y="533520"/>
            <a:ext cx="8001000" cy="2041560"/>
            <a:chOff x="685800" y="533520"/>
            <a:chExt cx="8001000" cy="2041560"/>
          </a:xfrm>
        </p:grpSpPr>
        <p:sp>
          <p:nvSpPr>
            <p:cNvPr id="563" name=""/>
            <p:cNvSpPr/>
            <p:nvPr/>
          </p:nvSpPr>
          <p:spPr>
            <a:xfrm>
              <a:off x="685800" y="533520"/>
              <a:ext cx="800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Si el rechazo es total, ie, no se deja pasar nada  del sólido, C</a:t>
              </a:r>
              <a:r>
                <a:rPr b="0" lang="es-ES" sz="2000" spc="-1" strike="noStrike" baseline="-25000">
                  <a:solidFill>
                    <a:srgbClr val="000099"/>
                  </a:solidFill>
                  <a:latin typeface="Comic Sans MS"/>
                </a:rPr>
                <a:t>p</a:t>
              </a: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 =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"/>
                <p:cNvSpPr txBox="1"/>
                <p:nvPr/>
              </p:nvSpPr>
              <p:spPr>
                <a:xfrm>
                  <a:off x="2743200" y="990720"/>
                  <a:ext cx="315432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d>
                                    <m:dPr>
                                      <m:begChr m:val="{"/>
                                      <m:endChr m:val="}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nary>
                                        <m:naryPr>
                                          <m:chr m:val="∫"/>
                                        </m:naryPr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Bo</m:t>
                                              </m:r>
                                            </m:sub>
                                          </m:sSub>
                                        </m:sub>
                                        <m:sup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sup>
                                        <m:e/>
                                      </m:nary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sup>
                              </m:s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nary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dC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5" name=""/>
            <p:cNvSpPr/>
            <p:nvPr/>
          </p:nvSpPr>
          <p:spPr>
            <a:xfrm>
              <a:off x="75438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0" y="2666880"/>
            <a:ext cx="8763120" cy="2021040"/>
            <a:chOff x="0" y="2666880"/>
            <a:chExt cx="8763120" cy="2021040"/>
          </a:xfrm>
        </p:grpSpPr>
        <p:sp>
          <p:nvSpPr>
            <p:cNvPr id="567" name=""/>
            <p:cNvSpPr/>
            <p:nvPr/>
          </p:nvSpPr>
          <p:spPr>
            <a:xfrm>
              <a:off x="0" y="2666880"/>
              <a:ext cx="876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alizando un cambio de variables a (1/C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2637000" y="3297240"/>
                  <a:ext cx="352080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85800" y="533520"/>
            <a:ext cx="8001000" cy="1326960"/>
            <a:chOff x="685800" y="533520"/>
            <a:chExt cx="8001000" cy="1326960"/>
          </a:xfrm>
        </p:grpSpPr>
        <p:sp>
          <p:nvSpPr>
            <p:cNvPr id="571" name=""/>
            <p:cNvSpPr/>
            <p:nvPr/>
          </p:nvSpPr>
          <p:spPr>
            <a:xfrm>
              <a:off x="685800" y="5335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99"/>
                  </a:solidFill>
                  <a:latin typeface="Comic Sans MS"/>
                </a:rPr>
                <a:t>Recordando 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52680" y="914400"/>
                  <a:ext cx="1886040" cy="94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0" y="2057400"/>
            <a:ext cx="8763120" cy="3447000"/>
            <a:chOff x="0" y="2057400"/>
            <a:chExt cx="8763120" cy="3447000"/>
          </a:xfrm>
        </p:grpSpPr>
        <p:sp>
          <p:nvSpPr>
            <p:cNvPr id="574" name=""/>
            <p:cNvSpPr/>
            <p:nvPr/>
          </p:nvSpPr>
          <p:spPr>
            <a:xfrm>
              <a:off x="0" y="2057400"/>
              <a:ext cx="876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se reemplaza “J” y se realiza la integración se pueden determinar “t” o “A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5105520"/>
              <a:ext cx="876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Gráfica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20120" y="3733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Comic Sans MS"/>
                </a:rPr>
                <a:t>(1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7" name=""/>
                <p:cNvSpPr txBox="1"/>
                <p:nvPr/>
              </p:nvSpPr>
              <p:spPr>
                <a:xfrm>
                  <a:off x="1508040" y="2790720"/>
                  <a:ext cx="5127840" cy="205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n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G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B</m:t>
                                              </m:r>
                                            </m:sub>
                                          </m:sSub>
                                        </m:den>
                                      </m:f>
                                    </m:e>
                                  </m:d>
                                </m:den>
                              </m:f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1981080" y="1481040"/>
          <a:ext cx="54104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481040"/>
                    <a:ext cx="54104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0" name=""/>
          <p:cNvGrpSpPr/>
          <p:nvPr/>
        </p:nvGrpSpPr>
        <p:grpSpPr>
          <a:xfrm>
            <a:off x="4952880" y="838080"/>
            <a:ext cx="3886200" cy="1828800"/>
            <a:chOff x="4952880" y="838080"/>
            <a:chExt cx="3886200" cy="1828800"/>
          </a:xfrm>
        </p:grpSpPr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4952880" y="1066680"/>
                  <a:ext cx="35211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t</m:t>
                          </m:r>
                          <m:r>
                            <m:t xml:space="preserve">⋅</m:t>
                          </m:r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</m:t>
                          </m:r>
                        </m:sub>
                      </m:sSub>
                      <m:r>
                        <m:t xml:space="preserve">⋅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sub>
                        <m:sup>
                          <m:r>
                            <m:t xml:space="preserve">1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o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</m:e>
                      </m:nary>
                      <m:r>
                        <m:t xml:space="preserve">d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82" name=""/>
            <p:cNvSpPr/>
            <p:nvPr/>
          </p:nvSpPr>
          <p:spPr>
            <a:xfrm>
              <a:off x="6172200" y="838080"/>
              <a:ext cx="2666880" cy="1828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H="1">
            <a:off x="4419360" y="2743200"/>
            <a:ext cx="2819160" cy="990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457200"/>
            <a:ext cx="861048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jemplo1  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oncentrar una solución de proteína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% a 10%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peso. Por cada día de producción se tienen 4 horas de tiempo muerto (limpieza, descarga, etc.), luego el tiempo de operación es de 20 horas por d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alizaron pruebas de laboratorio utilizando una unidad de ultrafiltración de fibra hueca con tubo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0,012 [m] de diámetr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y 1,2 [m] de larg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datos de laboratorio muestran que para una caída de presión (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TM) de 1,5 [Kg/c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 y un flujo de recirculación de 8 [L/min], el flux en [L/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] está dado por la expresión  (C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n %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e el área de ultrafiltración necesaria para concentrar los 10 [m</a:t>
            </a:r>
            <a:r>
              <a:rPr b="0" lang="es-C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día] de la solución de proteínas en el equipo de ultrafiltración de fibra hueca considerando que el flux está dado por la expresión anterior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67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3429000" y="4191120"/>
                <a:ext cx="19177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30146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un sistema de Micro-Ultra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a50021"/>
                </a:solidFill>
                <a:uFillTx/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4674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09480" y="371520"/>
            <a:ext cx="7848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 los límites de integración son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1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te caso, los datos entreg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 = 20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ln(15/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[L/h m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124080" y="914400"/>
                <a:ext cx="3521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sub>
                    </m:sSub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  <m:sup>
                        <m:r>
                          <m:t xml:space="preserve">1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nary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FIL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Descripción del funcionamiento de una planta de micro-filtración&#10;&#10;tangencial"/>
          <p:cNvPicPr/>
          <p:nvPr/>
        </p:nvPicPr>
        <p:blipFill>
          <a:blip r:embed="rId1"/>
          <a:stretch/>
        </p:blipFill>
        <p:spPr>
          <a:xfrm>
            <a:off x="395280" y="1484280"/>
            <a:ext cx="6635880" cy="481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371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2819520" y="380880"/>
          <a:ext cx="5715000" cy="21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0880"/>
                    <a:ext cx="57150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09480" y="762120"/>
                <a:ext cx="19144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*ln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0" y="2666880"/>
            <a:ext cx="6858000" cy="3638520"/>
            <a:chOff x="0" y="2666880"/>
            <a:chExt cx="6858000" cy="3638520"/>
          </a:xfrm>
        </p:grpSpPr>
        <p:grpSp>
          <p:nvGrpSpPr>
            <p:cNvPr id="597" name=""/>
            <p:cNvGrpSpPr/>
            <p:nvPr/>
          </p:nvGrpSpPr>
          <p:grpSpPr>
            <a:xfrm>
              <a:off x="0" y="2666880"/>
              <a:ext cx="6858000" cy="3638520"/>
              <a:chOff x="0" y="2666880"/>
              <a:chExt cx="6858000" cy="363852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0" y="2666880"/>
              <a:ext cx="6858000" cy="36385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2666880"/>
                        <a:ext cx="6858000" cy="363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600" name=""/>
                  <p:cNvSpPr txBox="1"/>
                  <p:nvPr/>
                </p:nvSpPr>
                <p:spPr>
                  <a:xfrm>
                    <a:off x="3048120" y="2985840"/>
                    <a:ext cx="3524040" cy="1390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sub>
                        </m:sSub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01" name=""/>
            <p:cNvSpPr/>
            <p:nvPr/>
          </p:nvSpPr>
          <p:spPr>
            <a:xfrm>
              <a:off x="2972880" y="496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33667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0432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781680" y="3352680"/>
            <a:ext cx="23623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V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C</a:t>
            </a:r>
            <a:r>
              <a:rPr b="1" lang="es-ES" sz="2400" spc="-1" strike="noStrike" baseline="-25000">
                <a:solidFill>
                  <a:srgbClr val="cc0000"/>
                </a:solidFill>
                <a:latin typeface="Times New Roman"/>
              </a:rPr>
              <a:t>BO</a:t>
            </a: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*I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Times New Roman"/>
              </a:rPr>
              <a:t>A =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1,6 m </a:t>
            </a:r>
            <a:r>
              <a:rPr b="1" lang="en-US" sz="24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609480"/>
            <a:ext cx="8229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generales de las operaciones de memb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operaciones de membranas son varias y se diferencian por los tamaños de partícula que pueden separar y por la fuerza impulsora que provoca el paso del fluido a través de la membrana. A pesar de esto las características de las membranas son sim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rmiten concentrar in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medios filtrantes o membranas son delgadas y micropo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poros son pequeños, lo cual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aja 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 resistencia,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alta (inverso al caso de filtración tradicional R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quieren de una limpieza perió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066680"/>
            <a:ext cx="4876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ienen 2 c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elículas delgada y densa (0.1 a 1.5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. Zon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bestructura microporosa de 0.1  a 1 mm con aberturas progresivas. Zon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04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membranas anisotróp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752480"/>
            <a:ext cx="1828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495680" y="251424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303960" y="990720"/>
            <a:ext cx="258588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419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304920" y="533520"/>
            <a:ext cx="8381880" cy="3200400"/>
            <a:chOff x="304920" y="533520"/>
            <a:chExt cx="8381880" cy="3200400"/>
          </a:xfrm>
        </p:grpSpPr>
        <p:sp>
          <p:nvSpPr>
            <p:cNvPr id="69" name=""/>
            <p:cNvSpPr/>
            <p:nvPr/>
          </p:nvSpPr>
          <p:spPr>
            <a:xfrm>
              <a:off x="304920" y="533520"/>
              <a:ext cx="82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Características de los Filtros microporo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05320" y="1143000"/>
              <a:ext cx="5181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iltros microporosos no presentan una distribución muy homogénea de tamaño, lo cual implica un rango de retención de partículas.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14400" y="990720"/>
              <a:ext cx="2365200" cy="27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6194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3T21:49:09Z</dcterms:modified>
  <cp:revision>98</cp:revision>
  <dc:subject/>
  <dc:title>Separación Sólido-Líquido</dc:title>
</cp:coreProperties>
</file>