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9F2-8B8A-483A-9F74-4B1B8E26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E00-F23B-484C-83F5-2CF3F267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817-6EA4-4DAF-AA7E-77B5F9FD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41B-F76F-405B-A12F-C1068AAF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49C-0524-4294-8964-3661822B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3CB-AE7B-4DFA-9E47-B60D0456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8F6-6907-47E0-BD5A-1B792702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7B0-457D-4C9A-8A65-154FA9E0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9AF-A3AD-48F5-B983-8C2146B9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63F-D1FA-4589-BC83-532660E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682-E24F-461B-8D06-621D4C5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204-4539-414B-9DA2-9230FF4F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DB06-4C20-4E91-841F-EF4FB8DB98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1T17:08:21Z</dcterms:modified>
  <cp:revision>99</cp:revision>
  <dc:subject/>
  <dc:title>Separación Sólido-Líquido</dc:title>
</cp:coreProperties>
</file>