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412-2CC9-4B7A-B389-03EB1B91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DCB-F859-47DE-B76D-4AAB4DCA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9AD-28BD-4ADF-BA89-F209FD5D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2F1-7132-4033-A887-8E06F5AD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FCF-CCF5-4C63-992A-CB2E8BC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B66-9ED5-4713-AF27-6225781B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A25-02EF-4F36-86DC-6DA229FC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589-D47B-4928-941A-F0C29FC2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106-B8A2-4922-B3EB-36108C82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46B-1A9A-4CBD-A9F6-07B81F2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88C-4B1B-422B-8E61-91303810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141-7501-4DC2-9EFF-DF2C89F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F4FE-5683-413E-9966-2523BF8A45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1T17:08:21Z</dcterms:modified>
  <cp:revision>99</cp:revision>
  <dc:subject/>
  <dc:title>Separación Sólido-Líquido</dc:title>
</cp:coreProperties>
</file>