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9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8E73-0DEC-4CD6-979B-8E2875C69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FB50-0A8A-45C2-BDF9-6C02CAF53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E96-AF52-4FD5-8F99-20972548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5774-8850-41B7-A829-AEA9559A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4D92-373A-42D9-81D0-5A20E423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14FE-E68C-4FC8-B7C1-DDE76305F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7CBD-F79A-4E1B-9D7C-7D5EFA0AF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E4FDC-9011-4D35-920C-E232650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60F-E96D-4DB9-923B-630BEAC5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6EEEC-BDA2-42D4-BFE3-6A13BFBC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E4D4-082E-471B-877D-3F9DB64D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2D6-681F-4C2B-8223-3C8C8D3F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7A39-96E8-4AE1-803E-BD0747C38DB9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Separación Sólido-Líquid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Times New Roman"/>
              </a:rPr>
              <a:t>Filtr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66"/>
                </a:solidFill>
                <a:latin typeface="Times New Roman"/>
              </a:rPr>
              <a:t>Separación y Procesos Biotecnológico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80880" y="457200"/>
            <a:ext cx="4496040" cy="61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agul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duce cuando un conjunto de partículas coloidales (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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) que poseen carga superficial se mantienen en una suspensión estable, sin que se producta una sedim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a ayudar al proceso de sedimentación se adicionan agentes que modifican la carga superficial anulando las repulsiones y generando interacciones del tipo van der Waal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que se utilizan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ones polivalente Fe, Ca, 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mbios de pH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umen Fil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5334120" y="609480"/>
          <a:ext cx="3429000" cy="579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609480"/>
                    <a:ext cx="3429000" cy="579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74600"/>
            <a:ext cx="8534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Floc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romueve la formación de puentes de hidrógeno entre partículas adyacentes o coagulo. Con lo cual se forman redes que van atrapando al resto de las molé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agentes utilizados son polielectrólitos de alto peso molecular, del tipo catiónico, aniónico o neutro. De origen sintético o natural. Algunos ejemp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Sintético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Natur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crilamid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mid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aminas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Go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rivados de las Celulosas (CMC)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an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etilenimina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c. Algin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loruro de Polidialildimetil amonio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liglucosilami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14400" y="1600200"/>
            <a:ext cx="792468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 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umento en la velocidad de filtración, sedimentación y centrifug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 denatu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      </a:t>
            </a:r>
            <a:r>
              <a:rPr b="0" lang="es-ES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x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osibles efectos adversos en las etapas siguientes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74600"/>
            <a:ext cx="8534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dsor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oadyuvantes de filtración (ayudantes de filtración) son compuestos (tierras diatomeas o “kieselguhr”) que permiten mejorar la eficiencia de la filtración.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ementos  que presentan una alta poros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ilita la velocidad de filtración a través del lech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914400" y="2286000"/>
          <a:ext cx="6989760" cy="43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286000"/>
                    <a:ext cx="6989760" cy="43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174600"/>
            <a:ext cx="8534520" cy="56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n aplicar de dos maner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-recubrimiento del medio filtrante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para evitar el bloqueo del filtro por los sólidos que de otra manera se apelotonarían en los poros del medio filtra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buClr>
                <a:srgbClr val="3333cc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añadir al caldo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fermentación con el fin de aumentar la porosidad de la torta a medida que se ha formand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comienda cuando el producto es extracel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trata de un producto intracelular se debe hacer un postratamiento (desorción de las célula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4600"/>
            <a:ext cx="35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776160" y="214200"/>
            <a:ext cx="759168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246240" y="380880"/>
          <a:ext cx="4351320" cy="5791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6240" y="380880"/>
                    <a:ext cx="4351320" cy="579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4952880" y="1219320"/>
            <a:ext cx="3353040" cy="55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Costo de las tierras diatomeas, se debe determinar la cantidad experimentalmen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Adsorben líquido, si el producto es extracelular se pierde una part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Disminuye la claridad del filtr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La deposición de desechos de material celular es más difícil si contiene este tipo de agentes.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74600"/>
            <a:ext cx="7086600" cy="62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de un filtro batch se basa en la Ley de Darcy, donde se determina la velocidad, v, de un fluido al pasar por un lecho sólido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me mantiene un Reyno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: constante de permeabilidad de la ley de Dar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: Caída de presión en 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: Ancho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Viscosidad del lech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: Diámetro de la partícu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l líqu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 Fracción de huecos en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2438280" y="2133720"/>
                <a:ext cx="1447920" cy="91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5181480" y="2362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90920" y="3581280"/>
                <a:ext cx="162864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5105520" y="38862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6019920" y="2286000"/>
          <a:ext cx="312408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2286000"/>
                    <a:ext cx="312408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174600"/>
            <a:ext cx="8382240" cy="38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B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puede calcular la velocidad v,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:Volumen total de filtrado desde el comienzo del cic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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rea transversal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:Flujo de líquido a través  del filt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olviendo a la ecuación (1), se puede definir la resistencia al paso del líqui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2133720" y="914400"/>
                <a:ext cx="1911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4648320" y="990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362320" y="3352680"/>
                <a:ext cx="205236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510552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419720"/>
            <a:ext cx="2971800" cy="14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Resistencia de la torta, que será función del Volumen filtrado (V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" y="4648320"/>
            <a:ext cx="2133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r>
              <a:rPr b="0" lang="es-MX" sz="16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del medio Filtrante, que es consta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0" y="5334120"/>
            <a:ext cx="990720" cy="75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4952520" y="4724280"/>
            <a:ext cx="129564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200400" y="40384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40384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049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752480" y="2514600"/>
                <a:ext cx="3381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1905120" y="914400"/>
                <a:ext cx="289692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380880" y="17524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Qu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77120" y="25146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4572000"/>
            <a:ext cx="8458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filtración de sólidos incompresibles es un proceso clásico y resulta sencillo, pero los m.o  presenta problemas. ¿Por qué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quiere de tratamientos adicionales que hagan el proceso  más rápido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609480"/>
            <a:ext cx="541044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ación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finició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paración del sólido desde el líquido que es forrazo (por presión o vacío) a pasar a través de un medio filtrante que retiene las partículas. Los sólidos se depositan en el filtro y a medida que el depósito (torta) aumenta de espesor  opone mayor resistencia  a l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5905440" y="533520"/>
          <a:ext cx="3238560" cy="28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5440" y="533520"/>
                    <a:ext cx="3238560" cy="28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174600"/>
            <a:ext cx="838224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In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ancho de la tort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roporcional al volumen filt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Inversamente proporcional al área de fil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: Masa de torta por unidad de volumen filtr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6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Resistencia específica de la tor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 esto la ecuación de diseño qued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2590920"/>
                <a:ext cx="289692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W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C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V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5791320" y="2895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00200" y="5257800"/>
                <a:ext cx="40766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α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601992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6477120" y="3124080"/>
          <a:ext cx="243828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3124080"/>
                    <a:ext cx="24382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0880" y="174600"/>
            <a:ext cx="8382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odifica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en condiciones donde t=0   V 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1676520" y="838080"/>
                <a:ext cx="32065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ΔP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474920" y="2552760"/>
                <a:ext cx="3611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ΔP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638680" y="8380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3276720"/>
            <a:ext cx="8610840" cy="2882880"/>
            <a:chOff x="838080" y="3276720"/>
            <a:chExt cx="8610840" cy="2882880"/>
          </a:xfrm>
        </p:grpSpPr>
        <p:sp>
          <p:nvSpPr>
            <p:cNvPr id="218" name=""/>
            <p:cNvSpPr/>
            <p:nvPr/>
          </p:nvSpPr>
          <p:spPr>
            <a:xfrm>
              <a:off x="4876920" y="4952880"/>
              <a:ext cx="1523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M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/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334120" y="3429000"/>
              <a:ext cx="15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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*t/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4680" y="57913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V/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21" name=""/>
                <p:cNvSpPr txBox="1"/>
                <p:nvPr/>
              </p:nvSpPr>
              <p:spPr>
                <a:xfrm>
                  <a:off x="838080" y="4572000"/>
                  <a:ext cx="223848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r>
                            <m:t xml:space="preserve">α</m:t>
                          </m:r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r>
                            <m:t xml:space="preserve">ΔP</m:t>
                          </m:r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grpSp>
          <p:nvGrpSpPr>
            <p:cNvPr id="222" name=""/>
            <p:cNvGrpSpPr/>
            <p:nvPr/>
          </p:nvGrpSpPr>
          <p:grpSpPr>
            <a:xfrm>
              <a:off x="6172200" y="3276720"/>
              <a:ext cx="2971800" cy="2361960"/>
              <a:chOff x="6172200" y="3276720"/>
              <a:chExt cx="2971800" cy="2361960"/>
            </a:xfrm>
          </p:grpSpPr>
          <p:sp>
            <p:nvSpPr>
              <p:cNvPr id="223" name=""/>
              <p:cNvSpPr/>
              <p:nvPr/>
            </p:nvSpPr>
            <p:spPr>
              <a:xfrm>
                <a:off x="6172200" y="3276720"/>
                <a:ext cx="2743200" cy="23619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V="1">
                <a:off x="6172200" y="3352320"/>
                <a:ext cx="2209680" cy="1752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7010280" y="4114800"/>
                <a:ext cx="456840" cy="304920"/>
                <a:chOff x="7010280" y="4114800"/>
                <a:chExt cx="456840" cy="3049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10280" y="4419720"/>
                  <a:ext cx="4568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467120" y="41148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7467480" y="4114800"/>
                <a:ext cx="1676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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*C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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P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3505320" y="4724280"/>
              <a:ext cx="76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0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2286000" y="1981080"/>
                <a:ext cx="2882880" cy="115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ε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685800" y="1066680"/>
            <a:ext cx="792468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Factor de compresibilidad</a:t>
            </a:r>
            <a:r>
              <a:rPr b="1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, </a:t>
            </a:r>
            <a:r>
              <a:rPr b="1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relaciona con las propiedades promedios de las partículas que forman la tort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85800" y="2819520"/>
            <a:ext cx="7924680" cy="18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K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: factor que depende de la forma de las partículas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: superficie específica de las partícu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porosidad de la torta, F(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Densidad de las particul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2286000" y="4419720"/>
                <a:ext cx="34290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uperficie de una partícul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990720" y="5562720"/>
                <a:ext cx="678960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olumen total de la torta- Volumen de sólidos en la tort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olumen de una partícul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5" name=""/>
          <p:cNvSpPr/>
          <p:nvPr/>
        </p:nvSpPr>
        <p:spPr>
          <a:xfrm>
            <a:off x="304920" y="0"/>
            <a:ext cx="86104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 las tortas </a:t>
            </a:r>
            <a:r>
              <a:rPr b="1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r>
              <a:rPr b="1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mpres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rán las tortas formadas por materiales biólogicos? ¿por qu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880" y="174600"/>
            <a:ext cx="83822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nalizando la dependencia con la presión se tiene que el Factor  de compresibilidad o resistencia específica de la torta, resulta s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MX" sz="18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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Constante relacionada con el tamaño y forma de la partícu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s: Compresibilidad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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In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orta altamente compresible, se requiere uso de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362320" y="2209680"/>
                <a:ext cx="1685880" cy="38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α</m:t>
                        </m:r>
                      </m:e>
                      <m:sup/>
                    </m:sSup>
                    <m:r>
                      <m:t xml:space="preserve">⋅</m:t>
                    </m:r>
                    <m:sSup>
                      <m:e>
                        <m:r>
                          <m:t xml:space="preserve">ΔP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5181480" y="2209680"/>
            <a:ext cx="6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80880" y="174600"/>
            <a:ext cx="838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Cómo se calcula la compresibilidad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camb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1371600" y="4419720"/>
                <a:ext cx="483084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P</m:t>
                        </m:r>
                        <m:r>
                          <m:t xml:space="preserve">⋅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μ</m:t>
                        </m:r>
                        <m:r>
                          <m:t xml:space="preserve">⋅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t xml:space="preserve">ΔP</m:t>
                                </m:r>
                              </m:e>
                              <m:sup>
                                <m:r>
                                  <m:t xml:space="preserve">s</m:t>
                                </m:r>
                              </m:sup>
                            </m:sSup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249" name=""/>
          <p:cNvGrpSpPr/>
          <p:nvPr/>
        </p:nvGrpSpPr>
        <p:grpSpPr>
          <a:xfrm>
            <a:off x="3352680" y="1066680"/>
            <a:ext cx="2819160" cy="1981440"/>
            <a:chOff x="3352680" y="1066680"/>
            <a:chExt cx="2819160" cy="1981440"/>
          </a:xfrm>
        </p:grpSpPr>
        <p:sp>
          <p:nvSpPr>
            <p:cNvPr id="250" name=""/>
            <p:cNvSpPr/>
            <p:nvPr/>
          </p:nvSpPr>
          <p:spPr>
            <a:xfrm>
              <a:off x="3352680" y="1066680"/>
              <a:ext cx="2602440" cy="19814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3352680" y="1130400"/>
              <a:ext cx="2096280" cy="1470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4147560" y="1769760"/>
              <a:ext cx="433080" cy="255600"/>
              <a:chOff x="4147560" y="1769760"/>
              <a:chExt cx="433080" cy="255600"/>
            </a:xfrm>
          </p:grpSpPr>
          <p:sp>
            <p:nvSpPr>
              <p:cNvPr id="253" name=""/>
              <p:cNvSpPr/>
              <p:nvPr/>
            </p:nvSpPr>
            <p:spPr>
              <a:xfrm>
                <a:off x="4147560" y="2025360"/>
                <a:ext cx="43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580640" y="1769760"/>
                <a:ext cx="0" cy="255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>
              <a:off x="4581360" y="176976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a50021"/>
                  </a:solidFill>
                  <a:latin typeface="Comic Sans MS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5257800" y="32004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12952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og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858000" y="4572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819520" y="2514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Log </a:t>
            </a:r>
            <a:r>
              <a:rPr b="1" lang="en-US" sz="1800" spc="-1" strike="noStrike">
                <a:solidFill>
                  <a:srgbClr val="a50021"/>
                </a:solidFill>
                <a:latin typeface="Symbol"/>
                <a:ea typeface="Symbol"/>
              </a:rPr>
              <a:t></a:t>
            </a:r>
            <a:r>
              <a:rPr b="1" lang="en-US" sz="1800" spc="-1" strike="noStrike">
                <a:solidFill>
                  <a:srgbClr val="a50021"/>
                </a:solidFill>
                <a:latin typeface="Comic Sans MS"/>
              </a:rPr>
              <a:t>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390528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97656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843360" y="31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2436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80880" y="174600"/>
            <a:ext cx="8382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Integrando y reordenand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467480" y="1295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3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209680" y="3581280"/>
            <a:ext cx="5572080" cy="876240"/>
            <a:chOff x="2209680" y="3581280"/>
            <a:chExt cx="5572080" cy="876240"/>
          </a:xfrm>
        </p:grpSpPr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2209680" y="3581280"/>
                  <a:ext cx="2354040" cy="876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μ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α</m:t>
                              </m:r>
                            </m:e>
                            <m:sup/>
                          </m:sSup>
                          <m:r>
                            <m:t xml:space="preserve">⋅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2</m:t>
                          </m:r>
                          <m:r>
                            <m:t xml:space="preserve">⋅</m:t>
                          </m:r>
                          <m:sSup>
                            <m:e>
                              <m:r>
                                <m:t xml:space="preserve">ΔP</m:t>
                              </m:r>
                            </m:e>
                            <m:sup>
                              <m:r>
                                <m:t xml:space="preserve">(</m:t>
                              </m:r>
                              <m:r>
                                <m:t xml:space="preserve">1</m:t>
                              </m:r>
                              <m:r>
                                <m:t xml:space="preserve">−</m:t>
                              </m:r>
                              <m:r>
                                <m:t xml:space="preserve">s</m:t>
                              </m:r>
                              <m:r>
                                <m:t xml:space="preserve">)</m:t>
                              </m:r>
                            </m:sup>
                          </m:sSup>
                        </m:den>
                      </m:f>
                      <m:r>
                        <m:t xml:space="preserve">⋅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V</m:t>
                                  </m:r>
                                </m:num>
                                <m:den>
                                  <m:r>
                                    <m:t xml:space="preserve">A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68" name=""/>
            <p:cNvSpPr/>
            <p:nvPr/>
          </p:nvSpPr>
          <p:spPr>
            <a:xfrm>
              <a:off x="6867360" y="36572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Comic Sans MS"/>
                </a:rPr>
                <a:t>(14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1752480" y="1066680"/>
                <a:ext cx="498636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α</m:t>
                        </m:r>
                        <m:r>
                          <m:t xml:space="preserve">∗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V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μ</m:t>
                        </m:r>
                      </m:num>
                      <m:den>
                        <m:r>
                          <m:t xml:space="preserve">Δ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609480" y="2971800"/>
            <a:ext cx="51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la resistencia del medio es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0880" y="533520"/>
            <a:ext cx="845820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racterización en Labora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han realizado ensayos de laboratorio con un filtro batch de 3 c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área, los que han demostrado que pueden filtrarse </a:t>
            </a: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30 mL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4.5 min con una caída de presión de 5 psi, y que la torta de microorganismos es compresible con s = 0,5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artir de los datos de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sayo de labor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3657600" y="2971800"/>
          <a:ext cx="5114880" cy="33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2971800"/>
                    <a:ext cx="5114880" cy="33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250920" y="4941720"/>
            <a:ext cx="3816360" cy="146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 Si se desean filtrar 500 litros  del caldo en 1 hora. ¿ Qué tamaño de filtro se necesita si la caída de presión es 5 y 10 psi? CO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4211640" y="765000"/>
                <a:ext cx="23544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174600"/>
            <a:ext cx="7086600" cy="50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arámetros de Diseño del Fil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do: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: </a:t>
            </a:r>
            <a:r>
              <a:rPr b="0" lang="es-ES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istencia del medio: R</a:t>
            </a:r>
            <a:r>
              <a:rPr b="0" lang="es-ES" sz="20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racterísticas del sistema a filt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mpresibi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torta por volumen de filt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80880" y="174600"/>
            <a:ext cx="8763120" cy="71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jemplo 2 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	</a:t>
            </a: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Batch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caracterizar las resistencias tanto de un medio filtrante como la resistencia de la torta que se forma al filtrar una suspensión de levaduras. Para ello se llevaron a cabo diferentes pruebas de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características del sistema fuer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Área de filtración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9.3 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iscosidad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001 N s/m</a:t>
            </a:r>
            <a:r>
              <a:rPr b="1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asa de sólido seco por volumen de filtrado : 10 g/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pruebas se realizaron a 4 caídas de presión diferentes. Los datos de cada corrida fueron correlacionados con la ecuación de diseño obteniéndose  los siguientes resultado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ída de Presión,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Rm/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20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C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2 </a:t>
            </a:r>
            <a:r>
              <a:rPr b="0" lang="es-ES_tradnl" sz="2000" spc="-1" strike="noStrike">
                <a:solidFill>
                  <a:srgbClr val="3333cc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At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]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[s/c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0.6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36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04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8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40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5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 Atm =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0880" y="990720"/>
            <a:ext cx="830592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n base a estos dat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 la torta y el índice de compresibilidad de la t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e la resistencia del 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n procesar 3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una suspensión, igual  a la antes estudiada, para ello se utilizara un filtro prensa con 5 m</a:t>
            </a:r>
            <a:r>
              <a:rPr b="0" lang="es-ES_tradnl" sz="20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 área y una caída de presión de 2,5 Atm. Determine el tiempo necesario para dicha filt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Ba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343400" y="1600200"/>
            <a:ext cx="450864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0" y="1828800"/>
          <a:ext cx="4419720" cy="332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28800"/>
                    <a:ext cx="4419720" cy="33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095880" cy="47642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057400" y="380880"/>
            <a:ext cx="4572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 (Rotato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28600" y="106200"/>
            <a:ext cx="8915400" cy="34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cuaciones de Diseño de Fil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s Contin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proceso de filtración consiste en 3 etap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3.- Descarte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495440" y="4019400"/>
                <a:ext cx="25462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/>
                        </m:sSup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t xml:space="preserve">ΔP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r>
                              <m:t xml:space="preserve">)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f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502920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920" y="2922480"/>
            <a:ext cx="7162560" cy="38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1.-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onsiderando tortas compre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y resistencia del medio despreci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el tiempo de formación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el filtrado colectad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029200" y="1447920"/>
          <a:ext cx="411480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1447920"/>
                    <a:ext cx="411480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"/>
          <p:cNvSpPr/>
          <p:nvPr/>
        </p:nvSpPr>
        <p:spPr>
          <a:xfrm>
            <a:off x="5410080" y="50292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Times New Roman"/>
              </a:rPr>
              <a:t>Velocidades de rotación bajas : 0.1-2 r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228600" y="533520"/>
            <a:ext cx="891540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 se considera que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 sólo una fracción del tiempo total del ciclo de filtrac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f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=  </a:t>
            </a: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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* 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c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Wingdings"/>
                <a:ea typeface="Wingdings"/>
              </a:rPr>
              <a:t>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a50021"/>
                </a:solidFill>
                <a:latin typeface="Comic Sans MS"/>
                <a:ea typeface="Times New Roman"/>
              </a:rPr>
              <a:t>Depende de la velocidad de ROTACION del Fil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ecuación de Diseño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124080" y="2666880"/>
                <a:ext cx="28353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β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ΔP</m:t>
                                    </m:r>
                                  </m:e>
                                  <m:sup>
                                    <m:r>
                                      <m:t xml:space="preserve">1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μ</m:t>
                                </m:r>
                                <m:r>
                                  <m:t xml:space="preserve">⋅</m:t>
                                </m:r>
                                <m:s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p/>
                                </m:sSup>
                                <m:r>
                                  <m:t xml:space="preserve">⋅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⋅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28600" y="3886200"/>
            <a:ext cx="89154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¿ Cómo se puede modificar el tiempo de formación de la tort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2971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8600" y="533520"/>
            <a:ext cx="8915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2.- Lavado de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 torta contiene una cantidad significativa de solución rica en líquido de cultiv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objetivo de lavar cumple c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Remover la solución rica atrapada en los poros del filt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Permite la difusión del soluto fuero de la bioma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as variables que se manejan en el lavado so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Cantidad de agua requerida para el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- Tiempo necesari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04920"/>
            <a:ext cx="8686800" cy="644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antidad de agu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 controlada por la fracción de material soluble remanente en la torta des´pués del lav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lación empi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 0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lavó completam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MX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= (1-</a:t>
            </a:r>
            <a:r>
              <a:rPr b="1" lang="es-MX" sz="2000" spc="-1" strike="noStrike">
                <a:solidFill>
                  <a:srgbClr val="3333cc"/>
                </a:solidFill>
                <a:latin typeface="Symbol"/>
                <a:ea typeface="Symbol"/>
              </a:rPr>
              <a:t></a:t>
            </a:r>
            <a:r>
              <a:rPr b="1" lang="es-MX" sz="2000" spc="-1" strike="noStrike" baseline="30000">
                <a:solidFill>
                  <a:srgbClr val="3333cc"/>
                </a:solidFill>
                <a:latin typeface="Symbol"/>
                <a:ea typeface="Symbol"/>
              </a:rPr>
              <a:t>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=1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o fue út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 : razón entre la cantidad de material soluble en la to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:  volumen de líquido de lavado (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)/ volumen de líquido remanente en la torta (V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N= 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V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Symbol"/>
                <a:ea typeface="Symbol"/>
              </a:rPr>
              <a:t>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Eficiencia, función del p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desea determinar “N” y desde allí el volumen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9880" y="304812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(17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457200" y="609480"/>
            <a:ext cx="7924680" cy="51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Tiempo de lavado, t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l líquido de lavado no adicionado sólidos, así el flujo de lavado debe ser constante e igual al flujo de filtrante al final de la formación de la tort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cumple qu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o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t</a:t>
            </a:r>
            <a:r>
              <a:rPr b="0" lang="es-MX" sz="1800" spc="-1" strike="noStrike" baseline="-25000">
                <a:solidFill>
                  <a:srgbClr val="3333cc"/>
                </a:solidFill>
                <a:latin typeface="Comic Sans MS"/>
                <a:ea typeface="Times New Roman"/>
              </a:rPr>
              <a:t>w</a:t>
            </a:r>
            <a:r>
              <a:rPr b="0" lang="es-MX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: tiempo de lav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55720" y="3571920"/>
                <a:ext cx="404964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r>
                          <m:t xml:space="preserve">V</m:t>
                        </m:r>
                        <m:sPre>
                          <m:sub>
                            <m:r>
                              <m:t xml:space="preserve">f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/>
                            </m:r>
                          </m:e>
                        </m:sPre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6858000" y="3886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(1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04920" y="304920"/>
            <a:ext cx="8534160" cy="47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Ejempl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Filtro rotato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está utilizando un filtro rotatorio de vacío para filtrar una suspensión de bacterias. El filtro posee un diámetro de 1,5 m y un ancho de 1,2 m. La caída de presión se mantiene constante a 4,5 psi y el filtro opera con el 30% de la tela filtrante sumergida. La resistencia debido al medio filtrante puede considerarse despreciabl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Comic Sans M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stimar el área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de suspensión en 1 hora. Asuma que el sistema tiene las características son tales que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(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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3333cc"/>
                </a:solidFill>
                <a:latin typeface="Symbol"/>
                <a:ea typeface="Symbol"/>
              </a:rPr>
              <a:t>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* 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) = 8209 (s *psi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0.4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b)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 </a:t>
            </a:r>
            <a:r>
              <a:rPr b="0" lang="es-ES_tradnl" sz="1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	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cular la velocidad de rotación del tambor, en rph, necesaria para filtrar 20 m</a:t>
            </a:r>
            <a:r>
              <a:rPr b="0" lang="es-ES_tradnl" sz="1800" spc="-1" strike="noStrike" baseline="30000">
                <a:solidFill>
                  <a:srgbClr val="3333cc"/>
                </a:solidFill>
                <a:latin typeface="Comic Sans MS"/>
                <a:ea typeface="Times New Roman"/>
              </a:rPr>
              <a:t>3</a:t>
            </a: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/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304920" y="304920"/>
            <a:ext cx="8534160" cy="32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 de los fil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3333cc"/>
                </a:solidFill>
                <a:uFillTx/>
                <a:latin typeface="Arial"/>
                <a:ea typeface="Arial"/>
              </a:rPr>
              <a:t>Costos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os costos dependen directamente del área de filtrado, A, e incluyen accesorios como bombas y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Arial"/>
                <a:ea typeface="Arial"/>
              </a:rPr>
              <a:t>La información se puede obtener en catálogos o por estimaciones desde libros como Perry Manual del Ing. Quím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2819520"/>
            <a:ext cx="32763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33"/>
                </a:solidFill>
                <a:uFillTx/>
                <a:latin typeface="Comic Sans MS"/>
              </a:rPr>
              <a:t>Costos Varia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33"/>
                </a:solidFill>
                <a:latin typeface="Comic Sans MS"/>
              </a:rPr>
              <a:t>Depende de la presión de trabajo, lo cual se traduce en los gastos de las bomb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80880" y="6172200"/>
            <a:ext cx="29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  <a:ea typeface="Arial"/>
              </a:rPr>
              <a:t>Perry Manual del Ing. Quí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28600" y="2514600"/>
          <a:ext cx="427680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14600"/>
                    <a:ext cx="427680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57200" y="368280"/>
            <a:ext cx="816444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76320" y="1523880"/>
            <a:ext cx="9220320" cy="4662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905120" y="457200"/>
            <a:ext cx="601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de Placas y Marcos</a:t>
            </a: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6240" y="0"/>
            <a:ext cx="3525840" cy="419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524480" y="0"/>
          <a:ext cx="4619520" cy="2362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24480" y="0"/>
                    <a:ext cx="46195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57200" y="4124160"/>
          <a:ext cx="4114800" cy="273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124160"/>
                    <a:ext cx="4114800" cy="27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6172200" y="2438280"/>
          <a:ext cx="2400480" cy="4067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172200" y="2438280"/>
                    <a:ext cx="24004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90760" y="938160"/>
            <a:ext cx="4362480" cy="4981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760200" y="228600"/>
            <a:ext cx="1787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Tub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Deta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Equipos de Filtració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Continu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4915080" y="1752480"/>
            <a:ext cx="4228920" cy="3305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0" y="1523880"/>
          <a:ext cx="4591080" cy="349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23880"/>
                    <a:ext cx="4591080" cy="34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457200" y="5638680"/>
            <a:ext cx="69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Filtro Rotatorio al vací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"/>
          <p:cNvGrpSpPr/>
          <p:nvPr/>
        </p:nvGrpSpPr>
        <p:grpSpPr>
          <a:xfrm>
            <a:off x="228600" y="0"/>
            <a:ext cx="8915040" cy="6858000"/>
            <a:chOff x="228600" y="0"/>
            <a:chExt cx="8915040" cy="6858000"/>
          </a:xfrm>
        </p:grpSpPr>
        <p:grpSp>
          <p:nvGrpSpPr>
            <p:cNvPr id="68" name=""/>
            <p:cNvGrpSpPr/>
            <p:nvPr/>
          </p:nvGrpSpPr>
          <p:grpSpPr>
            <a:xfrm>
              <a:off x="233280" y="3240"/>
              <a:ext cx="8904960" cy="6850440"/>
              <a:chOff x="233280" y="3240"/>
              <a:chExt cx="8904960" cy="6850440"/>
            </a:xfrm>
          </p:grpSpPr>
          <p:grpSp>
            <p:nvGrpSpPr>
              <p:cNvPr id="69" name=""/>
              <p:cNvGrpSpPr/>
              <p:nvPr/>
            </p:nvGrpSpPr>
            <p:grpSpPr>
              <a:xfrm>
                <a:off x="233280" y="3240"/>
                <a:ext cx="8904960" cy="550440"/>
                <a:chOff x="233280" y="3240"/>
                <a:chExt cx="8904960" cy="550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277560" y="3240"/>
                  <a:ext cx="8816040" cy="550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Batch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22860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33280" y="3240"/>
                  <a:ext cx="8904960" cy="550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233280" y="553680"/>
                <a:ext cx="1861920" cy="1785600"/>
                <a:chOff x="233280" y="553680"/>
                <a:chExt cx="1861920" cy="1785600"/>
              </a:xfrm>
            </p:grpSpPr>
            <p:grpSp>
              <p:nvGrpSpPr>
                <p:cNvPr id="73" name=""/>
                <p:cNvGrpSpPr/>
                <p:nvPr/>
              </p:nvGrpSpPr>
              <p:grpSpPr>
                <a:xfrm>
                  <a:off x="277560" y="553680"/>
                  <a:ext cx="1775520" cy="1785600"/>
                  <a:chOff x="277560" y="553680"/>
                  <a:chExt cx="1775520" cy="1785600"/>
                </a:xfrm>
              </p:grpSpPr>
              <p:sp>
                <p:nvSpPr>
                  <p:cNvPr id="74" name=""/>
                  <p:cNvSpPr/>
                  <p:nvPr/>
                </p:nvSpPr>
                <p:spPr>
                  <a:xfrm>
                    <a:off x="277560" y="553680"/>
                    <a:ext cx="1775520" cy="916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Placas y Marcos Más Común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277560" y="1104120"/>
                    <a:ext cx="1775520" cy="1235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" name=""/>
                <p:cNvSpPr/>
                <p:nvPr/>
              </p:nvSpPr>
              <p:spPr>
                <a:xfrm>
                  <a:off x="233280" y="553680"/>
                  <a:ext cx="1861920" cy="1457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095560" y="553680"/>
                <a:ext cx="4310280" cy="1790280"/>
                <a:chOff x="2095560" y="553680"/>
                <a:chExt cx="4310280" cy="179028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140200" y="553680"/>
                  <a:ext cx="422064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ontiene septas de metal donde se form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tener un medio filtrante, Papel o Pañ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, pues se debe descargar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095560" y="553680"/>
                  <a:ext cx="43102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6406560" y="553680"/>
                <a:ext cx="2731680" cy="1790280"/>
                <a:chOff x="6406560" y="553680"/>
                <a:chExt cx="2731680" cy="17902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6450840" y="553680"/>
                  <a:ext cx="2642760" cy="179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Barat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o se puede utilizar con productos tóxicos ni gas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6406560" y="553680"/>
                  <a:ext cx="2731680" cy="179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33280" y="2344320"/>
                <a:ext cx="1861920" cy="964080"/>
                <a:chOff x="233280" y="2344320"/>
                <a:chExt cx="1861920" cy="9640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77560" y="2344320"/>
                  <a:ext cx="177300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lacas Horizont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33280" y="2344320"/>
                  <a:ext cx="186192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095560" y="2344320"/>
                <a:ext cx="4310280" cy="964080"/>
                <a:chOff x="2095560" y="2344320"/>
                <a:chExt cx="4310280" cy="9640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140200" y="2344320"/>
                  <a:ext cx="422064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 utiliza en pequeña esca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095560" y="2344320"/>
                  <a:ext cx="43102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6406560" y="2344320"/>
                <a:ext cx="2731680" cy="964080"/>
                <a:chOff x="6406560" y="2344320"/>
                <a:chExt cx="2731680" cy="96408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6450840" y="2344320"/>
                  <a:ext cx="2642760" cy="964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uede hacerse continuo, introduciendo una hoja que remueva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6406560" y="2344320"/>
                  <a:ext cx="2731680" cy="964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233280" y="3308400"/>
                <a:ext cx="1861920" cy="963720"/>
                <a:chOff x="233280" y="3308400"/>
                <a:chExt cx="1861920" cy="96372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277560" y="3308400"/>
                  <a:ext cx="177300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jas Verticales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233280" y="3308400"/>
                  <a:ext cx="186192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095560" y="3308400"/>
                <a:ext cx="4310280" cy="963720"/>
                <a:chOff x="2095560" y="3308400"/>
                <a:chExt cx="4310280" cy="96372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2140200" y="3308400"/>
                  <a:ext cx="422064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osee una alta área de filtración por volum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Intermitent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095560" y="3308400"/>
                  <a:ext cx="43102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406560" y="3308400"/>
                <a:ext cx="2731680" cy="963720"/>
                <a:chOff x="6406560" y="3308400"/>
                <a:chExt cx="2731680" cy="96372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450840" y="3308400"/>
                  <a:ext cx="2642760" cy="96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equiere poco superficie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406560" y="3308400"/>
                  <a:ext cx="2731680" cy="963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233280" y="4272480"/>
                <a:ext cx="1861920" cy="687960"/>
                <a:chOff x="233280" y="4272480"/>
                <a:chExt cx="1861920" cy="68796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277560" y="4272480"/>
                  <a:ext cx="177300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Tipo Vel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33280" y="4272480"/>
                  <a:ext cx="186192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2095560" y="4272480"/>
                <a:ext cx="4310280" cy="687960"/>
                <a:chOff x="2095560" y="4272480"/>
                <a:chExt cx="4310280" cy="68796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2140200" y="4272480"/>
                  <a:ext cx="422064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095560" y="4272480"/>
                  <a:ext cx="43102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406560" y="4272480"/>
                <a:ext cx="2731680" cy="687960"/>
                <a:chOff x="6406560" y="4272480"/>
                <a:chExt cx="2731680" cy="68796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450840" y="4272480"/>
                  <a:ext cx="2642760" cy="68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ácil de Lava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406560" y="4272480"/>
                  <a:ext cx="2731680" cy="687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" name=""/>
              <p:cNvGrpSpPr/>
              <p:nvPr/>
            </p:nvGrpSpPr>
            <p:grpSpPr>
              <a:xfrm>
                <a:off x="233280" y="4960440"/>
                <a:ext cx="8904960" cy="515880"/>
                <a:chOff x="233280" y="4960440"/>
                <a:chExt cx="8904960" cy="515880"/>
              </a:xfrm>
            </p:grpSpPr>
            <p:sp>
              <p:nvSpPr>
                <p:cNvPr id="111" name=""/>
                <p:cNvSpPr/>
                <p:nvPr/>
              </p:nvSpPr>
              <p:spPr>
                <a:xfrm>
                  <a:off x="277560" y="4960440"/>
                  <a:ext cx="8816040" cy="51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peración Continu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233280" y="4960440"/>
                  <a:ext cx="8904960" cy="51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233280" y="5476320"/>
                <a:ext cx="1861920" cy="1377360"/>
                <a:chOff x="233280" y="5476320"/>
                <a:chExt cx="1861920" cy="137736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77560" y="5476320"/>
                  <a:ext cx="177300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Filtros rotatorios a vacío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33280" y="5476320"/>
                  <a:ext cx="186192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095560" y="5476320"/>
                <a:ext cx="1807560" cy="1377360"/>
                <a:chOff x="2095560" y="5476320"/>
                <a:chExt cx="1807560" cy="137736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140200" y="5476320"/>
                  <a:ext cx="171828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ota a baja velocidad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El líquido es succionado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095560" y="5476320"/>
                  <a:ext cx="18075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3903840" y="5476320"/>
                <a:ext cx="2502360" cy="1377360"/>
                <a:chOff x="3903840" y="5476320"/>
                <a:chExt cx="2502360" cy="13773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3948480" y="5476320"/>
                  <a:ext cx="241272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Metodología más usa en Bioprocesos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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</a:t>
                  </a:r>
                  <a:r>
                    <a:rPr b="0" lang="es-E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 = 1 at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903840" y="5476320"/>
                  <a:ext cx="250236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6406560" y="5476320"/>
                <a:ext cx="2731680" cy="1377360"/>
                <a:chOff x="6406560" y="5476320"/>
                <a:chExt cx="2731680" cy="137736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6450840" y="5476320"/>
                  <a:ext cx="2642760" cy="1377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Proceso consiste en :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Forma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Lavado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- Recolección de la Tor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406560" y="5476320"/>
                  <a:ext cx="2731680" cy="1377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5" name=""/>
            <p:cNvSpPr/>
            <p:nvPr/>
          </p:nvSpPr>
          <p:spPr>
            <a:xfrm>
              <a:off x="228600" y="0"/>
              <a:ext cx="8915040" cy="6858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457200"/>
            <a:ext cx="84582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3333cc"/>
                </a:solidFill>
                <a:uFillTx/>
                <a:latin typeface="Comic Sans MS"/>
                <a:ea typeface="Times New Roman"/>
              </a:rPr>
              <a:t>PRETRATA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Los caldos de fermentación resultan ser fluidos no-newtonianos, por lo cual resultan ser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altamente compresibles,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y por ello difíciles de filtrar. Para mejorar esta condición se aplican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pretratamientos. 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Estos pueden ser de diferentes tip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	</a:t>
            </a:r>
            <a:r>
              <a:rPr b="1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1.-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Calentamiento</a:t>
            </a: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Resulta ser un mé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Económ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Mejora las características del fl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e utiliza para pasteur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esventaj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just">
              <a:lnSpc>
                <a:spcPct val="100000"/>
              </a:lnSpc>
              <a:buClr>
                <a:srgbClr val="3333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Sólo se puede aplicar si el producto es térmicamente estable.</a:t>
            </a:r>
            <a:r>
              <a:rPr b="0" lang="es-ES" sz="20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5300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1T22:24:41Z</dcterms:created>
  <dc:creator>Maria Elena Lienqueo C.</dc:creator>
  <dc:description/>
  <dc:language>en-US</dc:language>
  <cp:lastModifiedBy>Ing Quimica</cp:lastModifiedBy>
  <dcterms:modified xsi:type="dcterms:W3CDTF">2006-08-01T17:08:21Z</dcterms:modified>
  <cp:revision>99</cp:revision>
  <dc:subject/>
  <dc:title>Separación Sólido-Líquido</dc:title>
</cp:coreProperties>
</file>