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36B-E34F-4D4D-BAD0-5A77732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6CC-5FA4-416E-8818-FD788FA0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86F-007D-4A26-8DD3-4208533D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BC9-6D51-4E56-8016-2A0111A4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094-EA0E-4D4B-A017-7D7A2C5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A0B-C863-4A61-B308-5E81FB2D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B91-5AC5-4237-A043-7640785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22B-A42E-4661-ABE5-B1CE6CA5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6D6-2B3D-42AE-B6AB-141A158B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FAF-C525-420B-AE7E-CFE5F7C4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DD9-E743-4270-AC58-706489E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7C7-E169-472C-ACF5-604EB63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D745-E22D-4827-A8A0-3A326D8D20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1T17:08:21Z</dcterms:modified>
  <cp:revision>99</cp:revision>
  <dc:subject/>
  <dc:title>Separación Sólido-Líquido</dc:title>
</cp:coreProperties>
</file>