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0FC-C2E9-4B58-BCD4-883CDDF7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630-EB73-4177-92AC-9A95DFFE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D8E-1D30-4823-8F52-F87A4D55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781-9259-4461-96A0-A58A491F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A92-2289-4CF9-BA96-CDCE8F4A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123-91B0-4B0D-9838-23579158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F72-AB7C-43B6-BD6E-4AE3197B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0D1-28D8-4EFE-A346-5BDFA268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A60-CE48-4220-B217-9C436E48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335-32B2-43F4-A8EE-0012ADF3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290-ED9A-4841-9766-4F471E6B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7E8-2669-4A0E-BD51-2FB6877C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0E2E-62DF-4AF2-8DE9-02E7C95DA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4932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c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ogicos, especiale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ícos y recuperación de productos insolubles (cuerpos incluí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92" name="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3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239" name="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55" name="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7" name="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59" name="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60" name="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1" name="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75" name="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762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ón de  cé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élulas animales son cultivadas en la superficie de micro-esferas Esas esferas (microcarrier) tienen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2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ámetro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50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 Un fermentador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50 litros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es usado para el crecimiento de estas células en los microcarrier para producir una vacuna.  Después que las células han crecido, la agitación es detenida y los microcarrier comienzan a sedimentar.  El estanque tiene una razón entr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altura y diá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0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,1 cP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ó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4" name="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335" name="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ón discontinua de Cé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ífuga, que utiliza  botellas, es usada para colectar las células de levadura luego de una fermentación.  Durante la centrifugación la distancia entre la superficie del líquido y el eje de rotació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élulas de levadura se pueden asumir como partículas esféricas con un diá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á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á una separació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60" name="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95" name="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2838600" y="979560"/>
                <a:ext cx="44193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5720" y="30636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360" y="551664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551664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é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élulas serán cosechadas haciéndolas pasar a través de una centrí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ón de estas cé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ífuga tiene 80 discos con un ángulo de 40°, el radio externo es 15,7 cm y el diá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í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í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ámetro de escalamiento para el procesamiento de una suspensión con material celular. En el experimento se procesaron 3.3 [lt/min] de una suspensión de cé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ó una velocidad de rotació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ífuga para procesar 800 [lt/hr] de la misma suspensión antes mencionada. Para ello se cuenta con las siguientes alternativas de centrí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513" name="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534" name="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539" name="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544" name="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549" name="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3" name="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54" name="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57" name="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60" name="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63" name="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á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í su consumo energético está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89640" y="457200"/>
            <a:ext cx="52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ó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9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13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75" name="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6-08-01T17:14:05Z</dcterms:modified>
  <cp:revision>20</cp:revision>
  <dc:subject/>
  <dc:title>Centrifugación    Operación unitaria utilizada para la separación: sólido-líquido    líquido-líquido </dc:title>
</cp:coreProperties>
</file>