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D66-2397-438B-A561-E9B78CA3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8BE-3CC2-441D-8EE2-7F4CB51C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6BBE-DC4D-45FD-AE5A-5BEBBEEA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82E-3C2E-4F3D-ABDF-903F298A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5DB-5991-405C-8221-796C7C1D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8E4-9CA2-4E15-AE45-EF9150A3A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669-DB8A-4A5B-B079-8091D67A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FAD-257C-4D5E-9509-EEE86E7F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B2D5-D663-4497-AB2E-6D6B498DD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1A2F-A7CF-45E1-9C21-E0B64535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901-A39F-4F3A-BCCA-98EBAC6C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647A-7A95-439B-B25A-4803BC41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8C54-0E35-4704-ADA2-0BC025E6E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Separación y Procesos Biotecnológicos</a:t>
            </a:r>
            <a:br>
              <a:rPr sz="4400"/>
            </a:br>
            <a:br>
              <a:rPr sz="4400"/>
            </a:br>
            <a:r>
              <a:rPr b="1" lang="es-CL" sz="4400" spc="-1" strike="noStrike" u="sng">
                <a:solidFill>
                  <a:srgbClr val="000066"/>
                </a:solidFill>
                <a:uFillTx/>
                <a:latin typeface="Times New Roman"/>
              </a:rPr>
              <a:t>BT56A-IQ74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Introduc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INT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ha avanzado en los últimos añ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oferta de empresas en el área de ingeniería genética son generalmente reportados en las páginas financier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&gt; Esto implica un futuro promisorio para el área.</a:t>
            </a:r>
            <a:r>
              <a:rPr b="0" lang="es-CL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8534520" cy="55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9880" y="914400"/>
            <a:ext cx="8544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380880" y="685800"/>
            <a:ext cx="8762760" cy="6632640"/>
            <a:chOff x="380880" y="685800"/>
            <a:chExt cx="8762760" cy="6632640"/>
          </a:xfrm>
        </p:grpSpPr>
        <p:sp>
          <p:nvSpPr>
            <p:cNvPr id="57" name=""/>
            <p:cNvSpPr/>
            <p:nvPr/>
          </p:nvSpPr>
          <p:spPr>
            <a:xfrm>
              <a:off x="423720" y="1504080"/>
              <a:ext cx="11502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utri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74280" y="1504080"/>
              <a:ext cx="17715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45840" y="1504080"/>
              <a:ext cx="16606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rina de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06520" y="1504080"/>
              <a:ext cx="23076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01592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37280" y="1504080"/>
              <a:ext cx="132840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2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66040" y="1504080"/>
              <a:ext cx="2103480" cy="82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23720" y="23342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Funcion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74280" y="23342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45840" y="23342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islado soy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06520" y="23342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37280" y="23342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&gt; 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66040" y="23342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3720" y="292932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74280" y="292932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45840" y="292932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 de suero de lec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6520" y="292932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37280" y="292932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66040" y="292932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000 - 6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720" y="374760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ac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74280" y="374760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mid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45840" y="374760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milas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06520" y="374760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37280" y="374760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66040" y="374760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5000-30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3720" y="4343040"/>
              <a:ext cx="11502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74280" y="4343040"/>
              <a:ext cx="17715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ejido A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5840" y="4343040"/>
              <a:ext cx="16606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Ren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6520" y="4343040"/>
              <a:ext cx="2307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37280" y="4343040"/>
              <a:ext cx="13284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66040" y="4343040"/>
              <a:ext cx="210348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3720" y="4938120"/>
              <a:ext cx="11502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u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74280" y="4938120"/>
              <a:ext cx="17715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zú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45840" y="4938120"/>
              <a:ext cx="16606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ormona de crecimiento hum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06520" y="4938120"/>
              <a:ext cx="23076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7280" y="4938120"/>
              <a:ext cx="1328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66040" y="4938120"/>
              <a:ext cx="210348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3720" y="5979600"/>
              <a:ext cx="1150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74280" y="5979600"/>
              <a:ext cx="17715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uero Bovi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45840" y="5979600"/>
              <a:ext cx="16606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nticuerpos monoclon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06520" y="5979600"/>
              <a:ext cx="2307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7280" y="5979600"/>
              <a:ext cx="13284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k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66040" y="5979600"/>
              <a:ext cx="21034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·10</a:t>
              </a:r>
              <a:r>
                <a:rPr b="0" lang="en-US" sz="1800" spc="-1" strike="noStrike" baseline="30000">
                  <a:solidFill>
                    <a:srgbClr val="000080"/>
                  </a:solidFill>
                  <a:latin typeface="Times New Roman"/>
                  <a:ea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380880" y="685800"/>
              <a:ext cx="1236240" cy="818280"/>
              <a:chOff x="380880" y="685800"/>
              <a:chExt cx="1236240" cy="818280"/>
            </a:xfrm>
          </p:grpSpPr>
          <p:sp>
            <p:nvSpPr>
              <p:cNvPr id="100" name=""/>
              <p:cNvSpPr/>
              <p:nvPr/>
            </p:nvSpPr>
            <p:spPr>
              <a:xfrm>
                <a:off x="423720" y="685800"/>
                <a:ext cx="1150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ategorí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0880" y="685800"/>
                <a:ext cx="12362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617120" y="685800"/>
              <a:ext cx="1857600" cy="818280"/>
              <a:chOff x="1617120" y="685800"/>
              <a:chExt cx="1857600" cy="818280"/>
            </a:xfrm>
          </p:grpSpPr>
          <p:sp>
            <p:nvSpPr>
              <p:cNvPr id="103" name=""/>
              <p:cNvSpPr/>
              <p:nvPr/>
            </p:nvSpPr>
            <p:spPr>
              <a:xfrm>
                <a:off x="1660320" y="685800"/>
                <a:ext cx="1771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Fuente de 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617120" y="685800"/>
                <a:ext cx="18576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3474720" y="685800"/>
              <a:ext cx="1747080" cy="818280"/>
              <a:chOff x="3474720" y="685800"/>
              <a:chExt cx="1747080" cy="818280"/>
            </a:xfrm>
          </p:grpSpPr>
          <p:sp>
            <p:nvSpPr>
              <p:cNvPr id="106" name=""/>
              <p:cNvSpPr/>
              <p:nvPr/>
            </p:nvSpPr>
            <p:spPr>
              <a:xfrm>
                <a:off x="3517920" y="685800"/>
                <a:ext cx="16603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74720" y="685800"/>
                <a:ext cx="17470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222160" y="685800"/>
              <a:ext cx="316440" cy="818280"/>
              <a:chOff x="5222160" y="685800"/>
              <a:chExt cx="316440" cy="818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265000" y="685800"/>
                <a:ext cx="230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2160" y="685800"/>
                <a:ext cx="31644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5538600" y="685800"/>
              <a:ext cx="1414800" cy="818280"/>
              <a:chOff x="5538600" y="685800"/>
              <a:chExt cx="1414800" cy="818280"/>
            </a:xfrm>
          </p:grpSpPr>
          <p:sp>
            <p:nvSpPr>
              <p:cNvPr id="112" name=""/>
              <p:cNvSpPr/>
              <p:nvPr/>
            </p:nvSpPr>
            <p:spPr>
              <a:xfrm>
                <a:off x="5581800" y="685800"/>
                <a:ext cx="13284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ción                     Anual 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38600" y="685800"/>
                <a:ext cx="141480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953760" y="685800"/>
              <a:ext cx="2189880" cy="818280"/>
              <a:chOff x="6953760" y="685800"/>
              <a:chExt cx="2189880" cy="818280"/>
            </a:xfrm>
          </p:grpSpPr>
          <p:sp>
            <p:nvSpPr>
              <p:cNvPr id="115" name=""/>
              <p:cNvSpPr/>
              <p:nvPr/>
            </p:nvSpPr>
            <p:spPr>
              <a:xfrm>
                <a:off x="6996960" y="685800"/>
                <a:ext cx="210312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ecio  Aproximado (£/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3760" y="685800"/>
                <a:ext cx="2189880" cy="8182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380880" y="6798240"/>
              <a:ext cx="1236240" cy="520200"/>
              <a:chOff x="380880" y="6798240"/>
              <a:chExt cx="1236240" cy="520200"/>
            </a:xfrm>
          </p:grpSpPr>
          <p:sp>
            <p:nvSpPr>
              <p:cNvPr id="118" name=""/>
              <p:cNvSpPr/>
              <p:nvPr/>
            </p:nvSpPr>
            <p:spPr>
              <a:xfrm>
                <a:off x="423720" y="6798240"/>
                <a:ext cx="1150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80880" y="6798240"/>
                <a:ext cx="12362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1617120" y="6798240"/>
              <a:ext cx="1857600" cy="520200"/>
              <a:chOff x="1617120" y="6798240"/>
              <a:chExt cx="1857600" cy="520200"/>
            </a:xfrm>
          </p:grpSpPr>
          <p:sp>
            <p:nvSpPr>
              <p:cNvPr id="121" name=""/>
              <p:cNvSpPr/>
              <p:nvPr/>
            </p:nvSpPr>
            <p:spPr>
              <a:xfrm>
                <a:off x="1660320" y="6798240"/>
                <a:ext cx="1771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7120" y="6798240"/>
                <a:ext cx="18576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3474720" y="6798240"/>
              <a:ext cx="1747080" cy="520200"/>
              <a:chOff x="3474720" y="6798240"/>
              <a:chExt cx="1747080" cy="520200"/>
            </a:xfrm>
          </p:grpSpPr>
          <p:sp>
            <p:nvSpPr>
              <p:cNvPr id="124" name=""/>
              <p:cNvSpPr/>
              <p:nvPr/>
            </p:nvSpPr>
            <p:spPr>
              <a:xfrm>
                <a:off x="3517920" y="6798240"/>
                <a:ext cx="1660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474720" y="6798240"/>
                <a:ext cx="17470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5222160" y="6798240"/>
              <a:ext cx="316440" cy="520200"/>
              <a:chOff x="5222160" y="6798240"/>
              <a:chExt cx="316440" cy="52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265000" y="6798240"/>
                <a:ext cx="230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222160" y="6798240"/>
                <a:ext cx="31644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538600" y="6798240"/>
              <a:ext cx="1414800" cy="520200"/>
              <a:chOff x="5538600" y="6798240"/>
              <a:chExt cx="1414800" cy="52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581800" y="6798240"/>
                <a:ext cx="13284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38600" y="6798240"/>
                <a:ext cx="141480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6953760" y="6798240"/>
              <a:ext cx="2189880" cy="520200"/>
              <a:chOff x="6953760" y="6798240"/>
              <a:chExt cx="2189880" cy="520200"/>
            </a:xfrm>
          </p:grpSpPr>
          <p:sp>
            <p:nvSpPr>
              <p:cNvPr id="133" name=""/>
              <p:cNvSpPr/>
              <p:nvPr/>
            </p:nvSpPr>
            <p:spPr>
              <a:xfrm>
                <a:off x="6996960" y="6798240"/>
                <a:ext cx="2103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953760" y="6798240"/>
                <a:ext cx="2189880" cy="52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-22860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roducción Mundial y Valores de Mercado de Productos Proteínicos Típicos</a:t>
            </a:r>
            <a:r>
              <a:rPr b="0" lang="es-ES" sz="1800" spc="-1" strike="noStrike" u="sng">
                <a:solidFill>
                  <a:srgbClr val="000066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867280"/>
            <a:ext cx="16765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7659720" cy="62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33360"/>
                    <a:ext cx="765972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0"/>
            <a:ext cx="9144000" cy="6580080"/>
            <a:chOff x="0" y="0"/>
            <a:chExt cx="9144000" cy="6580080"/>
          </a:xfrm>
        </p:grpSpPr>
        <p:sp>
          <p:nvSpPr>
            <p:cNvPr id="140" name=""/>
            <p:cNvSpPr/>
            <p:nvPr/>
          </p:nvSpPr>
          <p:spPr>
            <a:xfrm>
              <a:off x="0" y="0"/>
              <a:ext cx="91440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</a:rPr>
                <a:t>Principales Productos Biotecnológicos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1533600" y="1282680"/>
            <a:ext cx="6541920" cy="529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33600" y="1282680"/>
                      <a:ext cx="6541920" cy="529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>
              <a:off x="2771640" y="949320"/>
              <a:ext cx="93528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0.25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Etan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00360" y="2935080"/>
              <a:ext cx="136692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Cuajo recombinan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211640" y="3655800"/>
              <a:ext cx="1366920" cy="6314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2.5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Insuli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4360" y="3367080"/>
              <a:ext cx="1800360" cy="844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$ 50.000.000/g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33cc"/>
                  </a:solidFill>
                  <a:latin typeface="Arial"/>
                </a:rPr>
                <a:t>Factor de Coagulac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6545160" y="1063440"/>
              <a:ext cx="1800000" cy="1459440"/>
              <a:chOff x="6545160" y="1063440"/>
              <a:chExt cx="1800000" cy="1459440"/>
            </a:xfrm>
          </p:grpSpPr>
          <p:pic>
            <p:nvPicPr>
              <p:cNvPr id="1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16440" y="1063440"/>
                <a:ext cx="1343160" cy="108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>
                <a:off x="6545160" y="2215800"/>
                <a:ext cx="1800000" cy="3070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0033cc"/>
                    </a:solidFill>
                    <a:latin typeface="Arial"/>
                  </a:rPr>
                  <a:t>$ 9.000/g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biotecnología se refiere a cul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crobi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élulas ani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la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ara producir productos útiles para los humanos y que generen ganancias a los inversion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-360" y="1522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66"/>
                </a:solidFill>
                <a:uFillTx/>
                <a:latin typeface="Times New Roman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os primeros productos “biotecnológicos” se conocen desde 4000 a.C. cuando se producían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, queso y yogurt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definición de biotecnología proviene de aproximadamente 100 años atrás. Se orienta principalmente a productos orgánicos generados por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cetona (Industria de municiones I Guerra Mund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Ácido cítrico y glutám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ibióticos</a:t>
            </a:r>
            <a:r>
              <a:rPr b="0" lang="es-CL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caparó toda la atención, resultando el producto más importante de la biotecnología, este metabolito secundario produjo grandes benefici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Esquema general de la producción de productos biotecn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478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61468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1828800"/>
          <a:ext cx="7620120" cy="186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1828800"/>
                    <a:ext cx="76201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981080" y="4419720"/>
          <a:ext cx="6512040" cy="156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4419720"/>
                    <a:ext cx="651204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1980720" y="35053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981080" y="3504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828800"/>
            <a:ext cx="6781680" cy="4419720"/>
          </a:xfrm>
          <a:prstGeom prst="rect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3886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Downstream processing (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D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RNES 12:00-13:3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XILI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ércoles 14:30-16: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rcicios todas las 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CHA DE CONTRO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1: Miércoles 30 de agos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2: Miércoles  4 de Octub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ROL 3: Miércoles 8 de Noviemb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000066"/>
                </a:solidFill>
                <a:uFillTx/>
                <a:latin typeface="Times New Roman"/>
              </a:rPr>
              <a:t>Características de la bio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 separación de los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ductos biotecnológic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sulta relativamente </a:t>
            </a:r>
            <a:r>
              <a:rPr b="1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ás difíci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que las separaciones en la </a:t>
            </a:r>
            <a:r>
              <a:rPr b="0" lang="es-C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geniería química convencional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ya que las moléculas que se separar resultan ser extremadamente frágiles y de propiedades fisicoquímicas y bioquímicas muy similares entre ell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ualquier empresa que trabaje en la producción de bioproductos,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diferentes, mientras que la empresa petroquímica sólo trabaja con alrededor de </a:t>
            </a:r>
            <a:r>
              <a:rPr b="1" lang="es-C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 compuestos</a:t>
            </a:r>
            <a:r>
              <a:rPr b="0" lang="es-C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28600" y="533520"/>
            <a:ext cx="8914320" cy="6892560"/>
            <a:chOff x="228600" y="533520"/>
            <a:chExt cx="8914320" cy="6892560"/>
          </a:xfrm>
        </p:grpSpPr>
        <p:sp>
          <p:nvSpPr>
            <p:cNvPr id="165" name=""/>
            <p:cNvSpPr/>
            <p:nvPr/>
          </p:nvSpPr>
          <p:spPr>
            <a:xfrm>
              <a:off x="280440" y="152928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centración en el medio (g/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85440" y="152928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0 - 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3960" y="152928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8920" y="152928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9960" y="152928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0.1 -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0440" y="236088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amin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85440" y="236088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33960" y="236088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78920" y="236088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89960" y="236088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0440" y="2965680"/>
              <a:ext cx="220464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iempo de procesamiento  (h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85440" y="2965680"/>
              <a:ext cx="1748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2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33960" y="2965680"/>
              <a:ext cx="13449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0 - 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78920" y="2965680"/>
              <a:ext cx="121068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6 - 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89960" y="2965680"/>
              <a:ext cx="1883160" cy="10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0440" y="40244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urific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5440" y="40244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33960" y="40244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78920" y="40244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89960" y="40244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uy al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0440" y="46292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ción/lote (kg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85440" y="46292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2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33960" y="46292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8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78920" y="46292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89960" y="46292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3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0440" y="5460840"/>
              <a:ext cx="22046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SP por l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5440" y="5460840"/>
              <a:ext cx="1748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33960" y="5460840"/>
              <a:ext cx="13449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78920" y="5460840"/>
              <a:ext cx="121068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Contin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89960" y="5460840"/>
              <a:ext cx="18831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0440" y="6065640"/>
              <a:ext cx="220464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Número de etapas D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85440" y="6065640"/>
              <a:ext cx="1748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33960" y="6065640"/>
              <a:ext cx="1344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5 - 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578920" y="6065640"/>
              <a:ext cx="121068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3 - 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89960" y="6065640"/>
              <a:ext cx="18831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8 - 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49280"/>
                  <a:tab algn="l" pos="898560"/>
                  <a:tab algn="l" pos="1349280"/>
                  <a:tab algn="l" pos="1798560"/>
                  <a:tab algn="l" pos="2247840"/>
                  <a:tab algn="l" pos="2697120"/>
                  <a:tab algn="l" pos="3146400"/>
                  <a:tab algn="l" pos="3597120"/>
                  <a:tab algn="l" pos="4046400"/>
                  <a:tab algn="l" pos="4495680"/>
                  <a:tab algn="l" pos="4944960"/>
                  <a:tab algn="l" pos="53942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228600" y="533520"/>
              <a:ext cx="2308320" cy="995760"/>
              <a:chOff x="228600" y="533520"/>
              <a:chExt cx="2308320" cy="995760"/>
            </a:xfrm>
          </p:grpSpPr>
          <p:sp>
            <p:nvSpPr>
              <p:cNvPr id="201" name=""/>
              <p:cNvSpPr/>
              <p:nvPr/>
            </p:nvSpPr>
            <p:spPr>
              <a:xfrm>
                <a:off x="280440" y="533520"/>
                <a:ext cx="220428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28600" y="533520"/>
                <a:ext cx="23083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2537280" y="533520"/>
              <a:ext cx="1852920" cy="995760"/>
              <a:chOff x="2537280" y="533520"/>
              <a:chExt cx="1852920" cy="995760"/>
            </a:xfrm>
          </p:grpSpPr>
          <p:sp>
            <p:nvSpPr>
              <p:cNvPr id="204" name=""/>
              <p:cNvSpPr/>
              <p:nvPr/>
            </p:nvSpPr>
            <p:spPr>
              <a:xfrm>
                <a:off x="2589480" y="533520"/>
                <a:ext cx="17481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ductos Químico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537280" y="533520"/>
                <a:ext cx="185292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4390920" y="533520"/>
              <a:ext cx="1449360" cy="995760"/>
              <a:chOff x="4390920" y="533520"/>
              <a:chExt cx="1449360" cy="995760"/>
            </a:xfrm>
          </p:grpSpPr>
          <p:sp>
            <p:nvSpPr>
              <p:cNvPr id="207" name=""/>
              <p:cNvSpPr/>
              <p:nvPr/>
            </p:nvSpPr>
            <p:spPr>
              <a:xfrm>
                <a:off x="4442760" y="533520"/>
                <a:ext cx="134496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Antibiót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90920" y="533520"/>
                <a:ext cx="1449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5840640" y="533520"/>
              <a:ext cx="1314360" cy="995760"/>
              <a:chOff x="5840640" y="533520"/>
              <a:chExt cx="1314360" cy="995760"/>
            </a:xfrm>
          </p:grpSpPr>
          <p:sp>
            <p:nvSpPr>
              <p:cNvPr id="210" name=""/>
              <p:cNvSpPr/>
              <p:nvPr/>
            </p:nvSpPr>
            <p:spPr>
              <a:xfrm>
                <a:off x="5892480" y="533520"/>
                <a:ext cx="121032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Enzim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40640" y="533520"/>
                <a:ext cx="131436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155720" y="533520"/>
              <a:ext cx="1987200" cy="995760"/>
              <a:chOff x="7155720" y="533520"/>
              <a:chExt cx="1987200" cy="995760"/>
            </a:xfrm>
          </p:grpSpPr>
          <p:sp>
            <p:nvSpPr>
              <p:cNvPr id="213" name=""/>
              <p:cNvSpPr/>
              <p:nvPr/>
            </p:nvSpPr>
            <p:spPr>
              <a:xfrm>
                <a:off x="7207920" y="533520"/>
                <a:ext cx="1882800" cy="99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Proteínas Terapeútic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155720" y="533520"/>
                <a:ext cx="1987200" cy="99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28600" y="6897600"/>
              <a:ext cx="2308320" cy="528480"/>
              <a:chOff x="228600" y="6897600"/>
              <a:chExt cx="2308320" cy="528480"/>
            </a:xfrm>
          </p:grpSpPr>
          <p:sp>
            <p:nvSpPr>
              <p:cNvPr id="216" name=""/>
              <p:cNvSpPr/>
              <p:nvPr/>
            </p:nvSpPr>
            <p:spPr>
              <a:xfrm>
                <a:off x="280440" y="6897600"/>
                <a:ext cx="220428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28600" y="6897600"/>
                <a:ext cx="23083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537280" y="6897600"/>
              <a:ext cx="1852920" cy="528480"/>
              <a:chOff x="2537280" y="6897600"/>
              <a:chExt cx="1852920" cy="528480"/>
            </a:xfrm>
          </p:grpSpPr>
          <p:sp>
            <p:nvSpPr>
              <p:cNvPr id="219" name=""/>
              <p:cNvSpPr/>
              <p:nvPr/>
            </p:nvSpPr>
            <p:spPr>
              <a:xfrm>
                <a:off x="2589480" y="6897600"/>
                <a:ext cx="17481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37280" y="6897600"/>
                <a:ext cx="185292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390920" y="6897600"/>
              <a:ext cx="1449360" cy="528480"/>
              <a:chOff x="4390920" y="6897600"/>
              <a:chExt cx="1449360" cy="528480"/>
            </a:xfrm>
          </p:grpSpPr>
          <p:sp>
            <p:nvSpPr>
              <p:cNvPr id="222" name=""/>
              <p:cNvSpPr/>
              <p:nvPr/>
            </p:nvSpPr>
            <p:spPr>
              <a:xfrm>
                <a:off x="4442760" y="6897600"/>
                <a:ext cx="134496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390920" y="6897600"/>
                <a:ext cx="1449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5840640" y="6897600"/>
              <a:ext cx="1314360" cy="528480"/>
              <a:chOff x="5840640" y="6897600"/>
              <a:chExt cx="1314360" cy="528480"/>
            </a:xfrm>
          </p:grpSpPr>
          <p:sp>
            <p:nvSpPr>
              <p:cNvPr id="225" name=""/>
              <p:cNvSpPr/>
              <p:nvPr/>
            </p:nvSpPr>
            <p:spPr>
              <a:xfrm>
                <a:off x="5892480" y="6897600"/>
                <a:ext cx="121032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40640" y="6897600"/>
                <a:ext cx="131436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155720" y="6897600"/>
              <a:ext cx="1987200" cy="528480"/>
              <a:chOff x="7155720" y="6897600"/>
              <a:chExt cx="1987200" cy="528480"/>
            </a:xfrm>
          </p:grpSpPr>
          <p:sp>
            <p:nvSpPr>
              <p:cNvPr id="228" name=""/>
              <p:cNvSpPr/>
              <p:nvPr/>
            </p:nvSpPr>
            <p:spPr>
              <a:xfrm>
                <a:off x="7207920" y="6897600"/>
                <a:ext cx="1882800" cy="52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155720" y="6897600"/>
                <a:ext cx="1987200" cy="5284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Parámetros típicos relacionados con 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34320" y="5867280"/>
            <a:ext cx="1676160" cy="7621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228600" y="838080"/>
            <a:ext cx="8914680" cy="6194160"/>
            <a:chOff x="228600" y="838080"/>
            <a:chExt cx="8914680" cy="6194160"/>
          </a:xfrm>
        </p:grpSpPr>
        <p:sp>
          <p:nvSpPr>
            <p:cNvPr id="233" name=""/>
            <p:cNvSpPr/>
            <p:nvPr/>
          </p:nvSpPr>
          <p:spPr>
            <a:xfrm>
              <a:off x="283320" y="123120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gu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30760" y="123120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900 +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34120" y="123120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yor costo de separación para productos de bajo 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3320" y="177192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Materia celul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0760" y="177192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20 - 100 g/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34120" y="177192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secho, reciclado 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320" y="2312640"/>
              <a:ext cx="264708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930760" y="2312640"/>
              <a:ext cx="240336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Hasta 120 g/l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312640"/>
              <a:ext cx="3534840" cy="39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83320" y="270612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ales inorgánic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930760" y="270612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10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34120" y="270612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as con 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3320" y="3246840"/>
              <a:ext cx="264708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teínas (no produc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0760" y="3246840"/>
              <a:ext cx="240336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3 g/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34120" y="3246840"/>
              <a:ext cx="3534840" cy="83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con productos enzimáticos intracelula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3320" y="4082760"/>
              <a:ext cx="264708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Acidos nucle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30760" y="4082760"/>
              <a:ext cx="240336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hasta 6 g/l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34120" y="4082760"/>
              <a:ext cx="3534840" cy="8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blema de remoción mayor para proteínas intracelulares o productos enzimát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3320" y="4918680"/>
              <a:ext cx="264708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olisacári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30760" y="4918680"/>
              <a:ext cx="240336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1% + (IC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334120" y="4918680"/>
              <a:ext cx="3534840" cy="54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Usualmente removidos con el medio, medios residua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3320" y="5459760"/>
              <a:ext cx="264708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Productos orgánicos (color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30760" y="5459760"/>
              <a:ext cx="24033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Trazas en 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4120" y="5459760"/>
              <a:ext cx="353484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 materias primas (por ejemplo,  melaza) y los microorganismos mis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3320" y="6148080"/>
              <a:ext cx="264708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Sólidos orgánic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30760" y="6148080"/>
              <a:ext cx="240336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Bajo conteni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4120" y="6148080"/>
              <a:ext cx="3534840" cy="5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  <a:ea typeface="Times New Roman"/>
                </a:rPr>
                <a:t>Del med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3320" y="6688800"/>
              <a:ext cx="264708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30760" y="6688800"/>
              <a:ext cx="240336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4120" y="6688800"/>
              <a:ext cx="3534840" cy="34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228600" y="838080"/>
              <a:ext cx="2756520" cy="393120"/>
              <a:chOff x="228600" y="838080"/>
              <a:chExt cx="2756520" cy="393120"/>
            </a:xfrm>
          </p:grpSpPr>
          <p:sp>
            <p:nvSpPr>
              <p:cNvPr id="264" name=""/>
              <p:cNvSpPr/>
              <p:nvPr/>
            </p:nvSpPr>
            <p:spPr>
              <a:xfrm>
                <a:off x="283320" y="838080"/>
                <a:ext cx="26470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ponent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8600" y="838080"/>
                <a:ext cx="27565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2985480" y="838080"/>
              <a:ext cx="2513160" cy="393120"/>
              <a:chOff x="2985480" y="838080"/>
              <a:chExt cx="2513160" cy="393120"/>
            </a:xfrm>
          </p:grpSpPr>
          <p:sp>
            <p:nvSpPr>
              <p:cNvPr id="267" name=""/>
              <p:cNvSpPr/>
              <p:nvPr/>
            </p:nvSpPr>
            <p:spPr>
              <a:xfrm>
                <a:off x="3040560" y="838080"/>
                <a:ext cx="240300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ncentració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5480" y="838080"/>
                <a:ext cx="251316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5499360" y="838080"/>
              <a:ext cx="3643920" cy="393120"/>
              <a:chOff x="5499360" y="838080"/>
              <a:chExt cx="3643920" cy="393120"/>
            </a:xfrm>
          </p:grpSpPr>
          <p:sp>
            <p:nvSpPr>
              <p:cNvPr id="270" name=""/>
              <p:cNvSpPr/>
              <p:nvPr/>
            </p:nvSpPr>
            <p:spPr>
              <a:xfrm>
                <a:off x="5554080" y="838080"/>
                <a:ext cx="3534480" cy="39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80"/>
                    </a:solidFill>
                    <a:latin typeface="Times New Roman"/>
                    <a:ea typeface="Times New Roman"/>
                  </a:rPr>
                  <a:t>Comenta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9280"/>
                    <a:tab algn="l" pos="1798560"/>
                    <a:tab algn="l" pos="2247840"/>
                    <a:tab algn="l" pos="2697120"/>
                    <a:tab algn="l" pos="3146400"/>
                    <a:tab algn="l" pos="3597120"/>
                    <a:tab algn="l" pos="4046400"/>
                    <a:tab algn="l" pos="4495680"/>
                    <a:tab algn="l" pos="4944960"/>
                    <a:tab algn="l" pos="539424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99360" y="838080"/>
                <a:ext cx="3643920" cy="393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838080" y="152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66"/>
                </a:solidFill>
                <a:uFillTx/>
                <a:latin typeface="Times New Roman"/>
                <a:ea typeface="Times New Roman"/>
              </a:rPr>
              <a:t>Composición de una Corriente de Entrada a D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66"/>
                </a:solidFill>
                <a:uFillTx/>
                <a:latin typeface="Times New Roman"/>
              </a:rPr>
              <a:t>Productos Biotecnológicos de Inter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Bio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Levadura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on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te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Viru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Herpes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Retroviru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Baculo vir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denoasoci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Metabol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lcoholes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66"/>
                </a:solidFill>
                <a:latin typeface="Times New Roman"/>
              </a:rPr>
              <a:t>Áci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0066"/>
                </a:solidFill>
                <a:latin typeface="Times New Roman"/>
              </a:rPr>
              <a:t>Proteín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68360" y="0"/>
            <a:ext cx="815328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Procesos de Producción de Bio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r>
              <a:rPr b="1" lang="es-CL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¿ Qué se des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esde una suspensión diluída se desea un productos biotecnológico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o rendimiento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 = Pf/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f: Concentración Producto Fi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 : Concentración producto in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- Máxima Pureza</a:t>
            </a:r>
            <a:r>
              <a:rPr b="0" lang="es-CL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reza = Pf / 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: Sumatoria de la concentración de todos los compuestos pres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</a:t>
            </a:r>
            <a:r>
              <a:rPr b="0" lang="es-C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 </a:t>
            </a:r>
            <a:r>
              <a:rPr b="0" lang="es-C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oducto con propiedad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umpliendo las condiciones de: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sto Razonable, dado que los costos de proceso son muy caros, siendo un porcentaje bastante significativo los equip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457200"/>
            <a:ext cx="83059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iseño del Proceso de recuperación y purific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(Downstream  processing DS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ara el diseño del DSP se debe conocer las respuestas a las siguientes pregunt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precio del produc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l es el nivel de producció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Dónde está el producto en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es son las propiedades fisicoquímicas y/o bioquímicas que diferencian al producto de sus contamina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el costo de las diferentes alternativas del DS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68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cuál es la eficiencia de cada etap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66"/>
                </a:solidFill>
                <a:uFillTx/>
                <a:latin typeface="Times New Roman"/>
              </a:rPr>
              <a:t>Proceso de producción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paración de la biomasa del medio de cul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ado y post-tratamien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lmacenamiento de la 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762120"/>
            <a:ext cx="61722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04920" y="22860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Vi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fec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ecimiento de Células empaquetadoras infect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cuperación de Células empaque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ompimiento de las células (según vir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paración de los debris cel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urificación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lmacenamiento de los vir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68960" y="228600"/>
            <a:ext cx="812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ducción y Purificación de Adenovir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04920" y="990720"/>
          <a:ext cx="8494560" cy="566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990720"/>
                    <a:ext cx="8494560" cy="56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ecuperación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Sólido-Líqui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ifu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s de Membr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22280" y="1295280"/>
            <a:ext cx="85107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22280" y="1752480"/>
            <a:ext cx="8557560" cy="3248640"/>
            <a:chOff x="422280" y="1752480"/>
            <a:chExt cx="8557560" cy="3248640"/>
          </a:xfrm>
        </p:grpSpPr>
        <p:sp>
          <p:nvSpPr>
            <p:cNvPr id="289" name=""/>
            <p:cNvSpPr/>
            <p:nvPr/>
          </p:nvSpPr>
          <p:spPr>
            <a:xfrm>
              <a:off x="422280" y="1752480"/>
              <a:ext cx="1699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8088120" y="3027240"/>
              <a:ext cx="425880" cy="533520"/>
              <a:chOff x="8088120" y="3027240"/>
              <a:chExt cx="425880" cy="533520"/>
            </a:xfrm>
          </p:grpSpPr>
          <p:sp>
            <p:nvSpPr>
              <p:cNvPr id="291" name=""/>
              <p:cNvSpPr/>
              <p:nvPr/>
            </p:nvSpPr>
            <p:spPr>
              <a:xfrm>
                <a:off x="808812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328600" y="3255840"/>
                <a:ext cx="18540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8248680" y="34844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8088120" y="3103560"/>
                <a:ext cx="10512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248680" y="3027240"/>
                <a:ext cx="185040" cy="763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08812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328600" y="3408480"/>
                <a:ext cx="185400" cy="759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5837760" y="310356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14400" y="2570040"/>
              <a:ext cx="642960" cy="16002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4008960" y="2494080"/>
              <a:ext cx="642600" cy="1828800"/>
              <a:chOff x="4008960" y="2494080"/>
              <a:chExt cx="642600" cy="1828800"/>
            </a:xfrm>
          </p:grpSpPr>
          <p:sp>
            <p:nvSpPr>
              <p:cNvPr id="301" name=""/>
              <p:cNvSpPr/>
              <p:nvPr/>
            </p:nvSpPr>
            <p:spPr>
              <a:xfrm>
                <a:off x="4008960" y="2494080"/>
                <a:ext cx="642600" cy="1828800"/>
              </a:xfrm>
              <a:prstGeom prst="can">
                <a:avLst>
                  <a:gd name="adj" fmla="val 24967"/>
                </a:avLst>
              </a:prstGeom>
              <a:noFill/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4008960" y="3407760"/>
                <a:ext cx="642600" cy="228600"/>
              </a:xfrm>
              <a:prstGeom prst="rect">
                <a:avLst/>
              </a:prstGeom>
              <a:solidFill>
                <a:srgbClr val="ccccff"/>
              </a:solidFill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978160" y="3103560"/>
              <a:ext cx="320760" cy="609480"/>
            </a:xfrm>
            <a:prstGeom prst="flowChartMagneticDisk">
              <a:avLst/>
            </a:prstGeom>
            <a:solidFill>
              <a:srgbClr val="ccccff"/>
            </a:solidFill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39760" y="2951280"/>
              <a:ext cx="1125000" cy="380880"/>
            </a:xfrm>
            <a:prstGeom prst="rightArrow">
              <a:avLst>
                <a:gd name="adj1" fmla="val 50000"/>
                <a:gd name="adj2" fmla="val 73842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53800" y="2722680"/>
              <a:ext cx="105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Centrifu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ac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03440" y="4419720"/>
              <a:ext cx="1686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Gradiente de CsC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4120" y="279864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Dia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41640" y="3809880"/>
              <a:ext cx="1438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7e"/>
                  </a:solidFill>
                  <a:latin typeface="Arial"/>
                </a:rPr>
                <a:t>Pu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91480" y="2874960"/>
              <a:ext cx="421920" cy="838080"/>
            </a:xfrm>
            <a:prstGeom prst="flowChartMagneticDisk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2451600" y="2938320"/>
              <a:ext cx="318600" cy="649080"/>
              <a:chOff x="2451600" y="2938320"/>
              <a:chExt cx="318600" cy="649080"/>
            </a:xfrm>
          </p:grpSpPr>
          <p:sp>
            <p:nvSpPr>
              <p:cNvPr id="311" name=""/>
              <p:cNvSpPr/>
              <p:nvPr/>
            </p:nvSpPr>
            <p:spPr>
              <a:xfrm>
                <a:off x="245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631600" y="3133440"/>
                <a:ext cx="138600" cy="637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572920" y="3327120"/>
                <a:ext cx="138600" cy="6336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"/>
              <p:cNvGrpSpPr/>
              <p:nvPr/>
            </p:nvGrpSpPr>
            <p:grpSpPr>
              <a:xfrm>
                <a:off x="2451600" y="2938320"/>
                <a:ext cx="259920" cy="129960"/>
                <a:chOff x="2451600" y="2938320"/>
                <a:chExt cx="259920" cy="12996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2451600" y="300384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2200" y="293832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>
                <a:off x="245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1600" y="3260520"/>
                <a:ext cx="138600" cy="6660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2510280" y="3457440"/>
                <a:ext cx="259920" cy="129960"/>
                <a:chOff x="2510280" y="3457440"/>
                <a:chExt cx="259920" cy="129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510280" y="3522960"/>
                  <a:ext cx="78840" cy="6444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630880" y="3457440"/>
                  <a:ext cx="139320" cy="65520"/>
                </a:xfrm>
                <a:prstGeom prst="flowChartPreparation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080" bIns="19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2" name=""/>
            <p:cNvSpPr/>
            <p:nvPr/>
          </p:nvSpPr>
          <p:spPr>
            <a:xfrm>
              <a:off x="1813680" y="3032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7e"/>
                  </a:solidFill>
                  <a:latin typeface="Times New Roman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2760" y="3759120"/>
              <a:ext cx="1520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Recup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denovi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92560" y="325584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34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332160"/>
              <a:ext cx="511200" cy="228600"/>
            </a:xfrm>
            <a:prstGeom prst="rightArrow">
              <a:avLst>
                <a:gd name="adj1" fmla="val 50000"/>
                <a:gd name="adj2" fmla="val 55906"/>
              </a:avLst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0" y="2286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Tradicional de  Purificación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sCl Gradiente + Diá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10960" y="1371600"/>
            <a:ext cx="87220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229160" y="3908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Adenovi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e"/>
                </a:solidFill>
                <a:latin typeface="Arial"/>
              </a:rPr>
              <a:t>Pu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80960" y="46180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Cromatografí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e"/>
                </a:solidFill>
                <a:latin typeface="Arial"/>
              </a:rPr>
              <a:t>Intercambio Ió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91240" y="2666880"/>
            <a:ext cx="754200" cy="2212200"/>
            <a:chOff x="291240" y="2666880"/>
            <a:chExt cx="754200" cy="2212200"/>
          </a:xfrm>
        </p:grpSpPr>
        <p:sp>
          <p:nvSpPr>
            <p:cNvPr id="332" name=""/>
            <p:cNvSpPr/>
            <p:nvPr/>
          </p:nvSpPr>
          <p:spPr>
            <a:xfrm>
              <a:off x="291240" y="4541760"/>
              <a:ext cx="72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AT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7720" y="2666880"/>
              <a:ext cx="643680" cy="1828800"/>
            </a:xfrm>
            <a:prstGeom prst="can">
              <a:avLst>
                <a:gd name="adj" fmla="val 24967"/>
              </a:avLst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7720" y="3657600"/>
              <a:ext cx="63360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632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PE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0080" y="3908520"/>
              <a:ext cx="48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7e"/>
                  </a:solidFill>
                  <a:latin typeface="Arial"/>
                </a:rPr>
                <a:t>S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4257720" y="3429000"/>
            <a:ext cx="1648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86080" y="320040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75120" y="4267080"/>
            <a:ext cx="166680" cy="921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046400" y="3733920"/>
            <a:ext cx="307800" cy="185760"/>
            <a:chOff x="4046400" y="3733920"/>
            <a:chExt cx="307800" cy="185760"/>
          </a:xfrm>
        </p:grpSpPr>
        <p:sp>
          <p:nvSpPr>
            <p:cNvPr id="341" name=""/>
            <p:cNvSpPr/>
            <p:nvPr/>
          </p:nvSpPr>
          <p:spPr>
            <a:xfrm>
              <a:off x="4046400" y="3827520"/>
              <a:ext cx="9324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89320" y="3733920"/>
              <a:ext cx="16488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975120" y="3505320"/>
            <a:ext cx="166680" cy="9360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05280" y="3124080"/>
            <a:ext cx="165240" cy="93960"/>
          </a:xfrm>
          <a:prstGeom prst="flowChartPreparat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3905280" y="3276720"/>
            <a:ext cx="309240" cy="185760"/>
            <a:chOff x="3905280" y="3276720"/>
            <a:chExt cx="309240" cy="185760"/>
          </a:xfrm>
        </p:grpSpPr>
        <p:sp>
          <p:nvSpPr>
            <p:cNvPr id="346" name=""/>
            <p:cNvSpPr/>
            <p:nvPr/>
          </p:nvSpPr>
          <p:spPr>
            <a:xfrm>
              <a:off x="3905280" y="3370320"/>
              <a:ext cx="93600" cy="921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48920" y="3276720"/>
              <a:ext cx="165600" cy="93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835440" y="2743200"/>
            <a:ext cx="642960" cy="1828800"/>
          </a:xfrm>
          <a:prstGeom prst="can">
            <a:avLst>
              <a:gd name="adj" fmla="val 24967"/>
            </a:avLst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835080" y="3733920"/>
            <a:ext cx="63180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586400" y="32227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10160" y="39844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67320" y="2514600"/>
            <a:ext cx="281160" cy="2057400"/>
          </a:xfrm>
          <a:prstGeom prst="rect">
            <a:avLst/>
          </a:prstGeom>
          <a:noFill/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37160" y="29718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367320" y="34290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437160" y="3657600"/>
            <a:ext cx="16524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07000" y="3581280"/>
            <a:ext cx="166680" cy="92160"/>
          </a:xfrm>
          <a:prstGeom prst="flowChartPreparation">
            <a:avLst/>
          </a:prstGeom>
          <a:solidFill>
            <a:srgbClr val="cccc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006640" y="3200400"/>
            <a:ext cx="422280" cy="838080"/>
          </a:xfrm>
          <a:prstGeom prst="flowChartMagneticDisk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2066760" y="3263760"/>
            <a:ext cx="318960" cy="649080"/>
            <a:chOff x="2066760" y="3263760"/>
            <a:chExt cx="318960" cy="649080"/>
          </a:xfrm>
        </p:grpSpPr>
        <p:sp>
          <p:nvSpPr>
            <p:cNvPr id="359" name=""/>
            <p:cNvSpPr/>
            <p:nvPr/>
          </p:nvSpPr>
          <p:spPr>
            <a:xfrm>
              <a:off x="2066760" y="345924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47120" y="3459240"/>
              <a:ext cx="13860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88080" y="3652920"/>
              <a:ext cx="138960" cy="633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066760" y="3263760"/>
              <a:ext cx="260640" cy="129960"/>
              <a:chOff x="2066760" y="3263760"/>
              <a:chExt cx="260640" cy="129960"/>
            </a:xfrm>
          </p:grpSpPr>
          <p:sp>
            <p:nvSpPr>
              <p:cNvPr id="363" name=""/>
              <p:cNvSpPr/>
              <p:nvPr/>
            </p:nvSpPr>
            <p:spPr>
              <a:xfrm>
                <a:off x="2066760" y="332928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187720" y="3263760"/>
                <a:ext cx="13968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066760" y="3586320"/>
              <a:ext cx="13896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47120" y="3586320"/>
              <a:ext cx="138600" cy="6660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2125440" y="3782880"/>
              <a:ext cx="259920" cy="129960"/>
              <a:chOff x="2125440" y="3782880"/>
              <a:chExt cx="259920" cy="129960"/>
            </a:xfrm>
          </p:grpSpPr>
          <p:sp>
            <p:nvSpPr>
              <p:cNvPr id="368" name=""/>
              <p:cNvSpPr/>
              <p:nvPr/>
            </p:nvSpPr>
            <p:spPr>
              <a:xfrm>
                <a:off x="2125440" y="3848400"/>
                <a:ext cx="78840" cy="6444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246040" y="3782880"/>
                <a:ext cx="139320" cy="65520"/>
              </a:xfrm>
              <a:prstGeom prst="flowChartPreparation">
                <a:avLst/>
              </a:prstGeom>
              <a:solidFill>
                <a:srgbClr val="cc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0" name=""/>
          <p:cNvSpPr/>
          <p:nvPr/>
        </p:nvSpPr>
        <p:spPr>
          <a:xfrm>
            <a:off x="1358280" y="3276720"/>
            <a:ext cx="4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7e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7915320" y="3200400"/>
            <a:ext cx="425160" cy="533520"/>
            <a:chOff x="7915320" y="3200400"/>
            <a:chExt cx="425160" cy="533520"/>
          </a:xfrm>
        </p:grpSpPr>
        <p:sp>
          <p:nvSpPr>
            <p:cNvPr id="372" name=""/>
            <p:cNvSpPr/>
            <p:nvPr/>
          </p:nvSpPr>
          <p:spPr>
            <a:xfrm>
              <a:off x="791532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155440" y="3429000"/>
              <a:ext cx="18504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075520" y="36576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915320" y="3276720"/>
              <a:ext cx="10512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075520" y="3200400"/>
              <a:ext cx="184680" cy="7632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1532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55440" y="3581640"/>
              <a:ext cx="185040" cy="75960"/>
            </a:xfrm>
            <a:prstGeom prst="flowChartPreparation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1518480" y="4084560"/>
            <a:ext cx="152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Recu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7e"/>
                </a:solidFill>
                <a:latin typeface="Arial"/>
              </a:rPr>
              <a:t>Adenovi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07076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60720" y="350532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52920" y="3429000"/>
            <a:ext cx="511200" cy="228600"/>
          </a:xfrm>
          <a:prstGeom prst="rightArrow">
            <a:avLst>
              <a:gd name="adj1" fmla="val 50000"/>
              <a:gd name="adj2" fmla="val 55906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2286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étodo Propuesto de Pur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os Fase acuosas + Cromat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85800" y="609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o de producción de Metaboli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cimiento de la Biomasa (Fermen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aración del metabolito de la biom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tamiento y purificación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acenamiento del metabol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0" y="814320"/>
          <a:ext cx="9144000" cy="52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4320"/>
                    <a:ext cx="9144000" cy="52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13716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ción de Ácido Cí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762120"/>
            <a:ext cx="5715000" cy="350496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392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659640" y="1844640"/>
            <a:ext cx="2484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-90% Costo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mpimiento de Célu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ogeniz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inos de Bo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étodos No Mecá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lca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imá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p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electiv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ción Líqu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urificación de Proteí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Cromatográf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dsorción, Adsorción en Colum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eoría de Cromatografía de Proteí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iltración por G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cambio I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foc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Interacción Hidrofób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Fase rever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romatografía de Afi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romatografía de lecho expand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écnicas Electroforé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ectrofor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soelectro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eño de Procesos de S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ivo de Células Animales y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os Biotecnológ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ia Biotecnológica de Proteí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terial del Cur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U_ 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3 Controles y Examen (N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rcicios y Tareas (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= 0.85 Nc+0.15 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bliograf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cope R.K "Protein Purification: Principles and Practice" 3er Edición, Spingerm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. Harris E.L. and Angal S. "Protein purification methods: A practical approach" 1ª Edición, IRL Press,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3. Belter P., Cussler E.L. and Hu Wei Shou "Bioseparations : Dowstream Processing for Biotechnology":, John Wiley and Sons , 1988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Doran M." Bioprocess Engineering Principles", Academic Press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5. Asenjo J.A. "Separation processes in Biotechnology", Marcel Dekker,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6. Tejeda, R.M.Montesinos, R.Guzman "Bioseparaciones", Editorial Unison, 199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7. Ahuja S “Handbook of Bioseparations”, Academic Press,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te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En U Cur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EBEN TRAER EL 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esentar la ma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cer Ejercicios para aplicar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7:07:43Z</dcterms:created>
  <dc:creator>Maria Elena Lienqueo C.</dc:creator>
  <dc:description/>
  <dc:language>en-US</dc:language>
  <cp:lastModifiedBy>Ing Quimica</cp:lastModifiedBy>
  <dcterms:modified xsi:type="dcterms:W3CDTF">2006-07-24T15:31:28Z</dcterms:modified>
  <cp:revision>39</cp:revision>
  <dc:subject/>
  <dc:title>Separación y Procesos Biotecnológicos BT56A </dc:title>
</cp:coreProperties>
</file>