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E8B-0839-4CFF-9D29-5E4BE52E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F92-E68D-40A0-A69D-99FD5C3B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F75-8787-45C2-8A83-C9809BB4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151-3471-49CB-BE22-BAE9A7F2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302-C8A0-47F2-ADB9-7D59EB1A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1BC-09D8-41CD-9489-D52CF155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8A6-B44A-4060-9681-FF36EF35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511-40EB-4D94-AA97-27A8FDC5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88C-2D53-45F5-825B-94D587FD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1DF-495E-4E9E-A6B1-E10C0E1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DDA-CC00-4549-9F7A-90CA24B3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894-45DE-4762-8F9C-103A8D58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40B1-7D2E-40C6-858B-91C8AEDD7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IQ7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1080" y="4419720"/>
          <a:ext cx="6512040" cy="156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419720"/>
                    <a:ext cx="65120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30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4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8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8960" y="22860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ción y Purificación de Adeno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990720"/>
          <a:ext cx="8494560" cy="56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849456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2280" y="1295280"/>
            <a:ext cx="85107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22280" y="1752480"/>
            <a:ext cx="8557560" cy="3248640"/>
            <a:chOff x="422280" y="1752480"/>
            <a:chExt cx="8557560" cy="3248640"/>
          </a:xfrm>
        </p:grpSpPr>
        <p:sp>
          <p:nvSpPr>
            <p:cNvPr id="289" name=""/>
            <p:cNvSpPr/>
            <p:nvPr/>
          </p:nvSpPr>
          <p:spPr>
            <a:xfrm>
              <a:off x="422280" y="1752480"/>
              <a:ext cx="169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8088120" y="3027240"/>
              <a:ext cx="425880" cy="533520"/>
              <a:chOff x="8088120" y="3027240"/>
              <a:chExt cx="425880" cy="533520"/>
            </a:xfrm>
          </p:grpSpPr>
          <p:sp>
            <p:nvSpPr>
              <p:cNvPr id="291" name=""/>
              <p:cNvSpPr/>
              <p:nvPr/>
            </p:nvSpPr>
            <p:spPr>
              <a:xfrm>
                <a:off x="808812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2860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48680" y="34844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88120" y="3103560"/>
                <a:ext cx="10512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48680" y="30272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8812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2860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837760" y="310356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4400" y="2570040"/>
              <a:ext cx="642960" cy="16002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008960" y="2494080"/>
              <a:ext cx="642600" cy="1828800"/>
              <a:chOff x="4008960" y="2494080"/>
              <a:chExt cx="642600" cy="1828800"/>
            </a:xfrm>
          </p:grpSpPr>
          <p:sp>
            <p:nvSpPr>
              <p:cNvPr id="301" name=""/>
              <p:cNvSpPr/>
              <p:nvPr/>
            </p:nvSpPr>
            <p:spPr>
              <a:xfrm>
                <a:off x="4008960" y="2494080"/>
                <a:ext cx="642600" cy="1828800"/>
              </a:xfrm>
              <a:prstGeom prst="can">
                <a:avLst>
                  <a:gd name="adj" fmla="val 24967"/>
                </a:avLst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008960" y="3407760"/>
                <a:ext cx="642600" cy="2286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978160" y="3103560"/>
              <a:ext cx="320760" cy="609480"/>
            </a:xfrm>
            <a:prstGeom prst="flowChartMagneticDisk">
              <a:avLst/>
            </a:prstGeom>
            <a:solidFill>
              <a:srgbClr val="cccc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39760" y="295128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53800" y="2722680"/>
              <a:ext cx="105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Centrifu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3440" y="4419720"/>
              <a:ext cx="168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radiente de Cs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4120" y="279864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Dia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41640" y="3809880"/>
              <a:ext cx="143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Pu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91480" y="2874960"/>
              <a:ext cx="421920" cy="838080"/>
            </a:xfrm>
            <a:prstGeom prst="flowChartMagneticDisk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451600" y="2938320"/>
              <a:ext cx="318600" cy="649080"/>
              <a:chOff x="2451600" y="2938320"/>
              <a:chExt cx="318600" cy="649080"/>
            </a:xfrm>
          </p:grpSpPr>
          <p:sp>
            <p:nvSpPr>
              <p:cNvPr id="311" name=""/>
              <p:cNvSpPr/>
              <p:nvPr/>
            </p:nvSpPr>
            <p:spPr>
              <a:xfrm>
                <a:off x="245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3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572920" y="3327120"/>
                <a:ext cx="138600" cy="633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451600" y="2938320"/>
                <a:ext cx="259920" cy="129960"/>
                <a:chOff x="2451600" y="2938320"/>
                <a:chExt cx="259920" cy="129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451600" y="300384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2200" y="293832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245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3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510280" y="3457440"/>
                <a:ext cx="259920" cy="129960"/>
                <a:chOff x="2510280" y="3457440"/>
                <a:chExt cx="259920" cy="1299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510280" y="352296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30880" y="345744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1813680" y="3032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7e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32760" y="3759120"/>
              <a:ext cx="152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92560" y="325584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4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5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Tradicional de  Purificació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sCl Gradiente + Diá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10960" y="1371600"/>
            <a:ext cx="87220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9160" y="39085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P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80960" y="4618080"/>
            <a:ext cx="19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Cromatografí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Intercambio 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91240" y="2666880"/>
            <a:ext cx="754200" cy="2212200"/>
            <a:chOff x="291240" y="2666880"/>
            <a:chExt cx="754200" cy="2212200"/>
          </a:xfrm>
        </p:grpSpPr>
        <p:sp>
          <p:nvSpPr>
            <p:cNvPr id="332" name=""/>
            <p:cNvSpPr/>
            <p:nvPr/>
          </p:nvSpPr>
          <p:spPr>
            <a:xfrm>
              <a:off x="291240" y="45417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T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720" y="2666880"/>
              <a:ext cx="643680" cy="18288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7720" y="3657600"/>
              <a:ext cx="633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632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P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0080" y="39085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S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257720" y="3429000"/>
            <a:ext cx="1648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86080" y="320040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75120" y="426708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046400" y="3733920"/>
            <a:ext cx="307800" cy="185760"/>
            <a:chOff x="4046400" y="3733920"/>
            <a:chExt cx="307800" cy="185760"/>
          </a:xfrm>
        </p:grpSpPr>
        <p:sp>
          <p:nvSpPr>
            <p:cNvPr id="341" name=""/>
            <p:cNvSpPr/>
            <p:nvPr/>
          </p:nvSpPr>
          <p:spPr>
            <a:xfrm>
              <a:off x="4046400" y="3827520"/>
              <a:ext cx="9324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89320" y="3733920"/>
              <a:ext cx="16488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975120" y="3505320"/>
            <a:ext cx="166680" cy="9360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05280" y="3124080"/>
            <a:ext cx="165240" cy="939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05280" y="3276720"/>
            <a:ext cx="309240" cy="185760"/>
            <a:chOff x="3905280" y="3276720"/>
            <a:chExt cx="309240" cy="185760"/>
          </a:xfrm>
        </p:grpSpPr>
        <p:sp>
          <p:nvSpPr>
            <p:cNvPr id="346" name=""/>
            <p:cNvSpPr/>
            <p:nvPr/>
          </p:nvSpPr>
          <p:spPr>
            <a:xfrm>
              <a:off x="3905280" y="3370320"/>
              <a:ext cx="9360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48920" y="3276720"/>
              <a:ext cx="16560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835440" y="2743200"/>
            <a:ext cx="642960" cy="1828800"/>
          </a:xfrm>
          <a:prstGeom prst="can">
            <a:avLst>
              <a:gd name="adj" fmla="val 249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835080" y="3733920"/>
            <a:ext cx="631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86400" y="32227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0160" y="3984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67320" y="2514600"/>
            <a:ext cx="281160" cy="2057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37160" y="29718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67320" y="34290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37160" y="36576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07000" y="3581280"/>
            <a:ext cx="16668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06640" y="3200400"/>
            <a:ext cx="422280" cy="838080"/>
          </a:xfrm>
          <a:prstGeom prst="flowChartMagneticDisk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66760" y="3263760"/>
            <a:ext cx="318960" cy="649080"/>
            <a:chOff x="2066760" y="3263760"/>
            <a:chExt cx="318960" cy="649080"/>
          </a:xfrm>
        </p:grpSpPr>
        <p:sp>
          <p:nvSpPr>
            <p:cNvPr id="359" name=""/>
            <p:cNvSpPr/>
            <p:nvPr/>
          </p:nvSpPr>
          <p:spPr>
            <a:xfrm>
              <a:off x="2066760" y="345924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47120" y="3459240"/>
              <a:ext cx="13860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88080" y="365292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066760" y="3263760"/>
              <a:ext cx="260640" cy="129960"/>
              <a:chOff x="2066760" y="3263760"/>
              <a:chExt cx="260640" cy="129960"/>
            </a:xfrm>
          </p:grpSpPr>
          <p:sp>
            <p:nvSpPr>
              <p:cNvPr id="363" name=""/>
              <p:cNvSpPr/>
              <p:nvPr/>
            </p:nvSpPr>
            <p:spPr>
              <a:xfrm>
                <a:off x="2066760" y="332928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87720" y="3263760"/>
                <a:ext cx="13968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066760" y="3586320"/>
              <a:ext cx="13896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7120" y="3586320"/>
              <a:ext cx="13860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125440" y="3782880"/>
              <a:ext cx="259920" cy="129960"/>
              <a:chOff x="2125440" y="3782880"/>
              <a:chExt cx="259920" cy="129960"/>
            </a:xfrm>
          </p:grpSpPr>
          <p:sp>
            <p:nvSpPr>
              <p:cNvPr id="368" name=""/>
              <p:cNvSpPr/>
              <p:nvPr/>
            </p:nvSpPr>
            <p:spPr>
              <a:xfrm>
                <a:off x="2125440" y="384840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46040" y="3782880"/>
                <a:ext cx="13932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1358280" y="32767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7e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915320" y="3200400"/>
            <a:ext cx="425160" cy="533520"/>
            <a:chOff x="7915320" y="3200400"/>
            <a:chExt cx="425160" cy="533520"/>
          </a:xfrm>
        </p:grpSpPr>
        <p:sp>
          <p:nvSpPr>
            <p:cNvPr id="372" name=""/>
            <p:cNvSpPr/>
            <p:nvPr/>
          </p:nvSpPr>
          <p:spPr>
            <a:xfrm>
              <a:off x="791532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5544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520" y="36576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15320" y="3276720"/>
              <a:ext cx="10512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5520" y="32004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1532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544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518480" y="4084560"/>
            <a:ext cx="152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Recu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Adeno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7076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60720" y="350532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292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Propuesto de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s Fase acuosas + Croma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3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659640" y="1844640"/>
            <a:ext cx="248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-90% Cost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= 0.85 Nc+0.1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tar la ma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cer Ejercicios para aplic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7:07:43Z</dcterms:created>
  <dc:creator>Maria Elena Lienqueo C.</dc:creator>
  <dc:description/>
  <dc:language>en-US</dc:language>
  <cp:lastModifiedBy>Ing Quimica</cp:lastModifiedBy>
  <dcterms:modified xsi:type="dcterms:W3CDTF">2006-07-24T15:31:28Z</dcterms:modified>
  <cp:revision>39</cp:revision>
  <dc:subject/>
  <dc:title>Separación y Procesos Biotecnológicos BT56A </dc:title>
</cp:coreProperties>
</file>