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0026-F1BB-4751-B223-B7B68D41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F93-98F5-4308-925A-AFEF890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348-6A4A-48C3-9747-CC4D593F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F492-B151-4E3F-A8EF-1C69C016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BB5-CCB5-4E0F-A783-C400AB6A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C8E8-DDC1-4DE6-A0EC-7821331B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75DE-8ABD-4C18-AAD7-DD883C42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267-F12F-437D-BD4D-C7A23C1A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4E9A-B0F2-4EFB-8880-9E33D9D71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88B5-C394-4C58-A6E3-59F3DA8A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27B-C815-4E00-8360-0B57ABD4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996A-8AA4-4868-A717-9D5BBD19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6DF9-13A8-4722-8DB6-3AFC42D178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56600" y="254160"/>
            <a:ext cx="34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¿ Dónde estamo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8920" y="354348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708360" y="580536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scensión rec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hora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1800" y="5877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52360" y="263700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grados, min., 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2764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10360" y="3305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60" y="3357720"/>
            <a:ext cx="13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0" y="47242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35280" y="378936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-90360" y="53942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3640" y="308916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76640"/>
            <a:ext cx="9061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Ascensión Rect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RA  ó 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l equinoccio de primavera ( Mar 21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 se mide en horas, minutos y segundos, el círculo completo de 36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rresponde a 24 ho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8280" y="260280"/>
            <a:ext cx="85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eclinación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) se mide a partir del ecu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</a:t>
            </a:r>
            <a:r>
              <a:rPr b="1" lang="el-GR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0 ) en grados, minutos (de arco),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e arc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120" y="4862520"/>
            <a:ext cx="855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21 de Marzo (equinoccio de primavera) 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ene ascensión recta 0 y declinación 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882000" y="85680"/>
            <a:ext cx="796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La rotación de la Tierra se refleja en el mov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e las estrellas en el cie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31840" y="2009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Polo Sur cel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37080" y="2133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02000" y="402588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Cruz del S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378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494160" y="333360"/>
            <a:ext cx="22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66"/>
                </a:solidFill>
                <a:latin typeface="Times New Roman"/>
              </a:rPr>
              <a:t>visib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93280" y="903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4160" y="8366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1080" y="544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5440" y="551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43840" y="1865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296560" y="4889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05080" y="1989000"/>
            <a:ext cx="25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00"/>
                </a:solidFill>
                <a:latin typeface="Times New Roman"/>
              </a:rPr>
              <a:t>Eclip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2120" y="1962000"/>
            <a:ext cx="7619760" cy="2934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51840" y="426240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97280" y="39751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7440" y="191628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parci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4720" y="4221000"/>
            <a:ext cx="33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ipse total de L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2300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Eclipse total de Luna, la Tierra se interpone entre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Sol y la Lu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5280" y="33336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fera cel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6364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273280" y="3747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tot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01640" y="2678040"/>
            <a:ext cx="342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parcial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44920" y="5486400"/>
            <a:ext cx="337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anular de 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a órbita de la Luna tiene una inclinación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con respecto a la eclíptica, sólo se producen eclip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ando los nodos de la órbita de la Luna están aline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la Tierra y el Sol , lo que ocurre 2 veces al año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urante Luna llena (eclipse de Luna) y Luna nue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clipse de Sol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920" y="2822400"/>
            <a:ext cx="844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i el eclipse ocurre cuando la Luna está más lejos d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ierra, la umbra no llega a la Tierra y se produce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solar an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2360" y="4478400"/>
            <a:ext cx="885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bido a que los nodos de la órbita de la Luna se mu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e producen eclipses cad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173 dás. Combinado con 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íodo de las fases de la Luna de 29.5, si hoy tenemos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clipse habrá otro en 18 años 11.33 días, este período 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lama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iclo de Sar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95640" y="620640"/>
            <a:ext cx="4781520" cy="5715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29280" y="14400"/>
            <a:ext cx="282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49800" y="6338880"/>
            <a:ext cx="25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82160" y="2781360"/>
            <a:ext cx="14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86360" y="31352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14440"/>
            <a:ext cx="7619760" cy="5829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920920" y="130968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13440" y="1628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90000" y="2894040"/>
            <a:ext cx="167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de ver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4200" y="5054760"/>
            <a:ext cx="189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olstici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62120" y="1003320"/>
            <a:ext cx="7619760" cy="48513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120400" y="333360"/>
            <a:ext cx="47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recesión  del ej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79680" y="602136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Período es de 26000 añ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1672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17800" y="2708280"/>
            <a:ext cx="4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07280" y="2924280"/>
            <a:ext cx="174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θ</a:t>
            </a:r>
            <a:r>
              <a:rPr b="1" lang="es-MX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s-MX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= 23.5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14400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primavera (punto Vernal)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punto en que el Sol cruza el  ecuador celes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sde el Sur hacia el Norte (21 de Marzo). 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equinoccio de otoño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el 21 de Septiembre, marca el momento en que el Sol cruza el ecuador celeste  desde el Norte hacia el Sur.  En esos puntos el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día y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3300"/>
                </a:solidFill>
                <a:latin typeface="Times New Roman"/>
              </a:rPr>
              <a:t>la noche tienen igual du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 90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° están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vera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 21 de junio, cuando 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más largo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l día más corto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solsticio de inviern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el 21 de Diciembre cuando el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hemisferio Norte tiene el día más corto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y la noche más larga (lo opuesto ocurre en el hemisferio Su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893080" cy="4365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481840" y="260280"/>
            <a:ext cx="42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66"/>
                </a:solidFill>
                <a:latin typeface="Times New Roman"/>
              </a:rPr>
              <a:t>Solsticios y equinoc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45080" y="19890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Dic.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4880" y="213372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Jun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0360" y="191628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Mar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18520" y="414972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Sep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280" y="5486400"/>
            <a:ext cx="759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 la inclinación del eje terrestre lo que causa 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est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111320"/>
            <a:ext cx="8057880" cy="4635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1840" y="1793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80200" y="641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ze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" y="272880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horizo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3280" y="244152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ong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793640" y="539424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8720" y="4508640"/>
            <a:ext cx="167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Ecuador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89880" y="1844640"/>
            <a:ext cx="155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Merid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        </a:t>
            </a:r>
            <a:r>
              <a:rPr b="1" lang="es-MX" sz="2400" spc="-1" strike="noStrike">
                <a:solidFill>
                  <a:srgbClr val="cc00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17280" y="68724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58:10Z</dcterms:modified>
  <cp:revision>33</cp:revision>
  <dc:subject/>
  <dc:title>PowerPoint Presentation</dc:title>
</cp:coreProperties>
</file>