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03C0-D872-4505-9BC8-02A4620E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1B98-FBED-449B-8587-51394411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BB8A-7E6B-4D15-AE3F-494B85C0B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D740-C9CA-4F31-BB46-388CB7618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B34F-9721-46B9-B848-7A46B9CE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BA67-8414-48DB-8962-5E0E84B8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5662-B6D9-446D-986C-9F8A6908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3A44-4712-4DE9-90ED-9C956D72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224B-1416-4036-A884-FD24E408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A4FB-D379-49E6-910C-0460946E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48E2-4008-4677-8940-89C69795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2AC4-9065-40A3-A3E4-9B59F2CF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99FF-8831-4F39-859F-39300C0286C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Leyes de Kep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s-MX" sz="3200" spc="-1" strike="noStrike" baseline="30000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  Ley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los planetas giran en torno al Sol con órbitas que son elipses con el Sol en un foco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s-MX" sz="32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  Ley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la línea que une el Sol y un planeta barre áreas iguales en tiempos igu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s-MX" sz="32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  Ley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el cuadrado del período orbital es proporcional al cubo de su semieje mayor :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35000" y="5373720"/>
            <a:ext cx="165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MX" sz="3200" spc="-1" strike="noStrike" baseline="30000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770920" y="260280"/>
            <a:ext cx="37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Binarias eclipsant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2360" y="1125360"/>
            <a:ext cx="863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Una binaria eclipsante está compuesta por dos estrel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uya órbita esta en el plano de la vis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4000" y="2387520"/>
            <a:ext cx="856908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83664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ejemplo más conocido de binaria eclipsante es Algol (en la constelación de Perseo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Algol se hace 3 veces más débil por unas po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horas cada 3 días, cuando la componente má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brillante del sistema es eclipsada por su compañ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ás déb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982160" y="209520"/>
            <a:ext cx="51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Binarias espectroscóp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4440" y="907920"/>
            <a:ext cx="87015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Son sistemas en que sólo podemos detectar 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ariaciones de velocidades radiales de amb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trellas debido a su movimiento en torno al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mún. En este caso vemos dos sistemas de lín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pectrales que se mueven periódicamente hac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azul y el rojo, con distintas veloc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n muchos casos sólo vemos un sistema de lín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bido a que la otra estrella es muy débil, en e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aso sólo podemos dar una masa mínima p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 estrella que no se detecta (Función de Mas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121480" y="189000"/>
            <a:ext cx="44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Determinación de ma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50920" y="1052640"/>
                <a:ext cx="47527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443640" y="1268280"/>
                <a:ext cx="216072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611280" y="4241880"/>
            <a:ext cx="322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eríodo orb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emieje may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locidad orb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003640" y="2924280"/>
                <a:ext cx="2376720" cy="18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97280" y="34776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34136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s líneas del espectro de dos estrellas que form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una binaria eclipsante se mueven con un período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2 años (p = 6.2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×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7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). Las líneas de una estrell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strella 1) se desplazan el doble que las de la ot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strella 2). El desplazamiento Doppler indic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e la estrella 1 tiene una velocidad rad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 = 100000 m/s (suponer que ambas estrel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ienen órbitas circularesen torno a su C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lcular ambas mas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520" y="517680"/>
            <a:ext cx="84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omo tenemos el período orbital, podemos determi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l semieje mayor  dado qu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0" y="1773360"/>
                <a:ext cx="9144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×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0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60920" y="3543480"/>
            <a:ext cx="15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ando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835280" y="3213000"/>
                <a:ext cx="662436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4767120"/>
            <a:ext cx="9144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i la líneas de la estrella 1 se desplazan el doble que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2, esto implica que su velocidad es el doble (Doppler) , y 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asa la mitad, M</a:t>
            </a:r>
            <a:r>
              <a:rPr b="1" lang="es-MX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= 2M</a:t>
            </a:r>
            <a:r>
              <a:rPr b="1" lang="es-MX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g  ;  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5 ×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9360" y="469800"/>
            <a:ext cx="73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En el caso que la estrella 2 no sea visibl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95280" y="1268280"/>
                <a:ext cx="8280360" cy="21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G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5147280" y="3141720"/>
            <a:ext cx="32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Función de ma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076640"/>
            <a:ext cx="914400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(obs) = velocidad radial med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in i = 1  si la órbita está en el plano de la vis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es la masa de la estrella que se 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476280"/>
            <a:ext cx="84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66"/>
                </a:solidFill>
                <a:latin typeface="Times New Roman"/>
              </a:rPr>
              <a:t>Planetas extra-solares (exo-planet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90360" y="1716120"/>
            <a:ext cx="9443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Métodos de detección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irecto (aún en el futuro 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or movimiento propio en torno al CM  (poc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or variación de velocidad radial (método má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usad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47640" y="620640"/>
            <a:ext cx="6048720" cy="568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0760" y="386064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uz corrida al az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11680" y="3716280"/>
            <a:ext cx="308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uz corrida hacia el ro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19480" y="6041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95640" y="64008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39120" y="251316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str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72240" y="71280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laneta extra-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97800" y="119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48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21337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2060640"/>
            <a:ext cx="47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pectro corrido hacia el az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2920" y="4334040"/>
            <a:ext cx="469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pectro corrido hacia el ro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95840" y="339876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hacia el observ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37640" y="1093680"/>
            <a:ext cx="25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objeto se ace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44720" y="6093000"/>
            <a:ext cx="23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objeto se ale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Leyes de Newt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386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s-MX" sz="28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 Ley de Newton</a:t>
            </a:r>
            <a:r>
              <a:rPr b="1" lang="es-MX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s-MX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n ausencia de una fuerza externa un objeto se mueve con velocidad constante</a:t>
            </a:r>
            <a:r>
              <a:rPr b="1" lang="es-MX" sz="28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s-MX" sz="28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 Ley de Newton</a:t>
            </a:r>
            <a:r>
              <a:rPr b="1" lang="es-MX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fuerza = mas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acel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y de Newton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ara cualquier fuerza existe 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rza de reacción de igual magnitud y dire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ues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Times New Roman"/>
              </a:rPr>
              <a:t>Curva de velocidad radial de 51 Pe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7056360" cy="4898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759480" y="618480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Tiempo (dí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268280"/>
            <a:ext cx="54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4360" y="472428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(m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880" y="1628640"/>
            <a:ext cx="8966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El planeta de 51 Peg tiene 60% de la masa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Júpiter,  pero gira en torno a su estrel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en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~ 4 días, su temperatura sería de ~ 1000 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48040" y="26028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Orbita en el plano del ci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11640" y="260280"/>
            <a:ext cx="49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Orbita perpendicular al plano del      cie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80" y="765000"/>
            <a:ext cx="392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No se detecta variación de v</a:t>
            </a:r>
            <a:r>
              <a:rPr b="1" lang="es-MX" sz="2400" spc="-1" strike="noStrike" baseline="-25000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76960" y="1766880"/>
            <a:ext cx="421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Inclinación de la órb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del planeta extra-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8317080" cy="5761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068720" y="6021360"/>
            <a:ext cx="19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4000" y="267804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2000" y="198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85280" y="354348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72920" y="419112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Tránsito de HD20945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5113440" cy="5832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212800" y="620640"/>
            <a:ext cx="3928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o en este caso 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laneta tapa el 1.7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 la luz de la estre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urante el tránsito, e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mite estimar el ra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l planeta conocie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l de la estrella</a:t>
            </a: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84240" y="3776760"/>
            <a:ext cx="3656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o la órbita está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l plano de la línea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a visual, podem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alcular su ma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esultó ser un plane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arecido a Júp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Times New Roman"/>
              </a:rPr>
              <a:t>Cálculo de masas de exo-plane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: masa de la estrella (se conoce por el espectr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: masa del exo-plan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: velocidad orbital de la estrella c/r  al centro de masas (C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: velocidad orbital del exo-planeta c/r al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: distancia de la estrella al CM (normalmente muy pequeñ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: distancia del exo-planeta al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-637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68360" y="333360"/>
                <a:ext cx="255888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651640" y="260280"/>
                <a:ext cx="266364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50920" y="1916280"/>
                <a:ext cx="4033800" cy="15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5888520" y="2276640"/>
            <a:ext cx="2421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s-MX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1" i="1" lang="es-MX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 =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5720" y="4138560"/>
            <a:ext cx="664848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MX" sz="4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: velocidad orbital de objeto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MX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 : velocidad orbital de objeto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  : semieje mayor de la órbi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160" y="469800"/>
            <a:ext cx="5504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La expresión final para 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95280" y="1268280"/>
                <a:ext cx="8280360" cy="21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G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5507640" y="3525840"/>
            <a:ext cx="32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unción de ma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076640"/>
            <a:ext cx="914400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(obs) = velocidad radial med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in i = 1  si la órbita está en el plano de la vis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es la masa de la estrella que se puede esti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-312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360" y="259920"/>
            <a:ext cx="38098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Usando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843280" y="0"/>
                <a:ext cx="525780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5067360" y="4114800"/>
            <a:ext cx="2971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50920" y="1557360"/>
                <a:ext cx="66974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G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042920" y="3716280"/>
                <a:ext cx="29718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ervada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843280" y="4149720"/>
                <a:ext cx="297180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ervada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411280" y="3933720"/>
                <a:ext cx="29718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ervada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0" y="4941720"/>
            <a:ext cx="914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ara el caso de exo-planetas la masa de la estrell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se conoce, v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se mide, y   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141720"/>
            <a:ext cx="914400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( v = v</a:t>
            </a:r>
            <a:r>
              <a:rPr b="1" i="1" lang="es-MX" sz="3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observada</a:t>
            </a: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inación de la órbita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 i ~ 90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hay un eclip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66"/>
                </a:solidFill>
                <a:latin typeface="Times New Roman"/>
              </a:rPr>
              <a:t>Espectro Sol - Tier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920000" cy="51134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264920" y="407052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Ti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49280" y="169560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48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Ley de gravitación universal (Newt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47163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a materia atrae a la materia por la fuerza  de grav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a fuerza de atracción entre dos objetos es directamente proporcional al producto de sus ma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a fuerza de atracción entre dos cuerpos es inversamente proporcional al cuadrado de la distancia entre sus cent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67000" y="4114440"/>
            <a:ext cx="2971800" cy="1981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932360" y="1197000"/>
                <a:ext cx="396072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4893840" y="3645000"/>
            <a:ext cx="392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= 6.67 10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/kg s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32960" y="198612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tección indirecta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81080" y="335772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Jupit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26040" y="2994120"/>
            <a:ext cx="17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espectroscop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48360" cy="6453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547640" y="6461280"/>
            <a:ext cx="103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1 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36720" y="5950080"/>
            <a:ext cx="2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01080" y="6461280"/>
            <a:ext cx="7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4 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89440" y="5950080"/>
            <a:ext cx="2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56360" y="2276640"/>
            <a:ext cx="20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rimeros 7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lanetas descubie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¿Está esto de acuerdo con lo que sabemos de la formación del Sistema Sola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120" y="3860280"/>
            <a:ext cx="864252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No podemos explicar la formació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lanetas jovianos tan cerca de la estrel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31080" y="2171880"/>
            <a:ext cx="15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¡ NO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356000" y="692280"/>
            <a:ext cx="478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lapso de una nebulo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ara formar una estrel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y su sistema plane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84360" y="6021360"/>
            <a:ext cx="79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ímite de formación de planetas rocosos y gase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36960" y="32688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ormación de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-4017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0" y="3716280"/>
                <a:ext cx="392436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cape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G</m:t>
                            </m:r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0" y="692280"/>
                <a:ext cx="381636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érmica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k</m:t>
                            </m:r>
                            <m:r>
                              <m:t xml:space="preserve">×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4423320" y="981000"/>
            <a:ext cx="43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temp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masa de la partíc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const. de Boltz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20960" y="3573360"/>
            <a:ext cx="450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masa del cuer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: distancia (radi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: const. de gravi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60880" y="25653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21280" y="2444760"/>
            <a:ext cx="33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(1.38 10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-23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joule/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920" y="5084640"/>
            <a:ext cx="37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(6.67 10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/ kg s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547640" y="812880"/>
            <a:ext cx="7596360" cy="5236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350520" y="6338880"/>
            <a:ext cx="296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locidad en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40" y="1125360"/>
            <a:ext cx="186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Númer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áto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7080" y="333360"/>
            <a:ext cx="41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áximo de la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11920" y="5877000"/>
            <a:ext cx="32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locidad de esc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73280" y="-130320"/>
            <a:ext cx="25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átomos de so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3600" y="5559480"/>
            <a:ext cx="165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MX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= 40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68360" y="260280"/>
            <a:ext cx="8351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Para el caso de la Luna se pue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determinar que su velocidad de esca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que es de </a:t>
            </a: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≈ 2.4 km/s,  su temperat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 el día es  T = 400 K. A esa temperatur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 átomos de sodio tienen una velocidad térmica de 0.5 km/s , por lo tanto 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átomos de sodio son reteni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 constituyen la delgada atmósf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 la Luna.  La masa del sodio es 23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ces mayor que la del hidrogen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que es de 1.67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× 10</a:t>
            </a:r>
            <a:r>
              <a:rPr b="1" lang="en-US" sz="3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27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g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Planetas terrestres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(rocosos) se forman más ce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l Sol, donde está más caliente.  El hidrógen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helio y algunos otros elementos están en forma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gas que se escapan del planeta el cual se que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rincipalmente con minerales y rocas que tiene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emperaturas de condensación más al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Planetas jovianos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(gaseosos), más lejanos al So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odo está congelado son capaces de retener t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material de la nube inicial finalizando 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grandes mas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¿ Por qué los exo-planetas son distinto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1120" y="907560"/>
            <a:ext cx="864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Posible explicación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igración de planetas hacia la estrella p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iscosidad con el gas y polvo que no ha s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barrido por la estrella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¿ Efecto de selecció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Gravitación univers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2711520"/>
            <a:ext cx="7619760" cy="2654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01920" y="378288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42280" y="378288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57080" y="364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3860640"/>
            <a:ext cx="8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177336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n el caso del sistema Sol – Júpiter, amb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giran en torno a su centro de masa con un perí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 5.2 años.  La órbita de Júpier tiene un semie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ayor de 7.78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×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km, mientras que la del 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 de 742000 km, cómo el Sol tiene un radio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96000 km, éste lentamente se bambolea en torno a un punto (CM) que está no muy le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 su superfic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203040"/>
            <a:ext cx="598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Ej :          Sistema Sol -Júpi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39200" y="254160"/>
            <a:ext cx="772920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  velocidad con que el Sol orbita en to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al CM (Júpiter – Sol) es de 12.5 m/s, 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significa que , por ejemplo, la línea de H</a:t>
            </a:r>
            <a:r>
              <a:rPr b="1" lang="el-GR" sz="32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 6563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Å se desplazaría 2.6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4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Å, v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e está en el límite de lo que se pue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dir actualment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000" y="3567240"/>
            <a:ext cx="7799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Es más fácil detectar planetas masivos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cercanos a su estrella ya que estos produc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mayores variaciones en las veloc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radiales observadas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97440" y="5734080"/>
            <a:ext cx="41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¿ Será la respuesta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561400" y="0"/>
            <a:ext cx="658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Búsqueda de vida extraterrest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62120" y="1035000"/>
            <a:ext cx="7619760" cy="478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290720" y="138276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34000" y="282240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76920" y="426240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a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35080" y="5846760"/>
            <a:ext cx="47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ongitud de onda en micr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17800" y="189000"/>
            <a:ext cx="72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Agua y oxígeno sólo se encuentran en la 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1549440"/>
            <a:ext cx="9144000" cy="4471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803520" y="111240"/>
            <a:ext cx="53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Zona habitable : agua líqu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60360" y="6021360"/>
            <a:ext cx="22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istema S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13800" y="5199120"/>
            <a:ext cx="309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trella con  ½ M</a:t>
            </a:r>
            <a:r>
              <a:rPr b="1" lang="es-MX" sz="2800" spc="-1" strike="noStrike" baseline="-25000">
                <a:solidFill>
                  <a:srgbClr val="000000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Versión de Newton de la 3</a:t>
            </a:r>
            <a:r>
              <a:rPr b="1" lang="es-MX" sz="40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 ley de  Kep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042920" y="1989000"/>
                <a:ext cx="705816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676800" y="4221000"/>
            <a:ext cx="715284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período de la órbita en segun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semieje mayor de la órbita en me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masa del primer objeto en ki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masa del segundo objeto en ki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const. Gravitación univer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Times New Roman"/>
              </a:rPr>
              <a:t>Ejemplo:   cálculo de la masa del S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964720" y="333360"/>
            <a:ext cx="1792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50920" y="981000"/>
                <a:ext cx="80661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erra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erra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395280" y="2997360"/>
            <a:ext cx="6769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omo :  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sol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+ M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tierra 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M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50920" y="4221000"/>
                <a:ext cx="511164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253920" y="4379760"/>
            <a:ext cx="23857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tierra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 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tierra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= 1 a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55680" y="260280"/>
            <a:ext cx="65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Estrellas dobles (binarias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9720" y="1622520"/>
            <a:ext cx="83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70 % de las estrellas forman sistemas do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o múlt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4480" y="3135240"/>
            <a:ext cx="8780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os sistemas binarios permiten medir la masa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ada una de las estrellas (o bien su funció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asas en caso de que la inclinación de la órbita </a:t>
            </a:r>
            <a:r>
              <a:rPr b="1" i="1" lang="es-MX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no se conozc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699280" y="0"/>
            <a:ext cx="34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ipos de binaria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0" y="1484280"/>
            <a:ext cx="804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ar de estrellas que se ven claramente orbitando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orno a su centro de masas común (C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2840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66720" y="5950080"/>
            <a:ext cx="84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n este caso, tanto </a:t>
            </a:r>
            <a:r>
              <a:rPr b="1" i="1" lang="es-MX" sz="2800" spc="-1" strike="noStrike">
                <a:solidFill>
                  <a:srgbClr val="ffff00"/>
                </a:solidFill>
                <a:latin typeface="Times New Roman"/>
              </a:rPr>
              <a:t>Mizar A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cómo </a:t>
            </a:r>
            <a:r>
              <a:rPr b="1" i="1" lang="es-MX" sz="2800" spc="-1" strike="noStrike">
                <a:solidFill>
                  <a:srgbClr val="ffff00"/>
                </a:solidFill>
                <a:latin typeface="Times New Roman"/>
              </a:rPr>
              <a:t>Mizar B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son bin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7280" y="907920"/>
            <a:ext cx="324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Binarias visu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7920" y="357120"/>
            <a:ext cx="88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Otro ejemplo de binaria visual es </a:t>
            </a:r>
            <a:r>
              <a:rPr b="1" i="1" lang="es-MX" sz="3200" spc="-1" strike="noStrike">
                <a:solidFill>
                  <a:srgbClr val="ffff00"/>
                </a:solidFill>
                <a:latin typeface="Times New Roman"/>
              </a:rPr>
              <a:t>Sirio A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y </a:t>
            </a:r>
            <a:r>
              <a:rPr b="1" i="1" lang="es-MX" sz="3200" spc="-1" strike="noStrike">
                <a:solidFill>
                  <a:srgbClr val="ffff00"/>
                </a:solidFill>
                <a:latin typeface="Times New Roman"/>
              </a:rPr>
              <a:t>Sirio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1871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60200" y="3686040"/>
            <a:ext cx="885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Times New Roman"/>
              </a:rPr>
              <a:t>Sirio A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es una estrella de tipo espectral A1 con una m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aproximada de 2 veces la masa del S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Times New Roman"/>
              </a:rPr>
              <a:t>Sirio B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es una enana blanca con una masa similar a la 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Teresa Ruiz</cp:lastModifiedBy>
  <dcterms:modified xsi:type="dcterms:W3CDTF">2006-08-21T20:41:37Z</dcterms:modified>
  <cp:revision>54</cp:revision>
  <dc:subject/>
  <dc:title>PowerPoint Presentation</dc:title>
</cp:coreProperties>
</file>