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BEB-1DFC-47C1-B454-B5C56154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6CA-3A4C-44FC-8212-3B2BD711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2ED-2A31-4A3C-9ABE-548D6DFE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0B0-3319-43AC-BD73-B4F1BD19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EF4-FE39-4E9E-B10F-A3D19A9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3F8-BADE-44A3-A469-2060DA32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A96-BE92-41C1-90AC-3BE4DF2F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046-ED0B-48C2-BBA9-50627485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004-BBF6-49CC-8B4B-961BE5E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DBC-BDC4-438C-A4E8-7DDACC0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65A-65B8-4844-904D-68BED146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9AC-5209-4695-92D1-0AF9532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FE3B-24FC-4882-AF15-1FE818E946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0520" y="83664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0" y="0"/>
            <a:ext cx="8751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560" y="446040"/>
            <a:ext cx="859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0600" y="-4752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" y="620640"/>
            <a:ext cx="9195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" y="2602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10160" y="184464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54936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520" y="692280"/>
            <a:ext cx="825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uena teoría de la form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lar debe ser capaz de explic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racterísticas de es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6000" y="15876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2280" y="1413000"/>
            <a:ext cx="48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5800" y="3645000"/>
            <a:ext cx="42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2520" y="479736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8040" y="-98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4560" y="13176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Abundancia de los 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" y="260280"/>
            <a:ext cx="923616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(150 K), se llama la línea de congelación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7440" y="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840" y="878040"/>
            <a:ext cx="909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simulación parte con 100 planetesimales, en 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años hay 22 protoplanetas, después de 150 millon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ños se forman los 4 planeta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31T14:18:05Z</dcterms:modified>
  <cp:revision>38</cp:revision>
  <dc:subject/>
  <dc:title>PowerPoint Presentation</dc:title>
</cp:coreProperties>
</file>