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406-593A-4170-A07B-82297737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E62-44B2-41EE-9C38-F50653CF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6C9-3724-4A23-BF2D-393BAE29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2B7-4ADD-43E1-B557-27B7CEBA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FF0-3773-4C54-BC20-A7D4B0CE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E66-E795-47ED-BFFC-F24FBAEB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451-1806-4E55-B0A0-BFEAD657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AC1-3391-4ED3-A6A3-2F056F73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5B2A-79E7-4104-A4E5-90321AD6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53F-F33F-4FE3-9F07-1D774DE7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EAA-C60C-4236-96A8-659195A0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2E6-3576-4873-9DAB-701EB16F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E818-81FA-49E5-A444-D77C4DAEBB1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0520" y="836640"/>
            <a:ext cx="58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20" y="0"/>
            <a:ext cx="8751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allá de la línea de congelación los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staban hechos de compuestos de H (Metano, Amo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gua) que era muy abundante y así formaron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igantes, los cuales crecieron aún más atrayendo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uestos de H y el He que estaba en estado gase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Sistema Solar interno donde los planetas roc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o lo podían retener por ser muy pequeños. Co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terial los planetas gigantes formaron sus prop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stemas “solares” con multiples satél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viento del Sol joven disipó la mayor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ases y el material original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en el cinturón de asteroides fueron af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Júpiter y muy pocos sobrev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0560" y="446040"/>
            <a:ext cx="859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planetesimales que están en la nube de Oort vi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s regiones entre los planetas gigantes y fu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nzados a su posición presente por interacciones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los. Por eso forman una nube esf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del cinturón de Kuiper, como Plutón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ordenados y giran en orbitas en la eclíptica.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debe a que se formaron más allá de Neptuno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no sufren el efecto de los planetas gig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racias al impacto en la Tierra joven de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ormados más allá de la línea de congelación, e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tenemos agua y una atmósfera (v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187280" y="0"/>
          <a:ext cx="7129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0600" y="-47520"/>
            <a:ext cx="50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atélites naturales “raros”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60" y="620640"/>
            <a:ext cx="9195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rte : Phobos y Deimos fueron capturados, compos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densidad distinta a la de M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Júpiter : Grupos de pequeños satélites en orbitas elíp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dos, giran al revés. Captu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eptuno : Tritón se parece a Plutón en 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ptu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 : Luna, se forma por un choque entre la Tierra,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inal de su formación, con un planetesimal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de Marte. La densidad de la Luna es me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la de la Tierra y muy similar incluso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a la corteza terre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51850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00" y="260280"/>
            <a:ext cx="85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la formación de la Luna por una col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10160" y="1844640"/>
            <a:ext cx="53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Otros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" y="54936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55 el filósofo alemán Immanuel Kant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el Sistema solar se formó del colapso de una n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material intereste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95 el matemático francés Pierre Laplace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 comienzos del siglo XX la hipótesis de qu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or la colisión del Sol con otra estrella er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se reconoce que el escenario en que el origen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nube que colapsa ha sido validado al explicar mu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racterísticas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584280"/>
            <a:ext cx="73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1520" y="692280"/>
            <a:ext cx="825624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uena teoría de la formación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lar debe ser capaz de explic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racterísticas de est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ovimientos orde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dos tipos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existencia de asteroides y 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s excepciones (eje de Urano, Luna, Trit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6000" y="158760"/>
            <a:ext cx="46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original es grande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ota muy le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2280" y="1413000"/>
            <a:ext cx="484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se calienta al colap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ngular rota má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5800" y="3645000"/>
            <a:ext cx="429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lisiones entre partí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lanan la n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2520" y="4797360"/>
            <a:ext cx="48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resultado es un disco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yor parte de la masa en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entro donde la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ambién es más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19760" cy="568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89280" y="1073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4920" y="344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728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68040" y="-982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 lo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4560" y="13176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Abundancia de los ele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20" y="260280"/>
            <a:ext cx="9236160" cy="7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inicial estaba compuesta de 98% H +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sólo 2% de otros ele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escenario un parámetro que es crucial es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al Sol a la que los compuestos de H se cong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(150 K), se llama la línea de congelación. Para el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ar esta línea está entre Marte y Jú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interior de la línea de congelación lo único qu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ólidos fue el material rocoso y los minerales que en total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ran más que el 2% del todo lo que había. Las partícul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inerales primero se adherían por fuerzas electrostátic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uego crecían por gravedad y colisiones (planetesi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materia prima disponible era poca (&lt; 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lanetas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40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7440" y="0"/>
            <a:ext cx="73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formación de planetas i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9840" y="878040"/>
            <a:ext cx="909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simulación parte con 100 planetesimales, en 3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años hay 22 protoplanetas, después de 150 millon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ños se forman los 4 planetas interi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31T14:18:05Z</dcterms:modified>
  <cp:revision>38</cp:revision>
  <dc:subject/>
  <dc:title>PowerPoint Presentation</dc:title>
</cp:coreProperties>
</file>