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AE1-79E0-46E8-8F81-9033B331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F63-03D6-4896-86B4-56992D33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EC5-5920-4E87-8353-56C5DF54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EA0A-FE79-42C0-ACB9-E0098AB64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DA97-A86A-44D8-9B26-C61B0DA0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7347-4AB2-423E-A89F-1603C0FE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81F-1A03-4EFD-A827-35E3D33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F39-096D-49F2-A785-48D9E9FA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0FF8-46D0-45AD-9B03-39B3C6A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3F6-88D9-47A7-AF7E-BA06794A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AB4-405C-43C0-A57E-24F696A1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8C8-7AF6-4522-8A75-B453EF6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E122-8F42-40A9-9B7A-649535D5737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0520" y="836640"/>
            <a:ext cx="58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Formación del Sistema So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8327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520" y="0"/>
            <a:ext cx="87516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allá de la línea de congelación los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staban hechos de compuestos de H (Metano, Amoni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gua) que era muy abundante y así formaron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igantes, los cuales crecieron aún más atrayendo 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uestos de H y el He que estaba en estado gase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Sistema Solar interno donde los planetas roc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o lo podían retener por ser muy pequeños. Con 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terial los planetas gigantes formaron sus prop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stemas “solares” con multiples satél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viento del Sol joven disipó la mayor parte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ases y el material original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en el cinturón de asteroides fueron afec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Júpiter y muy pocos sobrevi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20560" y="446040"/>
            <a:ext cx="8590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planetesimales que están en la nube de Oort vie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s regiones entre los planetas gigantes y fuer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nzados a su posición presente por interacciones 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los. Por eso forman una nube esfé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s objetos del cinturón de Kuiper, como Plutón 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ordenados y giran en orbitas en la eclíptica.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debe a que se formaron más allá de Neptuno por 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no sufren el efecto de los planetas giga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Gracias al impacto en la Tierra joven de planetesi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ormados más allá de la línea de congelación, es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tenemos agua y una atmósfera (vid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6381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187280" y="0"/>
          <a:ext cx="7129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0"/>
                    <a:ext cx="7129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0600" y="-47520"/>
            <a:ext cx="503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atélites naturales “raros”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60" y="620640"/>
            <a:ext cx="91951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rte : Phobos y Deimos fueron capturados, composi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densidad distinta a la de M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Júpiter : Grupos de pequeños satélites en orbitas elíp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inclinados, giran al revés. Captu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Neptuno : Tritón se parece a Plutón en composi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ptur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 : Luna, se forma por un choque entre la Tierra, 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final de su formación, con un planetesimal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de Marte. La densidad de la Luna es me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la de la Tierra y muy similar incluso 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posición a la corteza terrest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8000" y="571680"/>
            <a:ext cx="518508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558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00" y="260280"/>
            <a:ext cx="85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la formación de la Luna por una col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10160" y="1844640"/>
            <a:ext cx="533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Otros sistemas planetar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" y="549360"/>
            <a:ext cx="8948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55 el filósofo alemán Immanuel Kant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e el Sistema solar se formó del colapso de una nu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material intereste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1795 el matemático francés Pierre Laplace propu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o mis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 comienzos del siglo XX la hipótesis de que los plan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or la colisión del Sol con otra estrella era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ás pop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Hoy se reconoce que el escenario en que el origen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nube que colapsa ha sido validado al explicar much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racterísticas del sistema so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584280"/>
            <a:ext cx="73152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00"/>
                </a:solidFill>
                <a:latin typeface="Times New Roman"/>
              </a:rPr>
              <a:t>Proto – Sistemas Planet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3875040" cy="4616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7640" y="1989000"/>
            <a:ext cx="449568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1520" y="692280"/>
            <a:ext cx="8256240" cy="49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uena teoría de la formación del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lar debe ser capaz de explic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racterísticas de est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movimientos orde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dos tipos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existencia de asteroides y com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s excepciones (eje de Urano, Luna, Trit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266000" y="158760"/>
            <a:ext cx="46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original es grande 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ota muy lent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92280" y="1413000"/>
            <a:ext cx="4848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 la ener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se calienta al colaps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or conservación del m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ngular rota más ráp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85800" y="3645000"/>
            <a:ext cx="429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lisiones entre partíc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lanan la nu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22520" y="4797360"/>
            <a:ext cx="482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resultado es un disco con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ayor parte de la masa en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entro donde la temperat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ambién es más a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619760" cy="568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689280" y="1073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04920" y="344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77280" y="33051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Mu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68040" y="-98280"/>
            <a:ext cx="49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Formación de los ele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25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4560" y="131760"/>
            <a:ext cx="583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Abundancia de los elemen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20" y="260280"/>
            <a:ext cx="9236160" cy="7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nube inicial estaba compuesta de 98% H + 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y sólo 2% de otros eleme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escenario un parámetro que es crucial es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istancia al Sol a la que los compuestos de H se conge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(150 K), se llama la línea de congelación. Para el Sistem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ar esta línea está entre Marte y Júpi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l interior de la línea de congelación lo único que form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ólidos fue el material rocoso y los minerales que en total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ran más que el 2% del todo lo que había. Las partícula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minerales primero se adherían por fuerzas electrostátic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uego crecían por gravedad y colisiones (planetesimal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materia prima disponible era poca (&lt; 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formaron planetas peque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3640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7440" y="0"/>
            <a:ext cx="732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mulación de formación de planetas interi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9840" y="878040"/>
            <a:ext cx="909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simulación parte con 100 planetesimales, en 3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años hay 22 protoplanetas, después de 150 millon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ños se forman los 4 planeta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31T14:18:05Z</dcterms:modified>
  <cp:revision>38</cp:revision>
  <dc:subject/>
  <dc:title>PowerPoint Presentation</dc:title>
</cp:coreProperties>
</file>