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F7D-3343-4186-9F76-56CF6553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47F-BE18-46FA-B077-0647DC93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98E-847C-4031-8C1E-CB201E6B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689-1C33-4942-95EA-FF6BEC5A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C62C-DBE0-4210-803D-75F0A6E7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9843-6C88-47A8-8EF1-F49C5E0D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503-A10A-4BFE-ACD3-778FF9E9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0FC-2E1D-41CA-B8DE-179B19F6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2C5A-9692-4CB6-BAA1-DE847C3F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DAB-E5E7-46A7-B4C3-2FE9EC5E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9FE-17C1-43A1-9490-3768CBFA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46A5-56D4-44B4-9FB3-DDC8F03B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1122-F743-4B86-A778-0C8C38CBB46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50520" y="836640"/>
            <a:ext cx="580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Formación del Sistema So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8327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20" y="0"/>
            <a:ext cx="87516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ás allá de la línea de congelación los planetes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staban hechos de compuestos de H (Metano, Amon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gua) que era muy abundante y así formaron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igantes, los cuales crecieron aún más atrayendo 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uestos de H y el He que estaba en estado gase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l Sistema Solar interno donde los planetas roc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no lo podían retener por ser muy pequeños. Con 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terial los planetas gigantes formaron sus prop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stemas “solares” con multiples satél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viento del Sol joven disipó la mayor parte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ases y el material original del Sistema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s objetos en el cinturón de asteroides fueron afec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or Júpiter y muy pocos sobrev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20560" y="446040"/>
            <a:ext cx="8590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s planetesimales que están en la nube de Oort vie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las regiones entre los planetas gigantes y fuer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nzados a su posición presente por interacciones 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los. Por eso forman una nube esfé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s objetos del cinturón de Kuiper, como Plutón 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ás ordenados y giran en orbitas en la eclíptica. 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debe a que se formaron más allá de Neptuno por 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que no sufren el efecto de los planetas gig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racias al impacto en la Tierra joven de planetes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formados más allá de la línea de congelación, es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hoy tenemos agua y una atmósfera (vid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308720" y="638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187280" y="0"/>
          <a:ext cx="7129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7129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0600" y="-47520"/>
            <a:ext cx="503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atélites naturales “raros”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60" y="620640"/>
            <a:ext cx="9195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rte : Phobos y Deimos fueron capturados, composi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y densidad distinta a la de Ma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Júpiter : Grupos de pequeños satélites en orbitas elíp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dos, giran al revés. Captu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Neptuno : Tritón se parece a Plutón en composi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aptu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rra : Luna, se forma por un choque entre la Tierra, 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final de su formación, con un planetesimal de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o la de Marte. La densidad de la Luna es me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que la de la Tierra y muy similar incluso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a la corteza terres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8000" y="571680"/>
            <a:ext cx="518508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24720" cy="558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00" y="260280"/>
            <a:ext cx="85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mulación de la formación de la Luna por una col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10160" y="1844640"/>
            <a:ext cx="53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Otros sistemas plane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0" y="549360"/>
            <a:ext cx="894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1755 el filósofo alemán Immanuel Kant prop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que el Sistema solar se formó del colapso de una n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material intereste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1795 el matemático francés Pierre Laplace prop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 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 comienzos del siglo XX la hipótesis de que los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formaron por la colisión del Sol con otra estrella era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ás pop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Hoy se reconoce que el escenario en que el origen está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una nube que colapsa ha sido validado al explicar muc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aracterísticas del sistema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584280"/>
            <a:ext cx="73152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Proto – Sistemas Plane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616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495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1520" y="692280"/>
            <a:ext cx="825624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Una buena teoría de la formación d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olar debe ser capaz de explicar 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aracterísticas de est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movimientos orde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dos tipos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 existencia de asteroides y com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s excepciones (eje de Urano, Luna, Trit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6000" y="158760"/>
            <a:ext cx="46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nube original es grande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ota muy len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92280" y="1413000"/>
            <a:ext cx="4848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or conserv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nube se calienta al colap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or conservación del mo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ngular rota más ráp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85800" y="3645000"/>
            <a:ext cx="429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lisiones entre partíc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planan la nu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2520" y="4797360"/>
            <a:ext cx="4820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resultado es un disco con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yor parte de la masa en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entro donde la temperat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ambién es más al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619760" cy="568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89280" y="1073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N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04920" y="3449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V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77280" y="33051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Mu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68040" y="-9828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Formación de los ele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4560" y="131760"/>
            <a:ext cx="58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Abundancia de los elem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20" y="260280"/>
            <a:ext cx="9236160" cy="72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nube inicial estaba compuesta de 98% H + 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y sólo 2% de otros ele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ste escenario un parámetro que es crucial es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al Sol a la que los compuestos de H se conge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(150 K), se llama la línea de congelación. Para el Sist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olar esta línea está entre Marte y Júpi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l interior de la línea de congelación lo único que form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ólidos fue el material rocoso y los minerales que en total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ran más que el 2% del todo lo que había. Las partícula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inerales primero se adherían por fuerzas electrostátic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uego crecían por gravedad y colisiones (planetesimal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bido a que la materia prima disponible era poca (&lt; 2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formaron planetas peque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3640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7440" y="0"/>
            <a:ext cx="73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mulación de formación de planetas interi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9840" y="878040"/>
            <a:ext cx="909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simulación parte con 100 planetesimales, en 30 mil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años hay 22 protoplanetas, después de 150 millon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ños se forman los 4 planetas interi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31T14:18:05Z</dcterms:modified>
  <cp:revision>38</cp:revision>
  <dc:subject/>
  <dc:title>PowerPoint Presentation</dc:title>
</cp:coreProperties>
</file>