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0884-4288-4800-9BEC-BCE627C3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8A7A-0482-4BFB-B9D4-4EA373B0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D55-D319-48F6-818C-37955354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C97-C05E-4DF4-9030-2D657175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B87-AC8C-40AA-84D9-08AF3770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23C-3DC3-42B7-9A2F-F9425DBD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866-141E-4EEE-801A-937E0837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1B03-8FD3-43A5-A07D-0DEA0D8F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0B6-8E41-4776-A2A4-0CCBD23C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3579-341B-4671-B176-358C40AC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0CD-7B6C-4230-ADD5-EF3CC75E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780E-3ADA-494D-8EC9-5B373F02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1EBD-2CDA-42DD-9CAE-FE2737758FF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20560" y="85680"/>
            <a:ext cx="22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stema</a:t>
            </a: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7280" y="4960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u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94360" y="39528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Nept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41280" y="3952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U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6560" y="38098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Júp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6200" y="3952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Satu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03840" y="114444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M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08560" y="10018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1640" y="13604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9079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86516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de Ven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96 %  CO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, 3.5 %  N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90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470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entos, lluvia ácida, nubes de ácido sulfúr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Efecto invernad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68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391480" y="22971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58400" y="244152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infrarro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1280" y="5877000"/>
            <a:ext cx="36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uperficie absorbe la luz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transforma en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547560"/>
            <a:ext cx="3672000" cy="6310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348000" y="134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55280" y="1268280"/>
            <a:ext cx="448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istancia : 1 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orbital :  1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Radio ecuatorial : 6378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de rotación : 23.93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Inclinación del eje : 23.5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asa : 1 masa 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ensidad : 5.52 gr/cm</a:t>
            </a:r>
            <a:r>
              <a:rPr b="1" lang="es-MX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Velocidad de escape : 11.2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emperatura sup. : 29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omposición : roca y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1 luna ( la Lu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o tiene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Inclinación del eje de la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840360" cy="5732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516720" y="3716280"/>
            <a:ext cx="232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o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rb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Terrest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661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145280" y="13143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Times New Roman"/>
              </a:rPr>
              <a:t>Rayos-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6036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Rayos-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69800" y="105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98000" y="1050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24920" y="27306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Term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96200" y="380988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Estrat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25440" y="5805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rop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6202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de la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203328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77 % nitró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21 % oxí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1 % arg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1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15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entos, huracanes, nubes de agua, pol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Sistema Tierra Lu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0767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de la Lu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1916280"/>
            <a:ext cx="5435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helio, sodio, arg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10</a:t>
            </a:r>
            <a:r>
              <a:rPr b="1" lang="es-MX" sz="3200" spc="-1" strike="noStrike" baseline="30000">
                <a:solidFill>
                  <a:srgbClr val="ffff00"/>
                </a:solidFill>
                <a:latin typeface="Times New Roman"/>
              </a:rPr>
              <a:t>-14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125 C (día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-175 (noch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hay viento ni nub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20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M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3348000" cy="6165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419640" y="1628640"/>
            <a:ext cx="5724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stancia : 1.52 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eríodo orbital: 1.88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Radio ecuatorial : 3397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eríodo de rotación : 24.6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Inclinación del eje : 25.2 g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sa : 0.11 masas terres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nsidad : 3.93 gr/cm</a:t>
            </a:r>
            <a:r>
              <a:rPr b="1" lang="es-MX" sz="32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elocidad de escape : 5.03 km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240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rocas y m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M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427640" cy="446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00720" y="2492280"/>
            <a:ext cx="4643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9400" y="-33480"/>
            <a:ext cx="840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sta de Saturno, Marte, Sol y la Luna tom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sde el espacio con el Clementine (NA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Satélites de M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241520" cy="424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4103640" cy="4248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37280" y="1525680"/>
            <a:ext cx="13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0920" y="15256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Fob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tmósfera de M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: 95% dióxido de carbono (CO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2.7 % nitrógeno (N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1.6 % arg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0.007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-50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entos, tormentas de polvo, nubes de agua , dióxido de carbono y pol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360" y="620640"/>
            <a:ext cx="86425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os planetas con mayor diámetro se demo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ás en enfriarse ya que la razón volum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uperficie es may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 mayor superficie radiante el planeta 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fría más ráp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 los planetas rocosos la Tierra y Venus a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enen un núcleo líquido y cal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308720" y="638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Cinturón de Astero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88000" y="1557000"/>
            <a:ext cx="435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entre 2 y 3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promedio : aprox. 5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de 1 a 3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17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rocas y mi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lgunos tienen lunas pe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no tienen ani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743280" cy="3600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836360" y="14842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Júpiter (visto desde I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59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417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Júpi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764640"/>
            <a:ext cx="7772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11.9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71492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9.93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5.20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: 3.1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 : 318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1.33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59.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125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e, H, agua, metano, a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61 lunas y tiene anillos (Io, Europ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anymede y Callis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Satur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064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Satu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9.54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29.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6026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10.6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 : 26.7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: 95.2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0.70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35.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95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e, H, agua, metano, a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31 lunas y varios anillos (Titán más grande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ercurio y tiene atmósf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Ur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5614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70580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6080" y="0"/>
            <a:ext cx="855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Foto tomada por satélite TRACE (NASA)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ercurio transitando en frente del Sol (luz UV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67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Ur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19.2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83.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25559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17.2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 : 97.9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: 14.5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1.32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21.3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6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e, H, metano (CH</a:t>
            </a:r>
            <a:r>
              <a:rPr b="1" lang="es-MX" sz="28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), amoníaco (NH</a:t>
            </a:r>
            <a:r>
              <a:rPr b="1" lang="es-MX" sz="28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21 lunas y también tiene ani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Neptu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1981080"/>
            <a:ext cx="8642160" cy="4543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10360" y="1238400"/>
            <a:ext cx="29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ista desde Trit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Neptu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30.1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16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24764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16.1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 : 28.8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 : 17.1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1.64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23.6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6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e, H, metano, amoní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11 lunas y también tiene anillos (Tritón más grande que Plutón, tiene geysers de N, rota al rev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Plutón y Char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339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Plut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24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116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39.5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6.38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 : 119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: 0.002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2.0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1.2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4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ielo y 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1 luna (Charón) y no tiene ani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Com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77440" cy="4876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72000" y="105264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Hale – Bopp 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Com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 promedio, los cometas están a u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10000 a 50000 UA del Sol,  su tamaño 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 unos pocos kilómetros.  Se cree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enen una densidad similar al agua (hiel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án a una temperatura de unos po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rados Kelvin . Están compuestos de hi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y polvo (hielo sucio). Algunos tienen lu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354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086160" y="3333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64360" y="6400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aster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640" y="422100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inturón de Kui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280" y="54658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ube de O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3480" y="209520"/>
            <a:ext cx="30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El S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809880" cy="3403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4432320" cy="540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1080" y="0"/>
            <a:ext cx="42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Radio : 69500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asa : 333000 masas terr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emperatura : 6000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80" y="5305320"/>
            <a:ext cx="434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ada segundo el Sol trans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600 millones de toneladas d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en 596 millones de tonelada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He, el resto se va como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7056360" cy="626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10400" y="39852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Orión</a:t>
            </a:r>
            <a:br>
              <a:rPr sz="4000"/>
            </a:b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Región de formación este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5112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356000" y="692280"/>
            <a:ext cx="47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lapso de una nebulo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ara formar una estr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y su sistema plane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692360" y="765000"/>
          <a:ext cx="5832360" cy="574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765000"/>
                    <a:ext cx="5832360" cy="57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975680" y="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Formación del 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Nacen nuevas estrellas en Or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58920" y="1981080"/>
            <a:ext cx="64818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Proto – Sistemas Plane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616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495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2592360" cy="4969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048200" y="16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86560" y="1341360"/>
            <a:ext cx="606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istancia al Sol : 0.387 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orbital: 87.9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Radio ecuatorial : 244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de rotación : 58.6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Inclinación del eje : 0.0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asa : 0.06 masas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ensidad media : 5.43 gr/cm</a:t>
            </a:r>
            <a:r>
              <a:rPr b="1" lang="es-MX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Velocidad de escape : 4.43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emperatura sup. : 700K (día), 100K (no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omposición : rocas, metales (casi puro F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o tiene lunas ni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969160"/>
            <a:ext cx="847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o visitarán Messenger (NASA) en el 2007 y Bepi-Colombo (E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n el 20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2560" y="177336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riner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495680" cy="460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716360" cy="4680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861800" y="6021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08720" y="602136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de Mercu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Helio, Sodio, Oxí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10</a:t>
            </a:r>
            <a:r>
              <a:rPr b="1" lang="es-MX" sz="3200" spc="-1" strike="noStrike" baseline="30000">
                <a:solidFill>
                  <a:srgbClr val="ffff00"/>
                </a:solidFill>
                <a:latin typeface="Times New Roman"/>
              </a:rPr>
              <a:t>-14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425 C  (día), -175 C (noch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hay vientos ni nube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a noche y el día duran como 3 m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024360" cy="5554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759120" y="1649520"/>
            <a:ext cx="4281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istancia: 0.723 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orbital : 225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Radio ecuatorial : 6051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de rotación : 243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Inclinación del eje : 17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asa : 0.82 masas terr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ensidad : 5.24 gr/cm</a:t>
            </a:r>
            <a:r>
              <a:rPr b="1" lang="es-MX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Velocidad de escape : 10.4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emperatura sup. : 74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omposición : roca y 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o tiene lunas ni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00720" y="-1279440"/>
            <a:ext cx="2736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3708360" cy="3841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211640" y="765000"/>
            <a:ext cx="4659480" cy="2818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48320" y="4311720"/>
            <a:ext cx="3809880" cy="2212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0000" y="1587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49120" y="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Visión artística basada en datos de rad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omadas por la sonda Magallanes (N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30920" y="3716280"/>
            <a:ext cx="31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Foto tomada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or</a:t>
            </a: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 Ve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29T14:10:51Z</dcterms:modified>
  <cp:revision>25</cp:revision>
  <dc:subject/>
  <dc:title>PowerPoint Presentation</dc:title>
</cp:coreProperties>
</file>