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2CD-CC38-4A4F-966D-D4A94FC4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8C1-34AF-4E4D-831D-A0AECA2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33B-3860-4E46-A760-10B86F06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3D8-8D46-477B-ABB4-AC2C1746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897-69E0-445C-A62A-8E0B254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75A-B354-45CF-9DD3-14A042D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941-BB92-4469-A040-A094109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33F-4B3A-4381-A363-766B06BA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77C-4904-49FF-BCE3-ECC1A2B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F6E-9B6A-4B6B-A9E5-7B6BA76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70C-CF5A-4A5B-A418-225F59B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134-8050-45CB-B625-D88C9B9B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A85A-B8F4-47B0-8886-8E18CF64FA4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20560" y="85680"/>
            <a:ext cx="22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7280" y="4960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94360" y="395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1280" y="3952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6560" y="38098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3952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03840" y="11444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08560" y="10018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1640" y="13604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907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865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96 %  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, 3.5 %  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90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7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lluvia ácida, nubes de ácido sulfú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fecto invernad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91480" y="2297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58400" y="244152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infrarr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1280" y="587700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uperficie absorbe la luz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transforma en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47560"/>
            <a:ext cx="3672000" cy="63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48000" y="134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5280" y="1268280"/>
            <a:ext cx="448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: 1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 1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378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3.93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23.5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1 mas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52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1.2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29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1 luna ( la L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nclinación del eje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84036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16720" y="3716280"/>
            <a:ext cx="232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Terres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5661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45280" y="13143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Rayos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036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Rayo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9800" y="105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98000" y="1050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4920" y="2730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Term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96200" y="38098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imes New Roman"/>
              </a:rPr>
              <a:t>Estrat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25440" y="5805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pós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3328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77 % nit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1 %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huracanes, nubes de agua, p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istema Tierr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076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la Lu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16280"/>
            <a:ext cx="543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125 C (dí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-175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 ni nu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2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3348000" cy="616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9640" y="1628640"/>
            <a:ext cx="572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stancia : 1.52 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orbital: 1.8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Radio ecuatorial : 3397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eríodo de rotación : 24.6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Inclinación del eje : 25.2 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 : 0.11 mas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nsidad : 3.93 gr/cm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elocidad de escape : 5.03 k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240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rocas y m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27640" cy="446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6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9400" y="-33480"/>
            <a:ext cx="84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ta de Saturno, Marte, Sol y la Luna tom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espacio con el Clementine (NA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élites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241520" cy="424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103640" cy="42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7280" y="152568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15256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tmósfera de M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: 95% dióxido de carbono (CO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.7 % nitrógeno (N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.6 % arg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0.007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-50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entos, tormentas de polvo, nubes de agua , dióxido de carbono y pol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planetas con mayor diámetro se demo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en enfriarse ya que la razón volum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uperficie es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mayor superficie radiante el planet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fría más ráp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los planetas rocosos la Tierra y Venus a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 núcleo líquido y ca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inturón de Astero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435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entre 2 y 3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promedio : aprox.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de 1 a 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7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rocas y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lgunos tienen lunas 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tienen ani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36360" y="14842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Júpiter (visto desde 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41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Júp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1.9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71492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9.93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5.20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: 3.1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318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3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59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12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61 lunas y tiene anillos (Io, Europ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nymede y Callis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Satu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9.54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9.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6026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0.6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6.7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95.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0.7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35.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95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agua, metano, a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31 lunas y varios anillos (Titán más grand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ercurio y tiene atmósf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0580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6080" y="0"/>
            <a:ext cx="855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to tomada por satélite TRACE (NASA)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ercurio transitando en frente del Sol (luz UV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67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Ur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19.2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83.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5559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7.2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97.9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14.5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32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1.3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 (C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, amoníaco (NH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21 lunas y también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981080"/>
            <a:ext cx="864216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10360" y="12384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ista desde Trit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eptu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0.1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16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24764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16.1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28.8 g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 : 17.1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1.64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23.6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6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e, H, metano, amoní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1 lunas y también tiene anillos (Tritón más grande que Plutón, tiene geysers de N, rota al rev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lutón y Char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39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Plut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Orbital : 248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adio ecuatorial : 116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: 39.5 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rotación : 6.38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ción del eje : 119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sa: 0.002 masas terr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nsidad : 2.0 gr/cm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locidad de escape : 1.25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emperatura : 4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: hielo y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ne 1 luna (Charón) y no tiene ani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487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2000" y="105264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ale – Bopp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Com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promedio, los cometas están a u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10000 a 50000 UA del Sol,  su tamaño 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unos pocos kilómetros.  Se cree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n una densidad similar al agua (hie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án a una temperatura de unos po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dos Kelvin . Están compuestos de hi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polvo (hielo sucio). Algunos tienen l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86160" y="33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360" y="6400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stero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640" y="4221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inturón de Kui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4658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ube de O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480" y="209520"/>
            <a:ext cx="30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3403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432320" cy="540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080" y="0"/>
            <a:ext cx="42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: 69500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333000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: 6000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305320"/>
            <a:ext cx="434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da segundo el Sol trans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600 millones de tonelada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n 596 millones de tonelad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He, el resto se va como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05636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10400" y="39852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Orión</a:t>
            </a:r>
            <a:br>
              <a:rPr sz="4000"/>
            </a:b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Región de formación este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11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92360" y="765000"/>
          <a:ext cx="5832360" cy="57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765000"/>
                    <a:ext cx="583236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975680" y="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Nacen nuevas estrellas en Or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981080"/>
            <a:ext cx="64818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592360" cy="49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04820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6560" y="1341360"/>
            <a:ext cx="60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 al Sol : 0.387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: 87.9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24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58.6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0.0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06 masas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media : 5.43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4.43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00K (día), 100K (no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s, metales (casi puro 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96916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o visitarán Messenger (NASA) en el 2007 y Bepi-Colombo (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n el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560" y="177336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ine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49568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61800" y="602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720" y="60213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ercu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Atmósfera de Mercu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posición : Helio, Sodio,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esión : 10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-14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 : 425 C  (día), -175 C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hay vientos ni nube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noche y el día duran como 3 m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24360" cy="5554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1649520"/>
            <a:ext cx="4281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istancia: 0.723 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orbital : 225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Radio ecuatorial : 6051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Período de rotación : 243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nclinación del eje : 17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Masa : 0.82 masas terr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ensidad : 5.24 gr/cm</a:t>
            </a:r>
            <a:r>
              <a:rPr b="1" lang="es-MX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elocidad de escape : 10.4 k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emperatura sup. : 74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omposición : roca y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tiene lunas ni an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-1279440"/>
            <a:ext cx="273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3708360" cy="3841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4659480" cy="2818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4311720"/>
            <a:ext cx="3809880" cy="2212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158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9120" y="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isión artística basada en datos de rad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omadas por la sonda Magallanes (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0920" y="371628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Foto tom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or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 V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9T14:10:51Z</dcterms:modified>
  <cp:revision>25</cp:revision>
  <dc:subject/>
  <dc:title>PowerPoint Presentation</dc:title>
</cp:coreProperties>
</file>