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32BA-F4B0-4CED-A1D2-5674C023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E837-9BC3-4F77-86E3-533D90DB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0C26-083F-47E3-A44B-78B4E2EE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385F-533C-4EF1-825C-7D88E5F5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2EB8-393D-4796-934F-EED20B81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615B-7A50-48EC-9518-38F80500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D724-DA2C-41B7-8C48-C370AF2F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8771-5A28-47BD-80F5-320CEF67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FEC-A070-4FC4-8F91-9FF6B9EB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BB29-58C9-4FC1-BFBD-F8EB147A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D773-784E-4B74-A806-41EB63E0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4314-7378-4251-8BF5-02083790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6B29-8718-42E3-8580-BE347988FCD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20560" y="85680"/>
            <a:ext cx="22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istema</a:t>
            </a:r>
            <a:r>
              <a:rPr b="0" lang="es-MX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7280" y="49608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lu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94360" y="39528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Nept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41280" y="3952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Ur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16560" y="380988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Júp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6200" y="3952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Satu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03840" y="114444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M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08560" y="10018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1640" y="13604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87640" y="9079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Mercu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86516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Atmósfera de Ven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posición : 96 %  CO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2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, 3.5 %  N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resión : 90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 : 470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ientos, lluvia ácida, nubes de ácido sulfúr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Efecto invernad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713800" cy="568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391480" y="22971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58400" y="244152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infrarro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31280" y="5877000"/>
            <a:ext cx="36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uperficie absorbe la luz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 transforma en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547560"/>
            <a:ext cx="3672000" cy="6310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348000" y="134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55280" y="1268280"/>
            <a:ext cx="4484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istancia : 1 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eríodo orbital :  1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Radio ecuatorial : 6378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eríodo de rotación : 23.93 h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Inclinación del eje : 23.5 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Masa : 1 masa terr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ensidad : 5.52 gr/cm</a:t>
            </a:r>
            <a:r>
              <a:rPr b="1" lang="es-MX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Velocidad de escape : 11.2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Temperatura sup. : 29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omposición : roca y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1 luna ( la Lu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No tiene an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Inclinación del eje de la 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840360" cy="5732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516720" y="3716280"/>
            <a:ext cx="232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lano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rb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err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Atmósfera Terrest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80360" cy="5661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145280" y="13143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Times New Roman"/>
              </a:rPr>
              <a:t>Rayos-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6036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Rayos-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69800" y="105264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98000" y="1050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24920" y="27306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Times New Roman"/>
              </a:rPr>
              <a:t>Termó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96200" y="380988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Times New Roman"/>
              </a:rPr>
              <a:t>Estrató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25440" y="5805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ropó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62028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Atmósfera de la 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203328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posición : 77 % nitró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21 % oxí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                    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1 % arg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resión : 1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 : 15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ientos, huracanes, nubes de agua, pol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Sistema Tierra Lu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07672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Atmósfera de la Lu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1916280"/>
            <a:ext cx="5435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posición : helio, sodio, arg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resión : 10</a:t>
            </a:r>
            <a:r>
              <a:rPr b="1" lang="es-MX" sz="3200" spc="-1" strike="noStrike" baseline="30000">
                <a:solidFill>
                  <a:srgbClr val="ffff00"/>
                </a:solidFill>
                <a:latin typeface="Times New Roman"/>
              </a:rPr>
              <a:t>-14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 : 125 C (día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-175 (noch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No hay viento ni nub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320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Ma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3348000" cy="6165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419640" y="1628640"/>
            <a:ext cx="5724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istancia : 1.52 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eríodo orbital: 1.88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Radio ecuatorial : 3397 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eríodo de rotación : 24.6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Inclinación del eje : 25.2 gr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asa : 0.11 masas terrest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nsidad : 3.93 gr/cm</a:t>
            </a:r>
            <a:r>
              <a:rPr b="1" lang="es-MX" sz="32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elocidad de escape : 5.03 km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 : 240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posición : rocas y m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Ma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427640" cy="4464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00720" y="2492280"/>
            <a:ext cx="4643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9400" y="-33480"/>
            <a:ext cx="840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ista de Saturno, Marte, Sol y la Luna tom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sde el espacio con el Clementine (NAS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Satélites de Ma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4241520" cy="4248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4103640" cy="4248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37280" y="1525680"/>
            <a:ext cx="13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0920" y="152568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Fob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tmósfera de Ma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posición: 95% dióxido de carbono (CO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2.7 % nitrógeno (N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1.6 % arg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resión : 0.007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 : -50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ientos, tormentas de polvo, nubes de agua , dióxido de carbono y pol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360" y="620640"/>
            <a:ext cx="86425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os planetas con mayor diámetro se demo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ás en enfriarse ya que la razón volum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superficie es may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A mayor superficie radiante el planeta 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nfría más ráp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 los planetas rocosos la Tierra y Venus a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ienen un núcleo líquido y cal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308720" y="6381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Cinturón de Astero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788000" y="1557000"/>
            <a:ext cx="435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: entre 2 y 3 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adio promedio : aprox. 5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nsidad : de 1 a 3 gr/cm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: 17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: rocas y mi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lgunos tienen lunas pe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no tienen anil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3743280" cy="3600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836360" y="14842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Júpiter (visto desde I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596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4176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Júpi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764640"/>
            <a:ext cx="77724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orbital : 11.9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adio ecuatorial : 71492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rotación : 9.93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: 5.20 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clinación del eje: 3.1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sa : 318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nsidad : 1.33 gr/cm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elocidad de escape : 59.5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: 125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: He, H, agua, metano, a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ne 61 lunas y tiene anillos (Io, Europ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Ganymede y Callis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Satur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064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Satur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8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: 9.54 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orbital : 29.4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adio ecuatorial : 60268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rotación : 10.6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clinación del eje : 26.7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sa: 95.2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nsidad : 0.70 gr/cm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elocidad de escape : 35.5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: 95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: He, H, agua, metano, a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ne 31 lunas y varios anillos (Titán más grande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ercurio y tiene atmósfe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Ur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5614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70580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16080" y="0"/>
            <a:ext cx="855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Foto tomada por satélite TRACE (NASA)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ercurio transitando en frente del Sol (luz UV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0360" y="-360"/>
            <a:ext cx="367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Ura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: 19.2 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orbital : 83.8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adio ecuatorial : 25559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rotación : 17.2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clinación del eje : 97.9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sa: 14.5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nsidad : 1.32 gr/cm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elocidad de escape : 21.3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: 6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: He, H, metano (CH</a:t>
            </a:r>
            <a:r>
              <a:rPr b="1" lang="es-MX" sz="28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), amoníaco (NH</a:t>
            </a:r>
            <a:r>
              <a:rPr b="1" lang="es-MX" sz="28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ne 21 lunas y también tiene ani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Neptu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0920" y="1981080"/>
            <a:ext cx="8642160" cy="4543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10360" y="1238400"/>
            <a:ext cx="29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ista desde Trit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Neptu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: 30.1 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orbital : 164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adio ecuatorial : 24764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rotación : 16.1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clinación del eje : 28.8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sa : 17.1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nsidad : 1.64 gr/cm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elocidad de escape : 23.6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: 6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: He, H, metano, amoní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ne 11 lunas y también tiene anillos (Tritón más grande que Plutón, tiene geysers de N, rota al rev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Plutón y Char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339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Plut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Orbital : 248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adio ecuatorial : 116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: 39.5 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rotación : 6.38 d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clinación del eje : 119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sa: 0.002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nsidad : 2.0 gr/cm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elocidad de escape : 1.25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: 4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: hielo y r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ne 1 luna (Charón) y no tiene ani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Come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77440" cy="4876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72000" y="1052640"/>
            <a:ext cx="26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Hale – Bopp (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Come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n promedio, los cometas están a u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10000 a 50000 UA del Sol,  su tamaño 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 unos pocos kilómetros.  Se cree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ienen una densidad similar al agua (hiel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tán a una temperatura de unos poc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grados Kelvin . Están compuestos de hi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y polvo (hielo sucio). Algunos tienen lu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6354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086160" y="3333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64360" y="64008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astero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1640" y="422100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inturón de Kui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280" y="54658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Nube de O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3480" y="209520"/>
            <a:ext cx="30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                                </a:t>
            </a: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El S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809880" cy="3403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500720" y="1268280"/>
            <a:ext cx="4432320" cy="5400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1080" y="0"/>
            <a:ext cx="426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Radio : 69500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Masa : 333000 masas terres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Temperatura : 6000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80" y="5305320"/>
            <a:ext cx="434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ada segundo el Sol trans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600 millones de toneladas d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en 596 millones de tonelada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He, el resto se va como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7056360" cy="6264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10400" y="398520"/>
            <a:ext cx="25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Orión</a:t>
            </a:r>
            <a:br>
              <a:rPr sz="4000"/>
            </a:b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Región de formación este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5112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-401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356000" y="692280"/>
            <a:ext cx="478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lapso de una nebulo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ara formar una estrel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y su sistema plane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1692360" y="765000"/>
          <a:ext cx="5832360" cy="574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765000"/>
                    <a:ext cx="5832360" cy="57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1975680" y="0"/>
            <a:ext cx="51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Formación del 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84360" y="6021360"/>
            <a:ext cx="79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ímite de formación de planetas rocosos y gase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6960" y="3268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ormación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Nacen nuevas estrellas en Or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58920" y="1981080"/>
            <a:ext cx="648180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Proto – Sistemas Planet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875040" cy="4616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4956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Mercu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2592360" cy="4969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048200" y="16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86560" y="1341360"/>
            <a:ext cx="606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istancia al Sol : 0.387 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eríodo orbital: 87.9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Radio ecuatorial : 244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eríodo de rotación : 58.6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Inclinación del eje : 0.0 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Masa : 0.06 masas de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ensidad media : 5.43 gr/cm</a:t>
            </a:r>
            <a:r>
              <a:rPr b="1" lang="es-MX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Velocidad de escape : 4.43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Temperatura sup. : 700K (día), 100K (noch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omposición : rocas, metales (casi puro F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No tiene lunas ni an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5969160"/>
            <a:ext cx="847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o visitarán Messenger (NASA) en el 2007 y Bepi-Colombo (E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n el 20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2560" y="177336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ariner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Mercu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495680" cy="4608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4716360" cy="4680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861800" y="6021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08720" y="602136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Mercu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Atmósfera de Mercu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posición : Helio, Sodio, Oxí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resión : 10</a:t>
            </a:r>
            <a:r>
              <a:rPr b="1" lang="es-MX" sz="3200" spc="-1" strike="noStrike" baseline="30000">
                <a:solidFill>
                  <a:srgbClr val="ffff00"/>
                </a:solidFill>
                <a:latin typeface="Times New Roman"/>
              </a:rPr>
              <a:t>-14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 : 425 C  (día), -175 C (noch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No hay vientos ni nubes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La noche y el día duran como 3 m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024360" cy="5554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759120" y="1649520"/>
            <a:ext cx="4281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istancia: 0.723 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eríodo orbital : 225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Radio ecuatorial : 6051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eríodo de rotación : 243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Inclinación del eje : 17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Masa : 0.82 masas terres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ensidad : 5.24 gr/cm</a:t>
            </a:r>
            <a:r>
              <a:rPr b="1" lang="es-MX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Velocidad de escape : 10.4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Temperatura sup. : 74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omposición : roca y m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No tiene lunas ni an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00720" y="-1279440"/>
            <a:ext cx="2736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3708360" cy="3841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211640" y="765000"/>
            <a:ext cx="4659480" cy="2818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648320" y="4311720"/>
            <a:ext cx="3809880" cy="2212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0000" y="15876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49120" y="0"/>
            <a:ext cx="54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Visión artística basada en datos de rad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tomadas por la sonda Magallanes (NA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30920" y="3716280"/>
            <a:ext cx="31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imes New Roman"/>
              </a:rPr>
              <a:t>Foto tomada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or</a:t>
            </a:r>
            <a:r>
              <a:rPr b="0" lang="es-MX" sz="2400" spc="-1" strike="noStrike">
                <a:solidFill>
                  <a:srgbClr val="ffcc00"/>
                </a:solidFill>
                <a:latin typeface="Times New Roman"/>
              </a:rPr>
              <a:t> Ve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Teresa Ruiz</cp:lastModifiedBy>
  <dcterms:modified xsi:type="dcterms:W3CDTF">2006-08-29T14:10:51Z</dcterms:modified>
  <cp:revision>25</cp:revision>
  <dc:subject/>
  <dc:title>PowerPoint Presentation</dc:title>
</cp:coreProperties>
</file>