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A7B-0739-4FDC-80A5-4CA55992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E7A-446E-4AF0-BF92-3E459FBB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F5A-A29E-4BEA-B91B-D292294D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CE2-8C17-4D03-8FA2-2645AB8C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D4C-C470-48A5-81AC-8E0457A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634-404E-4CB1-96DB-C032000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59F-A37C-4E8A-BB82-D237D78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9FF-1EFB-40E7-8DDD-1CBE4E3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4D-606F-4C2E-9A27-9D6EAEC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C8D-9C52-42CA-BCEA-FCE674B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B3C-9166-4C25-A095-B88B137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60A-D932-4D86-8422-5D05988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7BE-AB06-488B-ABE9-3BD9EB4FBA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0560" y="85680"/>
            <a:ext cx="22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96 %  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, 3.5 %  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90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7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lluvia ácida, nubes de ácido sulfú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fecto invernad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5280" y="1268280"/>
            <a:ext cx="448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: 1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52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nclinación del eje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77 % nit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1 %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huracanes, nubes de agua, p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istema Tierr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076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16280"/>
            <a:ext cx="54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25 C (dí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-175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 ni nu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1628640"/>
            <a:ext cx="57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 : 1.5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orbital: 1.8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adio ecuatorial : 3397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de rotación : 24.6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clinación del eje : 25.2 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 : 0.11 mas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nsidad : 3.93 gr/cm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elocidad de escape : 5.03 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24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rocas y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9400" y="-33480"/>
            <a:ext cx="84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ta de Saturno, Marte, Sol y la Luna tom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espacio con el Clementine (NA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élites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280" y="1525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1525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tmósfera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: 95% dióxido de carbono (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.7 % nitrógeno (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.6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0.007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-5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tormentas de polvo, nubes de agua , dióxido de carbono y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planetas con mayor diámetro se demo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en enfriarse ya que la razón volu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uperficie es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mayor superficie radiante el planet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fría más ráp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los planetas rocosos la Tierra y Venus a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 núcleo líquido y ca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inturón de Astero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entre 2 y 3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de 1 a 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36360" y="1484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Júpiter (visto desde 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5.20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9.54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0.7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6080" y="0"/>
            <a:ext cx="855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to tomada por satélite TRACE (NASA)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ercurio transitando en frente del Sol (luz UV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19.2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2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 (C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, amoníaco (N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10360" y="12384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0.1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64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lutón y Char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9.5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2.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2000" y="10526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promedio, los cometas están a u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0000 a 50000 UA del Sol,  su tamaño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unos pocos kilómetros.  Se cree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a densidad similar al agua (hie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án a una temperatura de unos po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dos Kelvin . Están compuestos de hi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polvo (hielo sucio). Algunos tienen l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6160" y="33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360" y="6400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40" y="4221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465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080" y="0"/>
            <a:ext cx="42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305320"/>
            <a:ext cx="434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6560" y="1341360"/>
            <a:ext cx="60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al Sol : 0.387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media : 5.43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61800" y="602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6021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25 C  (día), -175 C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s ni nub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noche y el día duran como 3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1649520"/>
            <a:ext cx="42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: 0.723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24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158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0920" y="371628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Foto tom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or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9T14:10:51Z</dcterms:modified>
  <cp:revision>25</cp:revision>
  <dc:subject/>
  <dc:title>PowerPoint Presentation</dc:title>
</cp:coreProperties>
</file>