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CE2B-A700-4FD6-9E12-13E06A94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90F-6D72-42E5-9EB9-CB6C706D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A00-28A7-4113-A381-67D7D01D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6BA-495B-4784-945B-997DBF4A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166-9E27-4EED-A039-DEB4F8EF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A18-9453-4FD1-B098-3AA42A8F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1D8-0CDB-4A3F-AE4F-30557F9C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7394-4C37-4223-BB67-A3113E12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609-3311-4C66-8B07-B9CD30E2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AD0-8495-4CA2-8F4C-22DEF32C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DAE8-C83A-4AC2-B057-49A79405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BF4-6C19-4FAE-8213-0BFA19E3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DB49-A039-45B4-9F45-EEFC5AE5D9C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Ascensión Rect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RA  ó 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8280" y="260280"/>
            <a:ext cx="85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eclinación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120" y="4862520"/>
            <a:ext cx="855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82000" y="85680"/>
            <a:ext cx="796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05080" y="1989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Times New Roman"/>
              </a:rPr>
              <a:t>Eclip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5280" y="33336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73280" y="3747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1640" y="267804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4920" y="548640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920" y="2822400"/>
            <a:ext cx="84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360" y="4478400"/>
            <a:ext cx="885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producen eclipses cad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173 dás.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habrá otro en 18 años 11.33 días, este períod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lama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primavera (punto Vernal)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Sur hacia el Norte (21 de Marzo). 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otoño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el 21 de Septiembre, marca el momento en que el Sol cruza el ecuador celeste  desde el Norte hacia el Sur.  En esos puntos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ía y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9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están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 21 de junio, cuando 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ás largo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21 de Diciembre cuando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 más cort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58:10Z</dcterms:modified>
  <cp:revision>33</cp:revision>
  <dc:subject/>
  <dc:title>PowerPoint Presentation</dc:title>
</cp:coreProperties>
</file>