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A06-9A27-475C-B899-25B8D71B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199-0331-4DDC-ABB9-0D9221C0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FFF-85A4-4B53-B3DB-AE7D9160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479D-6A01-4D7F-B1C2-3E69C500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DCA-664C-4321-B93E-8038473D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736-0583-4DDE-A626-CD761658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A3E4-A58B-407D-9745-14BEB9CE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9DB-9C2F-4679-87AC-D0214569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ADC3-2691-4A91-8CE6-2E138682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50C-85D3-425C-B293-CD907C2B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379-38F2-46CA-8A63-29F5F2A1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0CB-0C47-4ADB-894C-AE4FC303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AD85-57D3-422F-B082-E29EDD96CA1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56600" y="25416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¿ Dónde estam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8920" y="3543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08360" y="580536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scensión rec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hora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1800" y="5877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2360" y="2637000"/>
            <a:ext cx="287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grado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27640" y="328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10360" y="330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60" y="33577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0" y="47242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35280" y="378936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90360" y="5394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3640" y="3089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76640"/>
            <a:ext cx="9061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Ascensión Recta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 RA  ó 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se mide a par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l equinoccio de primavera ( Mar 21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 se mide en horas, minutos y segundos, el círculo completo de 36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corresponde a 24 ho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8280" y="260280"/>
            <a:ext cx="856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Declinación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se mide a partir del 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0 ) en grados, minutos (de arco), seg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e arc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120" y="4862520"/>
            <a:ext cx="855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21 de Marzo (equinoccio de primavera) 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ene ascensión recta 0 y declinación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20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82000" y="85680"/>
            <a:ext cx="796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La rotación de la Tierra se refleja en el mov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de las estrellas en el c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631840" y="2009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olo Sur cel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7080" y="2133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02000" y="4025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ruz del 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3789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494160" y="333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66"/>
                </a:solidFill>
                <a:latin typeface="Times New Roman"/>
              </a:rPr>
              <a:t>visib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93280" y="903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94160" y="8366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1080" y="5445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5440" y="5516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43840" y="1865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96560" y="4889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05080" y="198900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00"/>
                </a:solidFill>
                <a:latin typeface="Times New Roman"/>
              </a:rPr>
              <a:t>Eclip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1962000"/>
            <a:ext cx="7619760" cy="293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51840" y="42624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7280" y="39751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17440" y="191628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parci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44720" y="4221000"/>
            <a:ext cx="33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tot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8036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230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Eclipse total de Luna, la Tierra se interpone entre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l y la Lu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5280" y="33336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esfera cel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273280" y="37476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tot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01640" y="2678040"/>
            <a:ext cx="34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parci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44920" y="548640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anular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a órbita de la Luna tiene una inclinación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con respecto a la eclíptica, sólo se producen eclip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ando los nodos de la órbita de la Luna están alin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la Tierra y el Sol , lo que ocurre 2 veces al año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rante Luna llena (eclipse de Luna) y Luna nu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clipse de S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920" y="2822400"/>
            <a:ext cx="844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 el eclipse ocurre cuando la Luna está más lejos d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rra, la umbra no llega a la Tierra y se produce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solar an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2360" y="4478400"/>
            <a:ext cx="885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os nodos de la órbita de la Luna se mu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producen eclipses cad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~ 173 dás. Combinado con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las fases de la Luna de 29.5, si hoy tenemos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habrá otro en 18 años 11.33 días, este período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lama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iclo de Sar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78152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29280" y="14400"/>
            <a:ext cx="28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49800" y="63388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2160" y="2781360"/>
            <a:ext cx="14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6360" y="3135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14440"/>
            <a:ext cx="7619760" cy="5829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920920" y="130968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3440" y="1628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90000" y="2894040"/>
            <a:ext cx="167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 ve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4200" y="505476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v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003320"/>
            <a:ext cx="7619760" cy="4851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20400" y="333360"/>
            <a:ext cx="47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recesión  del eje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79680" y="602136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eríodo es de 26000 añ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278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17800" y="2708280"/>
            <a:ext cx="4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7280" y="292428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r>
              <a:rPr b="1" lang="es-MX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23.5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equinoccio de primavera (punto Vernal)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punto en que el Sol cruza el  ecuador cele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sde el Sur hacia el Norte (21 de Marzo).  El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equinoccio de otoño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el 21 de Septiembre, marca el momento en que el Sol cruza el ecuador celeste  desde el Norte hacia el Sur.  En esos puntos el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día y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la noche tienen igual du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 9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están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veran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l  21 de junio, cuando 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emisferio Norte tiene 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ás largo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l día más corto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inviern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l 21 de Diciembre cuando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emisferio Norte tiene el día más cort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y la noche más larga (lo opuesto ocurre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893080" cy="4365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81840" y="260280"/>
            <a:ext cx="42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Solsticios y equinoc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45080" y="19890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Dic.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4880" y="21337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Jun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0360" y="19162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Mar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18520" y="414972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Sep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7280" y="5486400"/>
            <a:ext cx="75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 la inclinación del eje terrestre lo que causa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1111320"/>
            <a:ext cx="8057880" cy="4635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71840" y="17938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80200" y="641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" y="27288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horiz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3280" y="2441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93640" y="53942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8720" y="4508640"/>
            <a:ext cx="16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89880" y="184464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17280" y="687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21T20:58:10Z</dcterms:modified>
  <cp:revision>33</cp:revision>
  <dc:subject/>
  <dc:title>PowerPoint Presentation</dc:title>
</cp:coreProperties>
</file>