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A92-B956-4B77-BBA9-1FC7D6AB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7A5-1136-47E3-A4DC-4C18BB7B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B64-4730-4D2E-BE6F-54167FDA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C98-61FB-4EC7-8BA3-33E1AC92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D24-F577-44A2-9894-E4C861F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813-FEBE-4011-8AAD-BD937E7E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469-5CBE-4454-A737-672F2DF7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1FC-B5F9-4E0A-969B-27B93129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97E-8471-4331-B224-97818926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DBD-7959-4B7B-934D-78EC792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4AA-0963-4651-AF43-F8CA297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211-FB58-4A78-B49D-795F24A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B1D-6B60-4805-922C-50B17BC9EA9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000" y="5373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70920" y="26028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ejemplo más conocido de binaria eclipsante es Algol (en la constelación de Perse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gol se hace 3 veces más débil por unas p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oras cada 3 días, cuando la componente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rillante del sistema es eclipsada por su compañ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déb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2160" y="2095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Binarias espectroscóp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40" y="907920"/>
            <a:ext cx="870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n sistemas en que sólo podemos detect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ciones de velocidades radiales de a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s debido a su movimiento en torno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ún. En este caso vemos dos sistemas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pectrales que se mueven periódicamente h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azul y el rojo, con distintas velo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muchos casos sólo vemos un sistema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bido a que la otra estrella es muy débil, en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so sólo podemos dar una masa mínima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trella que no se detecta (Función de M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1480" y="1890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11280" y="4241880"/>
            <a:ext cx="32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7280" y="34776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líneas del espectro de dos estrellas que for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inaria eclipsante se mueven con un 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 años (p = 6.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ar amba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520" y="517680"/>
            <a:ext cx="84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920" y="35434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 la líneas de la estrella 1 se desplazan el doble qu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360" y="4698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47280" y="31417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7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66"/>
                </a:solidFill>
                <a:latin typeface="Times New Roman"/>
              </a:rPr>
              <a:t>Planetas extra-solares (exo-planet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0360" y="1716120"/>
            <a:ext cx="94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Métodos de detec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recto (aún en el futuro 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movimiento propio en torno al CM  (po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variación de velocidad radial (método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s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objeto se mueve con velocidad constante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e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urva de velocidad radial de 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59480" y="6184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360" y="472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80" y="1628640"/>
            <a:ext cx="896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l planeta de 51 Peg tiene 60% de la mas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Júpiter,  pero gira en torno a su estr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4 días, su temperatura sería de ~ 1000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040" y="260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6028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perpendicular al plano del      ci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80" y="765000"/>
            <a:ext cx="392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se detecta variación de v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ánsito de HD2094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2800" y="620640"/>
            <a:ext cx="392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en este caso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 tapa el 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 luz de la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urante el tránsito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mite estimar el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l planeta cono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de la estrell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240" y="3776760"/>
            <a:ext cx="365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órbita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plano de la líne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visual, pod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lcular su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sultó ser un plan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ecido a Júp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Cálculo de masas de exo-plan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 la estrella (se conoce por el espec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l exo-pla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 la estrella c/r  al centro de masas (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l exo-planeta c/r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 la estrella al CM (normalmente muy peque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l exo-planeta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8360" y="333360"/>
                <a:ext cx="255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651640" y="260280"/>
                <a:ext cx="2663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916280"/>
                <a:ext cx="40338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888520" y="2276640"/>
            <a:ext cx="242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4138560"/>
            <a:ext cx="6648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: velocidad orbital de objet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: velocidad orbital de obje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 : semieje mayor de la ór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160" y="469800"/>
            <a:ext cx="550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expresión final para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7640" y="3525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puede esti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Times New Roman"/>
              </a:rPr>
              <a:t>Espectro Sol -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1197000"/>
                <a:ext cx="39607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893840" y="3645000"/>
            <a:ext cx="39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= 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120" y="3860280"/>
            <a:ext cx="8642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1080" y="2171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708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3280" y="-1303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6028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ara el caso de la Luna se pu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terminar que su velocidad de 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que es de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 2.4 km/s,  su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el día es  T = 400 K. A esa temperat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átomos de sodio tienen una velocidad térmica de 0.5 km/s , por lo tanto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omos de sodio son rete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constituyen la delgada atmó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a Luna.  La masa del sodio es 2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es mayor que la del hidroge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que es de 1.6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terrestre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joviano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¿ Por qué los exo-planetas son distinto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907560"/>
            <a:ext cx="864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Posible explica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el caso del sistema Sol – Júpiter, amb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iran en torno a su centro de masa con un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5.2 años.  La órbita de Júpier tiene un semi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yor de 7.78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m, mientras que la d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 de 742000 km, cómo el Sol tiene un radi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6000 km, éste lentamente se bambolea en torno a un punto (CM) que está no muy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su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304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 :          Sistema Sol -Júp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200" y="254160"/>
            <a:ext cx="7729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 velocidad con que el Sol orbita en 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 CM (Júpiter – Sol) es de 12.5 m/s,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ignifica que , por ejemplo, la línea de H</a:t>
            </a:r>
            <a:r>
              <a:rPr b="1" lang="el-GR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6563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 se desplazaría 2.6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Å,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r actualmen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000" y="3567240"/>
            <a:ext cx="779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Es más fácil detectar planetas masiv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ercanos a su estrella ya que estos produ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mayores variaciones en las velo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radiales observad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7440" y="573408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¿ Será la respuest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1" lang="es-MX" sz="4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1989000"/>
                <a:ext cx="7058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76800" y="4221000"/>
            <a:ext cx="71528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período de la órbita en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semieje mayor de la órbita en 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5680" y="260280"/>
            <a:ext cx="65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strellas dobles (binaria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1622520"/>
            <a:ext cx="83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70 % de las estrellas forman sistemas d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 mú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4480" y="3135240"/>
            <a:ext cx="878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sistemas binarios permiten medir la mas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da una de las estrellas (o bien su fun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s en caso de que la inclinación de la órbita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se conoz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99280" y="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0" y="1484280"/>
            <a:ext cx="80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 de estrellas que se ven claramente orbitand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orno a su centro de masas común (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720" y="59500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caso, tant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cóm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son b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907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visu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357120"/>
            <a:ext cx="88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tro ejemplo de binaria visual es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200" y="3686040"/>
            <a:ext cx="885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41:37Z</dcterms:modified>
  <cp:revision>54</cp:revision>
  <dc:subject/>
  <dc:title>PowerPoint Presentation</dc:title>
</cp:coreProperties>
</file>