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7F69-C29A-4796-8DAC-1C2D8DD88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1AB6-E1E2-4DDD-8845-04E11FF0C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D37A-F039-4D54-B010-0B0D7F348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1BCE-20C3-47C4-9E65-EB745C4AD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14C9-8E69-4BBC-A64B-D847497D5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06AD-39F5-4F8B-908E-F7045F6AE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2A6C-51BD-4FC4-AFED-400A35C3F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E011-DD61-43E3-A975-F325AEDFD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34D2-60F2-4A63-9940-55165CE66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B514-2EEA-44F8-AAEE-F3145531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F28E-E4BD-4922-8223-EBFBD0F0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810F-47D2-42C2-9160-723D39CD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DC4D5-B563-4C58-8D3A-3B9D7562E58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Leyes de Kepl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s-MX" sz="3200" spc="-1" strike="noStrike" baseline="30000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  Ley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: los planetas giran en torno al Sol con órbitas que son elipses con el Sol en un foco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s-MX" sz="3200" spc="-1" strike="noStrike" baseline="30000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  Ley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: la línea que une el Sol y un planeta barre áreas iguales en tiempos igu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s-MX" sz="3200" spc="-1" strike="noStrike" baseline="30000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  Ley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: el cuadrado del período orbital es proporcional al cubo de su semieje mayor :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35000" y="5373720"/>
            <a:ext cx="165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MX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a</a:t>
            </a:r>
            <a:r>
              <a:rPr b="1" lang="es-MX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MX" sz="3200" spc="-1" strike="noStrike" baseline="30000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770920" y="260280"/>
            <a:ext cx="37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Binarias eclipsante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2360" y="1125360"/>
            <a:ext cx="863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Una binaria eclipsante está compuesta por dos estrell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cuya órbita esta en el plano de la visu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24000" y="2387520"/>
            <a:ext cx="856908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83664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l ejemplo más conocido de binaria eclipsante es Algol (en la constelación de Perseo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Algol se hace 3 veces más débil por unas po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horas cada 3 días, cuando la componente má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brillante del sistema es eclipsada por su compañ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más déb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982160" y="209520"/>
            <a:ext cx="517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Binarias espectroscóp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44440" y="907920"/>
            <a:ext cx="87015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Son sistemas en que sólo podemos detectar 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variaciones de velocidades radiales de amb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strellas debido a su movimiento en torno al 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común. En este caso vemos dos sistemas de lín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spectrales que se mueven periódicamente haci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l azul y el rojo, con distintas veloc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n muchos casos sólo vemos un sistema de lín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debido a que la otra estrella es muy débil, en e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caso sólo podemos dar una masa mínima pa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la estrella que no se detecta (Función de Mas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121480" y="189000"/>
            <a:ext cx="44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Determinación de ma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50920" y="1052640"/>
                <a:ext cx="475272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6443640" y="1268280"/>
                <a:ext cx="216072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611280" y="4241880"/>
            <a:ext cx="322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eríodo orb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semieje may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velocidad orb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5003640" y="2924280"/>
                <a:ext cx="2376720" cy="18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097280" y="347760"/>
            <a:ext cx="198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Ejempl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341360"/>
            <a:ext cx="9144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Las líneas del espectro de dos estrellas que form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una binaria eclipsante se mueven con un período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2 años (p = 6.2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×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7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). Las líneas de una estrella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estrella 1) se desplazan el doble que las de la otr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estrella 2). El desplazamiento Doppler indica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que la estrella 1 tiene una velocidad rad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 = 100000 m/s (suponer que ambas estrel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ienen órbitas circularesen torno a su C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lcular ambas mas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80520" y="517680"/>
            <a:ext cx="846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Como tenemos el período orbital, podemos determin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l semieje mayor  dado qu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0" y="1773360"/>
                <a:ext cx="91440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×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0000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p>
                    </m:sSup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160920" y="3543480"/>
            <a:ext cx="153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Usando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835280" y="3213000"/>
                <a:ext cx="6624360" cy="124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k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0" y="4767120"/>
            <a:ext cx="91440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Si la líneas de la estrella 1 se desplazan el doble que 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2, esto implica que su velocidad es el doble (Doppler) , y s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masa la mitad, M</a:t>
            </a:r>
            <a:r>
              <a:rPr b="1" lang="es-MX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= 2M</a:t>
            </a:r>
            <a:r>
              <a:rPr b="1" lang="es-MX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= 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g  ;  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.5 ×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69360" y="469800"/>
            <a:ext cx="73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En el caso que la estrella 2 no sea visible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395280" y="1268280"/>
                <a:ext cx="8280360" cy="21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G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bs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5147280" y="3141720"/>
            <a:ext cx="327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Función de ma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4076640"/>
            <a:ext cx="914400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s-MX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(obs) = velocidad radial med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sin i = 1  si la órbita está en el plano de la vis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s-MX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es la masa de la estrella que se 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24000" y="476280"/>
            <a:ext cx="845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66"/>
                </a:solidFill>
                <a:latin typeface="Times New Roman"/>
              </a:rPr>
              <a:t>Planetas extra-solares (exo-planeta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-90360" y="1716120"/>
            <a:ext cx="94438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Métodos de detección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Directo (aún en el futuro ?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Por movimiento propio en torno al CM  (poc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Por variación de velocidad radial (método má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usado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47640" y="620640"/>
            <a:ext cx="6048720" cy="568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000760" y="3860640"/>
            <a:ext cx="23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luz corrida al az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11680" y="3716280"/>
            <a:ext cx="308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luz corrida hacia el ro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19480" y="6041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95640" y="64008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Tie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39120" y="251316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Estr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72240" y="712800"/>
            <a:ext cx="24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Planeta extra-s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797800" y="119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9482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50920" y="21337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2060640"/>
            <a:ext cx="470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spectro corrido hacia el az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2920" y="4334040"/>
            <a:ext cx="469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spectro corrido hacia el ro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95840" y="3398760"/>
            <a:ext cx="31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hacia el observ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37640" y="1093680"/>
            <a:ext cx="258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objeto se ace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44720" y="6093000"/>
            <a:ext cx="233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objeto se ale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Leyes de Newt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386000"/>
            <a:ext cx="91440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s-MX" sz="2800" spc="-1" strike="noStrike" baseline="30000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  Ley de Newton</a:t>
            </a:r>
            <a:r>
              <a:rPr b="1" lang="es-MX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s-MX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n ausencia de una fuerza externa un objeto se mueve con velocidad constante</a:t>
            </a:r>
            <a:r>
              <a:rPr b="1" lang="es-MX" sz="2800" spc="-1" strike="noStrike">
                <a:solidFill>
                  <a:srgbClr val="ffff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s-MX" sz="2800" spc="-1" strike="noStrike" baseline="30000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  Ley de Newton</a:t>
            </a:r>
            <a:r>
              <a:rPr b="1" lang="es-MX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: fuerza = mas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acel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y de Newton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ara cualquier fuerza existe 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erza de reacción de igual magnitud y dire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ues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Times New Roman"/>
              </a:rPr>
              <a:t>Curva de velocidad radial de 51 Pe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258920" y="1052640"/>
            <a:ext cx="7056360" cy="48988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759480" y="6184800"/>
            <a:ext cx="19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Tiempo (dí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9640" y="1268280"/>
            <a:ext cx="544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4360" y="4724280"/>
            <a:ext cx="8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(m/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880" y="1628640"/>
            <a:ext cx="8966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El planeta de 51 Peg tiene 60% de la masa 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Júpiter,  pero gira en torno a su estrell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en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~ 4 días, su temperatura sería de ~ 1000 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48040" y="260280"/>
            <a:ext cx="36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Orbita en el plano del ci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11640" y="260280"/>
            <a:ext cx="49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Orbita perpendicular al plano del      cie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280" y="765000"/>
            <a:ext cx="392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No se detecta variación de v</a:t>
            </a:r>
            <a:r>
              <a:rPr b="1" lang="es-MX" sz="2400" spc="-1" strike="noStrike" baseline="-25000">
                <a:solidFill>
                  <a:srgbClr val="ffff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76960" y="1766880"/>
            <a:ext cx="421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Inclinación de la órb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del planeta extra-so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8317080" cy="5761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068720" y="6021360"/>
            <a:ext cx="195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4000" y="2678040"/>
            <a:ext cx="4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2000" y="198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85280" y="3543480"/>
            <a:ext cx="11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clip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72920" y="4191120"/>
            <a:ext cx="11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clip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Tránsito de HD20945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5113440" cy="58327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212800" y="620640"/>
            <a:ext cx="3928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Como en este caso e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laneta tapa el 1.7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e la luz de la estrel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urante el tránsito, e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ermite estimar el ra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el planeta conocie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l de la estrella</a:t>
            </a: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84240" y="3776760"/>
            <a:ext cx="3656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Como la órbita está 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l plano de la línea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la visual, podem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calcular su ma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Resultó ser un plane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arecido a Júpi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0000"/>
                </a:solidFill>
                <a:latin typeface="Times New Roman"/>
              </a:rPr>
              <a:t>Cálculo de masas de exo-plane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0" lang="es-MX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 : masa de la estrella (se conoce por el espectr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0" lang="es-MX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 : masa del exo-plan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0" lang="es-MX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 : velocidad orbital de la estrella c/r  al centro de masas (C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0" lang="es-MX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 : velocidad orbital del exo-planeta c/r al 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es-MX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 : distancia de la estrella al CM (normalmente muy pequeñ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es-MX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 : distancia del exo-planeta al 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6920" y="-6375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468360" y="333360"/>
                <a:ext cx="2558880" cy="16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5651640" y="260280"/>
                <a:ext cx="266364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50920" y="1916280"/>
                <a:ext cx="4033800" cy="15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5888520" y="2276640"/>
            <a:ext cx="24210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s-MX" sz="4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s-MX" sz="44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1" i="1" lang="es-MX" sz="4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MX" sz="4400" spc="-1" strike="noStrike">
                <a:solidFill>
                  <a:srgbClr val="000000"/>
                </a:solidFill>
                <a:latin typeface="Times New Roman"/>
              </a:rPr>
              <a:t> =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5720" y="4138560"/>
            <a:ext cx="664848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MX" sz="4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s-MX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: velocidad orbital de objeto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MX" sz="4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MX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 : velocidad orbital de objeto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  : semieje mayor de la órbi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80160" y="469800"/>
            <a:ext cx="5504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La expresión final para </a:t>
            </a: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s-MX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e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395280" y="1268280"/>
                <a:ext cx="8280360" cy="21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G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bs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5507640" y="3525840"/>
            <a:ext cx="327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Función de ma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4076640"/>
            <a:ext cx="914400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s-MX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(obs) = velocidad radial med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sin i = 1  si la órbita está en el plano de la vis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s-MX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es la masa de la estrella que se puede estim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11280" y="-3121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-360" y="259920"/>
            <a:ext cx="380988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Usando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843280" y="0"/>
                <a:ext cx="5257800" cy="13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5067360" y="4114800"/>
            <a:ext cx="29718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50920" y="1557360"/>
                <a:ext cx="669744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G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042920" y="3716280"/>
                <a:ext cx="297180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bservada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843280" y="4149720"/>
                <a:ext cx="2971800" cy="18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bservada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2411280" y="3933720"/>
                <a:ext cx="297180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bservada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0" y="4941720"/>
            <a:ext cx="9144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Para el caso de exo-planetas la masa de la estrella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s-MX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se conoce, v</a:t>
            </a:r>
            <a:r>
              <a:rPr b="1" lang="es-MX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se mide, y   </a:t>
            </a: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MX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1" i="1" lang="es-MX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1" i="1" lang="es-MX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 / M</a:t>
            </a:r>
            <a:r>
              <a:rPr b="1" i="1" lang="es-MX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3141720"/>
            <a:ext cx="9144000" cy="17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000000"/>
                </a:solidFill>
                <a:latin typeface="Times New Roman"/>
              </a:rPr>
              <a:t>( v = v</a:t>
            </a:r>
            <a:r>
              <a:rPr b="1" i="1" lang="es-MX" sz="3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s-MX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observada</a:t>
            </a:r>
            <a:r>
              <a:rPr b="1" i="1" lang="es-MX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inación de la órbita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; i ~ 90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ando hay un eclip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66"/>
                </a:solidFill>
                <a:latin typeface="Times New Roman"/>
              </a:rPr>
              <a:t>Espectro Sol - Tier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7920000" cy="51134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264920" y="4070520"/>
            <a:ext cx="131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Tier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849280" y="169560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S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487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Ley de gravitación universal (Newto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-360" y="980640"/>
            <a:ext cx="471636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La materia atrae a la materia por la fuerza  de grav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La fuerza de atracción entre dos objetos es directamente proporcional al producto de sus mas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La fuerza de atracción entre dos cuerpos es inversamente proporcional al cuadrado de la distancia entre sus cent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067000" y="4114440"/>
            <a:ext cx="2971800" cy="1981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4932360" y="1197000"/>
                <a:ext cx="3960720" cy="17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G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4893840" y="3645000"/>
            <a:ext cx="392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= 6.67 10</a:t>
            </a:r>
            <a:r>
              <a:rPr b="1" lang="es-MX" sz="3200" spc="-1" strike="noStrike" baseline="30000">
                <a:solidFill>
                  <a:srgbClr val="000000"/>
                </a:solidFill>
                <a:latin typeface="Times New Roman"/>
              </a:rPr>
              <a:t>-11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1" lang="es-MX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/kg s</a:t>
            </a:r>
            <a:r>
              <a:rPr b="1" lang="es-MX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732960" y="1986120"/>
            <a:ext cx="23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tección indirecta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81080" y="3357720"/>
            <a:ext cx="103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Jupit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26040" y="2994120"/>
            <a:ext cx="176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espectroscop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948360" cy="64533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547640" y="6461280"/>
            <a:ext cx="103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Times New Roman"/>
              </a:rPr>
              <a:t>1 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36720" y="5950080"/>
            <a:ext cx="2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01080" y="6461280"/>
            <a:ext cx="74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Times New Roman"/>
              </a:rPr>
              <a:t>4 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789440" y="5950080"/>
            <a:ext cx="2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56360" y="2276640"/>
            <a:ext cx="208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rimeros 77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lanetas descubier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¿Está esto de acuerdo con lo que sabemos de la formación del Sistema Solar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120" y="3860280"/>
            <a:ext cx="864252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No podemos explicar la formación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planetas jovianos tan cerca de la estrel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31080" y="2171880"/>
            <a:ext cx="153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00"/>
                </a:solidFill>
                <a:latin typeface="Times New Roman"/>
              </a:rPr>
              <a:t>¡ NO 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3236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4356000" y="692280"/>
            <a:ext cx="4788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Colapso de una nebulos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para formar una estrell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y su sistema planet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84360" y="6021360"/>
            <a:ext cx="79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Límite de formación de planetas rocosos y gaseo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36960" y="326880"/>
            <a:ext cx="41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Formación de plane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11280" y="-4017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0" y="3716280"/>
                <a:ext cx="3924360" cy="18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cape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×</m:t>
                            </m:r>
                            <m:r>
                              <m:t xml:space="preserve">G</m:t>
                            </m:r>
                            <m:r>
                              <m:t xml:space="preserve">×</m:t>
                            </m:r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0" y="692280"/>
                <a:ext cx="3816360" cy="20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érmica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×</m:t>
                            </m:r>
                            <m:r>
                              <m:t xml:space="preserve">k</m:t>
                            </m:r>
                            <m:r>
                              <m:t xml:space="preserve">×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4423320" y="981000"/>
            <a:ext cx="435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: tempera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: masa de la partícu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: const. de Boltz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620960" y="3573360"/>
            <a:ext cx="4505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: masa del cuer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 : distancia (radi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 : const. de gravi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60880" y="256536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021280" y="2444760"/>
            <a:ext cx="338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(1.38 10</a:t>
            </a:r>
            <a:r>
              <a:rPr b="1" lang="es-MX" sz="3200" spc="-1" strike="noStrike" baseline="30000">
                <a:solidFill>
                  <a:srgbClr val="000000"/>
                </a:solidFill>
                <a:latin typeface="Times New Roman"/>
              </a:rPr>
              <a:t>-23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joule/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35920" y="5084640"/>
            <a:ext cx="377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(6.67 10</a:t>
            </a:r>
            <a:r>
              <a:rPr b="1" lang="es-MX" sz="3200" spc="-1" strike="noStrike" baseline="30000">
                <a:solidFill>
                  <a:srgbClr val="000000"/>
                </a:solidFill>
                <a:latin typeface="Times New Roman"/>
              </a:rPr>
              <a:t>-11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1" lang="es-MX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/ kg s</a:t>
            </a:r>
            <a:r>
              <a:rPr b="1" lang="es-MX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547640" y="812880"/>
            <a:ext cx="7596360" cy="52369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350520" y="6338880"/>
            <a:ext cx="296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Velocidad en km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40" y="1125360"/>
            <a:ext cx="1866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Número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áto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veloc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77080" y="333360"/>
            <a:ext cx="41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Máximo de la dis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911920" y="5877000"/>
            <a:ext cx="323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velocidad de esca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273280" y="-130320"/>
            <a:ext cx="25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átomos de so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3600" y="5559480"/>
            <a:ext cx="1658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s-MX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= 400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68360" y="260280"/>
            <a:ext cx="83516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Para el caso de la Luna se pue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determinar que su velocidad de escap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que es de </a:t>
            </a:r>
            <a:r>
              <a:rPr b="1" lang="es-MX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≈ 2.4 km/s,  su temperatu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 el día es  T = 400 K. A esa temperatur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os átomos de sodio tienen una velocidad térmica de 0.5 km/s , por lo tanto l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s-MX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átomos de sodio son reteni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y constituyen la delgada atmósfe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 la Luna.  La masa del sodio es 23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ces mayor que la del hidrogen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que es de 1.67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× 10</a:t>
            </a:r>
            <a:r>
              <a:rPr b="1" lang="en-US" sz="36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27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g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Planetas terrestres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(rocosos) se forman más ce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del Sol, donde está más caliente.  El hidrógeno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helio y algunos otros elementos están en forma 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gas que se escapan del planeta el cual se qued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principalmente con minerales y rocas que tiene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temperaturas de condensación más al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Planetas jovianos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(gaseosos), más lejanos al Sol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todo está congelado son capaces de retener t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l material de la nube inicial finalizando c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grandes mas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¿ Por qué los exo-planetas son distintos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1120" y="907560"/>
            <a:ext cx="8642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Posible explicación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Migración de planetas hacia la estrella p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viscosidad con el gas y polvo que no ha s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barrido por la estrella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¿ Efecto de selección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00"/>
                </a:solidFill>
                <a:latin typeface="Times New Roman"/>
              </a:rPr>
              <a:t>Gravitación univers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120" y="2711520"/>
            <a:ext cx="7619760" cy="2654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401920" y="378288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MX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642280" y="378288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MX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57080" y="3645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40360" y="3860640"/>
            <a:ext cx="86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177336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n el caso del sistema Sol – Júpiter, amb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giran en torno a su centro de masa con un perí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de 5.2 años.  La órbita de Júpier tiene un semie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mayor de 7.78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×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8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km, mientras que la del S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s de 742000 km, cómo el Sol tiene un radio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96000 km, éste lentamente se bambolea en torno a un punto (CM) que está no muy lej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 su superfic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203040"/>
            <a:ext cx="598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Ej :          Sistema Sol -Júpi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39200" y="254160"/>
            <a:ext cx="7729200" cy="30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La  velocidad con que el Sol orbita en tor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al CM (Júpiter – Sol) es de 12.5 m/s, e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significa que , por ejemplo, la línea de H</a:t>
            </a:r>
            <a:r>
              <a:rPr b="1" lang="el-GR" sz="32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 6563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Å se desplazaría 2.6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4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Å, va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que está en el límite de lo que se pue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edir actualmente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1000" y="3567240"/>
            <a:ext cx="7799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Es más fácil detectar planetas masivos 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cercanos a su estrella ya que estos produc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mayores variaciones en las veloc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radiales observadas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197440" y="5734080"/>
            <a:ext cx="419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¿ Será la respuesta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2561400" y="0"/>
            <a:ext cx="658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Times New Roman"/>
              </a:rPr>
              <a:t>Búsqueda de vida extraterrest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762120" y="1035000"/>
            <a:ext cx="7619760" cy="4788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7290720" y="1382760"/>
            <a:ext cx="11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Ven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34000" y="2822400"/>
            <a:ext cx="116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Tier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576920" y="426240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Ma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35080" y="5846760"/>
            <a:ext cx="478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Longitud de onda en micr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17800" y="189000"/>
            <a:ext cx="726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Agua y oxígeno sólo se encuentran en la Tier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1549440"/>
            <a:ext cx="9144000" cy="44719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803520" y="111240"/>
            <a:ext cx="531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Zona habitable : agua líqu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60360" y="6021360"/>
            <a:ext cx="226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Sistema S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13800" y="5199120"/>
            <a:ext cx="309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strella con  ½ M</a:t>
            </a:r>
            <a:r>
              <a:rPr b="1" lang="es-MX" sz="2800" spc="-1" strike="noStrike" baseline="-25000">
                <a:solidFill>
                  <a:srgbClr val="000000"/>
                </a:solidFill>
                <a:latin typeface="Times New Roman"/>
              </a:rPr>
              <a:t>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Versión de Newton de la 3</a:t>
            </a:r>
            <a:r>
              <a:rPr b="1" lang="es-MX" sz="4000" spc="-1" strike="noStrike" baseline="30000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 ley de  Kepl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042920" y="1989000"/>
                <a:ext cx="7058160" cy="18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676800" y="4221000"/>
            <a:ext cx="715284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: período de la órbita en segun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: semieje mayor de la órbita en met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s-MX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: masa del primer objeto en ki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s-MX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: masa del segundo objeto en ki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: const. Gravitación univer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0000"/>
                </a:solidFill>
                <a:latin typeface="Times New Roman"/>
              </a:rPr>
              <a:t>Ejemplo:   cálculo de la masa del S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964720" y="333360"/>
            <a:ext cx="1792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250920" y="981000"/>
                <a:ext cx="806616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erra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o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ierra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erra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395280" y="2997360"/>
            <a:ext cx="6769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como :  </a:t>
            </a: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(M</a:t>
            </a:r>
            <a:r>
              <a:rPr b="0" i="1" lang="es-MX" sz="3600" spc="-1" strike="noStrike" baseline="-25000">
                <a:solidFill>
                  <a:srgbClr val="000000"/>
                </a:solidFill>
                <a:latin typeface="Times New Roman"/>
              </a:rPr>
              <a:t>sol</a:t>
            </a: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+ M</a:t>
            </a:r>
            <a:r>
              <a:rPr b="0" i="1" lang="es-MX" sz="3600" spc="-1" strike="noStrike" baseline="-25000">
                <a:solidFill>
                  <a:srgbClr val="000000"/>
                </a:solidFill>
                <a:latin typeface="Times New Roman"/>
              </a:rPr>
              <a:t>tierra </a:t>
            </a: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M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50920" y="4221000"/>
                <a:ext cx="5111640" cy="165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o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ierra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ierra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6253920" y="4379760"/>
            <a:ext cx="23857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MX" sz="3600" spc="-1" strike="noStrike" baseline="-25000">
                <a:solidFill>
                  <a:srgbClr val="000000"/>
                </a:solidFill>
                <a:latin typeface="Times New Roman"/>
              </a:rPr>
              <a:t>tierra</a:t>
            </a: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1 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MX" sz="3600" spc="-1" strike="noStrike" baseline="-25000">
                <a:solidFill>
                  <a:srgbClr val="000000"/>
                </a:solidFill>
                <a:latin typeface="Times New Roman"/>
              </a:rPr>
              <a:t>tierra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= 1 añ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55680" y="260280"/>
            <a:ext cx="654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Estrellas dobles (binarias)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9720" y="1622520"/>
            <a:ext cx="83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l 70 % de las estrellas forman sistemas do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o múlt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94480" y="3135240"/>
            <a:ext cx="8780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Los sistemas binarios permiten medir la masa 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cada una de las estrellas (o bien su función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masas en caso de que la inclinación de la órbita </a:t>
            </a:r>
            <a:r>
              <a:rPr b="1" i="1" lang="es-MX" sz="32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no se conozc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699280" y="0"/>
            <a:ext cx="342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Tipos de binaria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00" y="1484280"/>
            <a:ext cx="804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ar de estrellas que se ven claramente orbitando 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torno a su centro de masas común (C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2781360"/>
            <a:ext cx="9144000" cy="28400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66720" y="5950080"/>
            <a:ext cx="84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n este caso, tanto </a:t>
            </a:r>
            <a:r>
              <a:rPr b="1" i="1" lang="es-MX" sz="2800" spc="-1" strike="noStrike">
                <a:solidFill>
                  <a:srgbClr val="ffff00"/>
                </a:solidFill>
                <a:latin typeface="Times New Roman"/>
              </a:rPr>
              <a:t>Mizar A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cómo </a:t>
            </a:r>
            <a:r>
              <a:rPr b="1" i="1" lang="es-MX" sz="2800" spc="-1" strike="noStrike">
                <a:solidFill>
                  <a:srgbClr val="ffff00"/>
                </a:solidFill>
                <a:latin typeface="Times New Roman"/>
              </a:rPr>
              <a:t>Mizar B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son binar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7280" y="907920"/>
            <a:ext cx="324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Binarias visua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-7920" y="357120"/>
            <a:ext cx="88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Otro ejemplo de binaria visual es </a:t>
            </a:r>
            <a:r>
              <a:rPr b="1" i="1" lang="es-MX" sz="3200" spc="-1" strike="noStrike">
                <a:solidFill>
                  <a:srgbClr val="ffff00"/>
                </a:solidFill>
                <a:latin typeface="Times New Roman"/>
              </a:rPr>
              <a:t>Sirio A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y </a:t>
            </a:r>
            <a:r>
              <a:rPr b="1" i="1" lang="es-MX" sz="3200" spc="-1" strike="noStrike">
                <a:solidFill>
                  <a:srgbClr val="ffff00"/>
                </a:solidFill>
                <a:latin typeface="Times New Roman"/>
              </a:rPr>
              <a:t>Sirio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18716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60200" y="3686040"/>
            <a:ext cx="8855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ff00"/>
                </a:solidFill>
                <a:latin typeface="Times New Roman"/>
              </a:rPr>
              <a:t>Sirio A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es una estrella de tipo espectral A1 con una ma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aproximada de 2 veces la masa del S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ff00"/>
                </a:solidFill>
                <a:latin typeface="Times New Roman"/>
              </a:rPr>
              <a:t>Sirio B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es una enana blanca con una masa similar a la 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ia Teresa Ruiz</cp:lastModifiedBy>
  <dcterms:modified xsi:type="dcterms:W3CDTF">2006-08-21T20:41:37Z</dcterms:modified>
  <cp:revision>54</cp:revision>
  <dc:subject/>
  <dc:title>PowerPoint Presentation</dc:title>
</cp:coreProperties>
</file>