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15E-D050-4799-A502-F0E78CFC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4A1-B243-46B8-81A3-E4BCD636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293-7656-4E0E-A9A3-E7656626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A17-EB25-4503-967D-4940D684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C48-30E8-40C3-902B-4546801A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FBC-7B65-4242-A76D-17F5C5A2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8DA-82AB-4B22-BC88-774924E2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3B8-8009-42DB-A3CE-3A77E1A7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104-3E2D-4030-AA55-02CBC1FE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92A-7127-4F4A-9487-441059F2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D86-27BF-4770-93B0-1580D8B0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58A1-B21E-44F4-9BC0-D35B2FB9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642B-6256-404D-A818-6969C314423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6120" y="333360"/>
            <a:ext cx="85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stancias en el Universo : 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ley del invers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0" y="6461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lase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14680" y="1125360"/>
            <a:ext cx="5715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2193840"/>
            <a:ext cx="8534160" cy="2468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69800"/>
            <a:ext cx="84582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Supergigante (I) : Rigel con un tipo espectral B8 (T=13400 K) y L= 58000 L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2640" y="5229360"/>
            <a:ext cx="83278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enana (V) : Algol con un tipo espec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8 (T=13400 K) y L=100 L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sol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3640" y="1550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36560" y="4646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534160" cy="3240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10520" y="45813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61480" y="5661000"/>
            <a:ext cx="42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rica en m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4360" y="1855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53320" y="140652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pobre en m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5240" y="0"/>
            <a:ext cx="25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Metalic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553080" cy="50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-9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s Pleiades son 7.5 veces mas débiles que 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yades  esto =&gt;  están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√ 7.5 = 2.5 veces más le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45440" y="209520"/>
            <a:ext cx="38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strellas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9240" y="119700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(RR Lyrae y Cefei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1280" y="1916280"/>
            <a:ext cx="8724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s estrellas variables en una cierta constelación 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nominaron con la letra R, S, T, U, V……Z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uando se llegó a ZZ siguieron con AA,……QZ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sí se nombraron las primeras 334 estrel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ariables, las siguientes se denominan  V381, V382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383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840" y="5078520"/>
            <a:ext cx="835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ntre las estrellas variables más importantes est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s variables puls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55344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74560" y="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agrama H-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89320" y="18252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bles RR Lyra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720" y="930240"/>
            <a:ext cx="83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on variables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ulsantes,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s decir presentan una var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n su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amaño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(~10%), de su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(color) con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eríodo de horas (~0.6 dí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534160" cy="342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65280" y="2751120"/>
            <a:ext cx="19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imes New Roman"/>
              </a:rPr>
              <a:t>Curva de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3760" y="6086520"/>
            <a:ext cx="78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s RR Lyrae tienen una magnitud M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B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= 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63480" y="878040"/>
            <a:ext cx="802476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i observamos una estrella cuya luz varía de una 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imilar a la de una RR Lyrae , entonces del dia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H-R sabemos que la magnitud absoluta será M</a:t>
            </a:r>
            <a:r>
              <a:rPr b="0" lang="es-MX" sz="2800" spc="-1" strike="noStrike" baseline="-25000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=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i tenemos que su magnitud aparente (promedio)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= 7.4  (curva de luz en lámina anterior), ento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 – M = 7.4 – 0.6 = 6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 – M = 5 log (d/10)  =&gt; d = 10pc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(m-M)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= 10 × 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6.8/5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229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00000" y="260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bles Cefeidas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960" y="1166760"/>
            <a:ext cx="888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e descubrió (Henrieta Leavit, 1912) que existe una r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ntre el período y la luminosidad (promedio) de las Cefe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2276640"/>
            <a:ext cx="853416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7680" y="517680"/>
            <a:ext cx="7924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Las Cefeidas pueden llegar a ser 5 magnitudes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brillantes que las RR Ly , es decir un factor 100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brillantes lo que =&gt; un factor 10 en distancia,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que las Cefeidas permiten medir distancias a todas 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galaxias cerc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4716360" cy="3240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43560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5977080" cy="5732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1360" y="38160"/>
            <a:ext cx="61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bles de largo peíodo (Mira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3080" cy="568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35160" y="38160"/>
            <a:ext cx="46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lajes trigonomét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65040" y="682560"/>
            <a:ext cx="841212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Cefeidas en NGC 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Proyecto Arauc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3454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424720" cy="566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49320" y="3816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cala de dista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14680" y="981000"/>
            <a:ext cx="5715000" cy="554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10240" y="260280"/>
            <a:ext cx="68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color de las estrellas :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19280"/>
            <a:ext cx="9144000" cy="6138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9680" y="-33480"/>
            <a:ext cx="40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lasificación espec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79480" y="-3348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3280" y="41580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2000" y="590400"/>
            <a:ext cx="78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Henry Draper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(Harvard) 1837 – 1882 , a su muerte 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viuda deja fortuna al Observatorio de Harv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341360"/>
            <a:ext cx="45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2880" y="1557360"/>
            <a:ext cx="83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Eduard Pickering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(1846–1919) Director del Observa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de Harvard, contrata mujeres para realizar clas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5440" y="227664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2520" y="2492280"/>
            <a:ext cx="787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Willamina Fleming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: A, B, C, ……O, dependiend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la intensidad de las líneas de Hidrógeno (fines 18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5440" y="321300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3400" y="3284640"/>
            <a:ext cx="753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Annie Jump Cannon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: O, B, A, F, G, K, M, (~19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clasificó 400 mil estrellas, primera mujer en recib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título honorario de Oxf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2360" y="458136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4320" y="4653000"/>
            <a:ext cx="851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n 1925, </a:t>
            </a: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Cecilia Payne-Gaposchkin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, estudiante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Doctorado de Harvard demostró, usando mecán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ecánica cuántica que la diferencia entre tipos espect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e debe a temperatura y no 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05640" y="46512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ecilia Pay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511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66720" y="158760"/>
            <a:ext cx="81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Harvard, 1872 : Annie Cannon, Williamina Fl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836640"/>
            <a:ext cx="8534160" cy="554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15880" y="-33480"/>
            <a:ext cx="62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Intensidad de las líneas espect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616360" cy="568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36800" y="0"/>
            <a:ext cx="67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agrama Hertzsprung-Russell (H-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17T13:38:10Z</dcterms:modified>
  <cp:revision>29</cp:revision>
  <dc:subject/>
  <dc:title>PowerPoint Presentation</dc:title>
</cp:coreProperties>
</file>