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65B-BD49-4CE2-AAB8-910B8404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25B-F2C1-4B89-BE1B-B8D7716B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38B-CE9F-47EA-873F-10081C7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EEC-BB56-4353-BA17-1CFD01EA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E8C-7F4C-44E9-B959-CF407B6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F53-61D0-43B3-9EEF-0BF530D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2C9-A86E-4CAD-8151-D43112E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7A2-81D7-4A5E-B212-28C3433E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6F-F63C-45BB-8A9A-174BC154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DEB-E98A-43A5-9BB4-2A578C5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B55-30A9-4F88-9295-8420D9B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DEF-ADD1-42D4-8F6D-3188553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2097-8224-4894-8F78-672F173D7E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120" y="33336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s en el Universo :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ey del invers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as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125360"/>
            <a:ext cx="5715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69800"/>
            <a:ext cx="8458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640" y="5229360"/>
            <a:ext cx="832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enana (V) : Algol con un tipo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8 (T=13400 K) y L=1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1480" y="5661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rica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3320" y="140652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pobre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5240" y="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Meta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-9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Pleiades son 7.5 veces mas débiles qu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yades  esto =&gt;  están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7.5 = 2.5 veces más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5440" y="2095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strella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240" y="11970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RR Lyrae y Cefei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280" y="1916280"/>
            <a:ext cx="872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estrellas variables en una cierta constelación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nominaron con la letra R, S, T, U, V……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uando se llegó a ZZ siguieron con AA,……Q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sí se nombraron las primeras 334 estrel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ariables, las siguientes se denominan  V381, V38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383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840" y="5078520"/>
            <a:ext cx="83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tre las estrellas variables más importantes e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ariables puls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4560" y="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9320" y="182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93024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on variables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ulsantes,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decir presentan 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año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~10%), de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color)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de horas (~0.6 dí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6086520"/>
            <a:ext cx="78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RR Lyrae tienen una magnitud M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Cefeida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" y="1166760"/>
            <a:ext cx="88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scubrió (Henrieta Leavit, 1912) que existe un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tre el período y la luminosidad (promedio) de las Cefe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1360" y="3816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de largo pe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35160" y="38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lajes trigono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Cefeidas en NGC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royecto Arauc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6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49320" y="38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cala de dist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0240" y="26028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color de las estrellas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9680" y="-334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lasificación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480" y="-334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4158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" y="5904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Henry Draper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Harvard) 1837 – 1882 , a su muerte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iuda deja fortuna al Observatorio de Harv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45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80" y="1557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Eduard Picker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1846–1919) Director del Observ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Harvard, contrata mujeres para realizar clas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227664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2520" y="249228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Willamina Flem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A, B, C, ……O, dependien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intensidad de las líneas de Hidrógeno (fines 18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28464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Annie Jump Canno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O, B, A, F, G, K, M, (~19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lasificó 400 mil estrellas, primera mujer en reci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título honorario de Ox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5813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320" y="4653000"/>
            <a:ext cx="851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1925, </a:t>
            </a: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Cecilia Payne-Gaposchki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estudia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octorado de Harvard demostró, usando mecá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ecánica cuántica que la diferencia entre tipos espec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be a temperatura y no 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5640" y="46512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ecilia Pay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1587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arvard, 1872 : Annie Cannon, Williamina Fl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6640"/>
            <a:ext cx="8534160" cy="55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5880" y="-33480"/>
            <a:ext cx="62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tensidad de las líneas espect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56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6800" y="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ertzsprung-Russell (H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17T13:38:10Z</dcterms:modified>
  <cp:revision>29</cp:revision>
  <dc:subject/>
  <dc:title>PowerPoint Presentation</dc:title>
</cp:coreProperties>
</file>