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988-7ACB-4D2D-B2B9-23DF18E8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990-0234-4112-B8D6-7C785EA2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25CF-16B9-40F2-80DE-A617DCD9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B867-4F7E-4137-BFD7-108E0AAA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E6E-610B-4783-A0A9-63F81B88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D4F-EF81-47AE-9BE0-CF8B4655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91B4-78F4-4EB6-B6D8-FDA68362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80F-8B7B-4A58-A759-517A576B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947-3266-4C18-92C1-B91CF4A5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175A-E462-4782-B3D3-67885982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CF90-CEBC-4649-A3F7-86AA03A0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6603-5FE8-43EC-ADFB-A3236C00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13AB-BE14-4BEA-A3E3-634FA33F063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6120" y="333360"/>
            <a:ext cx="85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stancias en el Universo : </a:t>
            </a: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ley del invers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0" y="6461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lase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14680" y="1125360"/>
            <a:ext cx="5715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2193840"/>
            <a:ext cx="8534160" cy="2468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69800"/>
            <a:ext cx="845820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 Supergigante (I) : Rigel con un tipo espectral B8 (T=13400 K) y L= 58000 L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2640" y="5229360"/>
            <a:ext cx="83278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 enana (V) : Algol con un tipo espec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B8 (T=13400 K) y L=100 L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sol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3640" y="1550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36560" y="4646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534160" cy="3240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510520" y="458136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61480" y="5661000"/>
            <a:ext cx="42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 rica en m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4360" y="1855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53320" y="1406520"/>
            <a:ext cx="45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 pobre en m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95240" y="0"/>
            <a:ext cx="25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Metalic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553080" cy="50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-9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s Pleiades son 7.5 veces mas débiles que l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yades  esto =&gt;  están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√ 7.5 = 2.5 veces más le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45440" y="209520"/>
            <a:ext cx="38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Estrellas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9240" y="1197000"/>
            <a:ext cx="34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(RR Lyrae y Cefei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1280" y="1916280"/>
            <a:ext cx="8724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as estrellas variables en una cierta constelación 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enominaron con la letra R, S, T, U, V……Z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uando se llegó a ZZ siguieron con AA,……QZ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sí se nombraron las primeras 334 estrell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ariables, las siguientes se denominan  V381, V382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383 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840" y="5078520"/>
            <a:ext cx="835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ntre las estrellas variables más importantes est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as variables puls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55344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74560" y="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agrama H-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89320" y="182520"/>
            <a:ext cx="39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ariables RR Lyra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720" y="930240"/>
            <a:ext cx="835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on variables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ulsantes,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s decir presentan una var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n su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amaño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(~10%), de su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(color) con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eríodo de horas (~0.6 dí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8534160" cy="342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65280" y="2751120"/>
            <a:ext cx="19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imes New Roman"/>
              </a:rPr>
              <a:t>Curva de lu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3760" y="6086520"/>
            <a:ext cx="789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s RR Lyrae tienen una magnitud M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B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= 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63480" y="878040"/>
            <a:ext cx="8024760" cy="53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i observamos una estrella cuya luz varía de una fo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imilar a la de una RR Lyrae , entonces del dia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H-R sabemos que la magnitud absoluta será M</a:t>
            </a:r>
            <a:r>
              <a:rPr b="0" lang="es-MX" sz="2800" spc="-1" strike="noStrike" baseline="-25000">
                <a:solidFill>
                  <a:srgbClr val="ffff00"/>
                </a:solidFill>
                <a:latin typeface="Times New Roman"/>
              </a:rPr>
              <a:t>B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= 0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i tenemos que su magnitud aparente (promedio)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= 7.4  (curva de luz en lámina anterior), ento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 – M = 7.4 – 0.6 = 6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 – M = 5 log (d/10)  =&gt; d = 10pc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(m-M)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= 10 × 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6.8/5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229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00000" y="260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ariables Cefeidas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960" y="1166760"/>
            <a:ext cx="888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e descubrió (Henrieta Leavit, 1912) que existe una r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ntre el período y la luminosidad (promedio) de las Cefe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2276640"/>
            <a:ext cx="853416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17680" y="517680"/>
            <a:ext cx="7924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Las Cefeidas pueden llegar a ser 5 magnitudes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brillantes que las RR Ly , es decir un factor 100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brillantes lo que =&gt; un factor 10 en distancia, por 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que las Cefeidas permiten medir distancias a todas 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galaxias cerc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4716360" cy="3240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43560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5977080" cy="5732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1360" y="38160"/>
            <a:ext cx="61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ariables de largo peíodo (Mira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93080" cy="568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35160" y="38160"/>
            <a:ext cx="46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aralajes trigonomét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65040" y="682560"/>
            <a:ext cx="841212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Cefeidas en NGC 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Proyecto Arauc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34544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424720" cy="566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49320" y="3816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cala de dista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14680" y="981000"/>
            <a:ext cx="5715000" cy="5543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10240" y="260280"/>
            <a:ext cx="683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color de las estrellas :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719280"/>
            <a:ext cx="9144000" cy="6138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89680" y="-33480"/>
            <a:ext cx="40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lasificación espec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79480" y="-3348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is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3280" y="415800"/>
            <a:ext cx="4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2000" y="590400"/>
            <a:ext cx="78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Henry Draper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(Harvard) 1837 – 1882 , a su muerte 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viuda deja fortuna al Observatorio de Harv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341360"/>
            <a:ext cx="45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12880" y="1557360"/>
            <a:ext cx="833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Eduard Pickering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(1846–1919) Director del Observat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de Harvard, contrata mujeres para realizar clasif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5440" y="2276640"/>
            <a:ext cx="4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2520" y="2492280"/>
            <a:ext cx="787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Willamina Fleming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: A, B, C, ……O, dependiend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la intensidad de las líneas de Hidrógeno (fines 18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5440" y="3213000"/>
            <a:ext cx="4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3400" y="3284640"/>
            <a:ext cx="753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Annie Jump Cannon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: O, B, A, F, G, K, M, (~19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clasificó 400 mil estrellas, primera mujer en recib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título honorario de Oxf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2360" y="4581360"/>
            <a:ext cx="4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4320" y="4653000"/>
            <a:ext cx="851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n 1925, </a:t>
            </a: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Cecilia Payne-Gaposchkin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, estudiante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Doctorado de Harvard demostró, usando mecán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ecánica cuántica que la diferencia entre tipos espect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e debe a temperatura y no a com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05640" y="46512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Cecilia Pay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511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66720" y="158760"/>
            <a:ext cx="81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Harvard, 1872 : Annie Cannon, Williamina Fle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836640"/>
            <a:ext cx="8534160" cy="5545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15880" y="-33480"/>
            <a:ext cx="622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Intensidad de las líneas espect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616360" cy="5689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36800" y="0"/>
            <a:ext cx="67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agrama Hertzsprung-Russell (H-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17T13:38:10Z</dcterms:modified>
  <cp:revision>29</cp:revision>
  <dc:subject/>
  <dc:title>PowerPoint Presentation</dc:title>
</cp:coreProperties>
</file>