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84F5-22E5-47BC-8BBC-D943443C9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844E-BF66-42F0-8413-DB42A4D2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005E-463D-43BA-B5ED-75A36109D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BF2B-EDDE-4479-B688-F39AF1C98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2E68-5DED-4372-AA0C-1005E3CF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77B9-B60A-4308-94DF-3D3B1961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DAF4-2651-406C-A9A7-E6299975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8006-3C79-4042-A372-0C8DB5F2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5F83-86D0-43B9-BDA2-C930A692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A5C7-7622-4935-8F9D-C88D65E1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DCEC-BEC3-4955-8C85-F8C8EB81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7EA1-F6F0-423F-9C8B-5CB13D5B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E050-B85D-48C9-B229-4C1C6394312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6120" y="333360"/>
            <a:ext cx="852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istancias en el Universo : </a:t>
            </a: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ley del inverso del cuad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20" y="64612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lase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14680" y="1125360"/>
            <a:ext cx="5715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920" y="2193840"/>
            <a:ext cx="8534160" cy="24685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68360" y="469800"/>
            <a:ext cx="845820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strella Supergigante (I) : Rigel con un tipo espectral B8 (T=13400 K) y L= 58000 L</a:t>
            </a:r>
            <a:r>
              <a:rPr b="1" lang="es-MX" sz="3200" spc="-1" strike="noStrike" baseline="-25000">
                <a:solidFill>
                  <a:srgbClr val="ffff00"/>
                </a:solidFill>
                <a:latin typeface="Times New Roman"/>
              </a:rPr>
              <a:t>s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2640" y="5229360"/>
            <a:ext cx="83278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strella enana (V) : Algol con un tipo espec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B8 (T=13400 K) y L=100 L</a:t>
            </a:r>
            <a:r>
              <a:rPr b="1" lang="es-MX" sz="3200" spc="-1" strike="noStrike" baseline="-25000">
                <a:solidFill>
                  <a:srgbClr val="ffff00"/>
                </a:solidFill>
                <a:latin typeface="Times New Roman"/>
              </a:rPr>
              <a:t>sol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93640" y="1550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36560" y="4646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8534160" cy="3240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510520" y="458136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61480" y="5661000"/>
            <a:ext cx="424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strella rica en me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34360" y="18558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↓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53320" y="1406520"/>
            <a:ext cx="458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strella pobre en me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95240" y="0"/>
            <a:ext cx="251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Metalic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6553080" cy="5040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-98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as Pleiades son 7.5 veces mas débiles que l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Hyades  esto =&gt;  están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√ 7.5 = 2.5 veces más lej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845440" y="209520"/>
            <a:ext cx="387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Estrellas Vari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9240" y="1197000"/>
            <a:ext cx="34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(RR Lyrae y Cefeid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1280" y="1916280"/>
            <a:ext cx="8724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Las estrellas variables en una cierta constelación 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denominaron con la letra R, S, T, U, V……Z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uando se llegó a ZZ siguieron con AA,……QZ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así se nombraron las primeras 334 estrell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variables, las siguientes se denominan  V381, V382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V383 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0840" y="5078520"/>
            <a:ext cx="835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Entre las estrellas variables más importantes está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las variables puls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553440" cy="5715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274560" y="0"/>
            <a:ext cx="27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iagrama H-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89320" y="182520"/>
            <a:ext cx="392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Variables RR Lyra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720" y="930240"/>
            <a:ext cx="835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Son variables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ulsantes, 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es decir presentan una vari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en su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amaño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 (~10%), de su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emperatura 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(color) con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período de horas (~0.6 día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8534160" cy="3421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465280" y="2751120"/>
            <a:ext cx="19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imes New Roman"/>
              </a:rPr>
              <a:t>Curva de lu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3760" y="6086520"/>
            <a:ext cx="7891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as RR Lyrae tienen una magnitud M</a:t>
            </a:r>
            <a:r>
              <a:rPr b="1" lang="es-MX" sz="3200" spc="-1" strike="noStrike" baseline="-25000">
                <a:solidFill>
                  <a:srgbClr val="ffff00"/>
                </a:solidFill>
                <a:latin typeface="Times New Roman"/>
              </a:rPr>
              <a:t>B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= 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63480" y="878040"/>
            <a:ext cx="8024760" cy="53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Si observamos una estrella cuya luz varía de una for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Similar a la de una RR Lyrae , entonces del diagr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H-R sabemos que la magnitud absoluta será M</a:t>
            </a:r>
            <a:r>
              <a:rPr b="0" lang="es-MX" sz="2800" spc="-1" strike="noStrike" baseline="-25000">
                <a:solidFill>
                  <a:srgbClr val="ffff00"/>
                </a:solidFill>
                <a:latin typeface="Times New Roman"/>
              </a:rPr>
              <a:t>B 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= 0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Si tenemos que su magnitud aparente (promedio) 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s-MX" sz="28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 = 7.4  (curva de luz en lámina anterior), ento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m – M = 7.4 – 0.6 = 6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m – M = 5 log (d/10)  =&gt; d = 10pc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× 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(m-M)/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= 10 × 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6.8/5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= 229 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00000" y="26028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Variables Cefeidas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6960" y="1166760"/>
            <a:ext cx="888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Se descubrió (Henrieta Leavit, 1912) que existe una re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entre el período y la luminosidad (promedio) de las Cefe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4920" y="2276640"/>
            <a:ext cx="8534160" cy="40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17680" y="517680"/>
            <a:ext cx="7924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Las Cefeidas pueden llegar a ser 5 magnitudes m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brillantes que las RR Ly , es decir un factor 100 m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brillantes lo que =&gt; un factor 10 en distancia, por 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que las Cefeidas permiten medir distancias a todas 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galaxias cerc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3213000"/>
            <a:ext cx="4716360" cy="3240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788000" y="3213000"/>
            <a:ext cx="435600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47640" y="765000"/>
            <a:ext cx="5977080" cy="5732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521360" y="38160"/>
            <a:ext cx="614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Variables de largo peíodo (Mira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993080" cy="5680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35160" y="38160"/>
            <a:ext cx="467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aralajes trigonométr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65040" y="682560"/>
            <a:ext cx="841212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Cefeidas en NGC 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632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Proyecto Arauc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734544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424720" cy="5665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49320" y="38160"/>
            <a:ext cx="36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scala de dista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14680" y="981000"/>
            <a:ext cx="5715000" cy="5543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110240" y="260280"/>
            <a:ext cx="683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l color de las estrellas : Tempera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719280"/>
            <a:ext cx="9144000" cy="6138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89680" y="-33480"/>
            <a:ext cx="408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lasificación espec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79480" y="-33480"/>
            <a:ext cx="16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Hist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3280" y="415800"/>
            <a:ext cx="44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82000" y="590400"/>
            <a:ext cx="781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cc99"/>
                </a:solidFill>
                <a:latin typeface="Times New Roman"/>
              </a:rPr>
              <a:t>Henry Draper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 (Harvard) 1837 – 1882 , a su muerte 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viuda deja fortuna al Observatorio de Harv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341360"/>
            <a:ext cx="45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12880" y="1557360"/>
            <a:ext cx="833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cc99"/>
                </a:solidFill>
                <a:latin typeface="Times New Roman"/>
              </a:rPr>
              <a:t>Eduard Pickering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 (1846–1919) Director del Observato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de Harvard, contrata mujeres para realizar clasific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5440" y="2276640"/>
            <a:ext cx="44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02520" y="2492280"/>
            <a:ext cx="787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cc99"/>
                </a:solidFill>
                <a:latin typeface="Times New Roman"/>
              </a:rPr>
              <a:t>Willamina Fleming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 : A, B, C, ……O, dependiendo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la intensidad de las líneas de Hidrógeno (fines 180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5440" y="3213000"/>
            <a:ext cx="44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3400" y="3284640"/>
            <a:ext cx="7534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cc99"/>
                </a:solidFill>
                <a:latin typeface="Times New Roman"/>
              </a:rPr>
              <a:t>Annie Jump Cannon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 : O, B, A, F, G, K, M, (~191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clasificó 400 mil estrellas, primera mujer en recib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título honorario de Oxf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2360" y="4581360"/>
            <a:ext cx="44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4320" y="4653000"/>
            <a:ext cx="8510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En 1925, </a:t>
            </a:r>
            <a:r>
              <a:rPr b="0" lang="es-MX" sz="2800" spc="-1" strike="noStrike">
                <a:solidFill>
                  <a:srgbClr val="00cc99"/>
                </a:solidFill>
                <a:latin typeface="Times New Roman"/>
              </a:rPr>
              <a:t>Cecilia Payne-Gaposchkin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, estudiante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Doctorado de Harvard demostró, usando mecán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Mecánica cuántica que la diferencia entre tipos espect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Se debe a temperatura y no a composi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05640" y="465120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Cecilia Pay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848360" cy="5113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66720" y="158760"/>
            <a:ext cx="810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Harvard, 1872 : Annie Cannon, Williamina Fle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836640"/>
            <a:ext cx="8534160" cy="5545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15880" y="-33480"/>
            <a:ext cx="622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Intensidad de las líneas espectr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92360" y="907920"/>
            <a:ext cx="5616360" cy="5689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36800" y="0"/>
            <a:ext cx="674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iagrama Hertzsprung-Russell (H-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a Teresa Ruiz</cp:lastModifiedBy>
  <dcterms:modified xsi:type="dcterms:W3CDTF">2006-08-17T13:38:10Z</dcterms:modified>
  <cp:revision>29</cp:revision>
  <dc:subject/>
  <dc:title>PowerPoint Presentation</dc:title>
</cp:coreProperties>
</file>