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1116D-99BD-459C-A57E-FD4F676E9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C75B1-B072-428E-8CE9-9C4CC724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8051F-4E6B-49CB-AEF3-81CC5226F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64761-0C5B-4908-A34E-C0B8CABA6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E036-0FB9-4BA0-A0B7-2F52BC362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0CC6C-AE74-4A60-80F2-A5BF8B9A5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33205-A60E-4389-9E80-BE6A408C6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7E8EC-E854-4A14-99CC-EAC328B1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BD7B8-C417-4414-AA09-345EE11AE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BB678-161B-416F-BCE2-5E041B579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22D8-0790-459A-8620-ABB1A82EE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77E7-3D47-404E-9D1D-38AC10DEE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E5C6-973C-4EEC-903C-C95F046910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304920" y="1905120"/>
            <a:ext cx="8610480" cy="460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stitución: </a:t>
            </a:r>
            <a:r>
              <a:rPr b="0" lang="es-MX" sz="2400" spc="-1" strike="noStrike">
                <a:solidFill>
                  <a:srgbClr val="000000"/>
                </a:solidFill>
                <a:latin typeface="Times New Roman"/>
              </a:rPr>
              <a:t>Centro de Formación Técnica IPRO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ódigo del Proyecto</a:t>
            </a:r>
            <a:r>
              <a:rPr b="0" lang="es-MX" sz="2400" spc="-1" strike="noStrike">
                <a:solidFill>
                  <a:srgbClr val="000000"/>
                </a:solidFill>
                <a:latin typeface="Times New Roman"/>
              </a:rPr>
              <a:t>: CIC02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ombre del proyecto:</a:t>
            </a:r>
            <a:r>
              <a:rPr b="1" lang="es-ES" sz="2000" spc="-1" strike="noStrike">
                <a:solidFill>
                  <a:srgbClr val="000000"/>
                </a:solidFill>
                <a:latin typeface="Times New Roman"/>
              </a:rPr>
              <a:t>“Mejoramiento integral y reorientación de la Carrera Técnico de Nivel Superior en Programación Computacional a Técnico de Nivel Superior en Tecnologías de Información y Comunicación, impartida por el Centro de Formación Técnica IPROSEC en la Región de Los Lag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irector del Proyecto</a:t>
            </a:r>
            <a:r>
              <a:rPr b="0" lang="es-MX" sz="2400" spc="-1" strike="noStrike">
                <a:solidFill>
                  <a:srgbClr val="000000"/>
                </a:solidFill>
                <a:latin typeface="Times New Roman"/>
              </a:rPr>
              <a:t>: Sr. Luis M. Catalán Queipuya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Inicio</a:t>
            </a:r>
            <a:r>
              <a:rPr b="0" lang="es-MX" sz="2400" spc="-1" strike="noStrike">
                <a:solidFill>
                  <a:srgbClr val="000000"/>
                </a:solidFill>
                <a:latin typeface="Times New Roman"/>
              </a:rPr>
              <a:t>:</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31/12/20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Término</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31/12/2005</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eríodo Informado</a:t>
            </a:r>
            <a:r>
              <a:rPr b="0" lang="es-MX" sz="2400" spc="-1" strike="noStrike">
                <a:solidFill>
                  <a:srgbClr val="000000"/>
                </a:solidFill>
                <a:latin typeface="Times New Roman"/>
              </a:rPr>
              <a:t>:</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Desde</a:t>
            </a:r>
            <a:r>
              <a:rPr b="0" lang="es-MX" sz="2400" spc="-1" strike="noStrike">
                <a:solidFill>
                  <a:srgbClr val="000000"/>
                </a:solidFill>
                <a:latin typeface="Times New Roman"/>
              </a:rPr>
              <a:t>	</a:t>
            </a:r>
            <a:r>
              <a:rPr b="0" lang="es-MX" sz="2400" spc="-1" strike="noStrike">
                <a:solidFill>
                  <a:srgbClr val="000000"/>
                </a:solidFill>
                <a:latin typeface="Times New Roman"/>
              </a:rPr>
              <a:t>:31/12/2002      </a:t>
            </a:r>
            <a:r>
              <a:rPr b="0" lang="es-MX" sz="1600" spc="-1" strike="noStrike">
                <a:solidFill>
                  <a:srgbClr val="000000"/>
                </a:solidFill>
                <a:latin typeface="Times New Roman"/>
              </a:rPr>
              <a:t>Fecha de inic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	</a:t>
            </a:r>
            <a:r>
              <a:rPr b="0" lang="es-MX" sz="2400" spc="-1" strike="noStrike">
                <a:solidFill>
                  <a:srgbClr val="000000"/>
                </a:solidFill>
                <a:latin typeface="Times New Roman"/>
              </a:rPr>
              <a:t>Hasta</a:t>
            </a:r>
            <a:r>
              <a:rPr b="0" lang="es-MX" sz="2400" spc="-1" strike="noStrike">
                <a:solidFill>
                  <a:srgbClr val="000000"/>
                </a:solidFill>
                <a:latin typeface="Times New Roman"/>
              </a:rPr>
              <a:t>	</a:t>
            </a:r>
            <a:r>
              <a:rPr b="0" lang="es-MX" sz="2400" spc="-1" strike="noStrike">
                <a:solidFill>
                  <a:srgbClr val="000000"/>
                </a:solidFill>
                <a:latin typeface="Times New Roman"/>
              </a:rPr>
              <a:t>:30/06/2004      </a:t>
            </a:r>
            <a:r>
              <a:rPr b="0" lang="es-MX" sz="1600" spc="-1" strike="noStrike">
                <a:solidFill>
                  <a:srgbClr val="000000"/>
                </a:solidFill>
                <a:latin typeface="Times New Roman"/>
              </a:rPr>
              <a:t>Fecha de cor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echa de Visita:</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0" lang="es-MX" sz="2400" spc="-1" strike="noStrike">
                <a:solidFill>
                  <a:srgbClr val="000000"/>
                </a:solidFill>
                <a:latin typeface="Times New Roman"/>
              </a:rPr>
              <a:t>08/07/2004</a:t>
            </a:r>
            <a:endParaRPr b="0" lang="en-US" sz="2400" spc="-1" strike="noStrike">
              <a:solidFill>
                <a:srgbClr val="000000"/>
              </a:solidFill>
              <a:latin typeface="Times New Roman"/>
            </a:endParaRPr>
          </a:p>
        </p:txBody>
      </p:sp>
      <p:sp>
        <p:nvSpPr>
          <p:cNvPr id="42" name=""/>
          <p:cNvSpPr/>
          <p:nvPr/>
        </p:nvSpPr>
        <p:spPr>
          <a:xfrm>
            <a:off x="1981080" y="533520"/>
            <a:ext cx="716292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ASPECTOS OPERACIONALES       Y LOGRO DE OBJETIVO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685800" y="304920"/>
            <a:ext cx="1008000" cy="15048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72"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73" name=""/>
          <p:cNvGraphicFramePr/>
          <p:nvPr/>
        </p:nvGraphicFramePr>
        <p:xfrm>
          <a:off x="228600" y="533520"/>
          <a:ext cx="8686800" cy="6203880"/>
        </p:xfrm>
        <a:graphic>
          <a:graphicData uri="http://schemas.openxmlformats.org/drawingml/2006/table">
            <a:tbl>
              <a:tblPr/>
              <a:tblGrid>
                <a:gridCol w="1463760"/>
                <a:gridCol w="1366920"/>
                <a:gridCol w="1368360"/>
                <a:gridCol w="720720"/>
                <a:gridCol w="936360"/>
                <a:gridCol w="935280"/>
                <a:gridCol w="1895400"/>
              </a:tblGrid>
              <a:tr h="103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20092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res satisfechos/Total empleadore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67/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egún encuesta aplicada el 31/03/04 a 42 alumnos de la Carrera, la percepción sobre la calidad de la docencia 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Satisfactoria: 7.1%</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atisfactoria: 59.5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gular: 33.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92360" y="4653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7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77" name=""/>
          <p:cNvGraphicFramePr/>
          <p:nvPr/>
        </p:nvGraphicFramePr>
        <p:xfrm>
          <a:off x="228600" y="533520"/>
          <a:ext cx="8686800" cy="541476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2177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asantías tecnológicas de docentes en centros especializ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convenios de reconocimiento de estudios, para la transferencia de alumnos con otras Instituciones de Educación Superi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9.- Nº Pasantías tecnológicas realizadas por docentes en empresa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3.- Nº de convenios con IES para la continuidad de estudios profesiona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7/5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 año 1, 6 docentes recibieron perfeccionamiento a través de una Asistencia Técnica Internacional en Gestión Pedagógica.</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Programas extraordinarios de titulación de la Universidad de Los Lagos han permitido que, sin mediar convenio suscrito, nuestros titulados de Programación Computacional puedan incorporarse al 5º semestre de la Carrera Ing. Ejec. en Informática.  Sin perjuicio de lo anterior se están realizando las gestiones para plasmar dicha posibilidad en un convenio de continuidad.</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1692360" y="357336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92360" y="2637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92360" y="436572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81"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82" name=""/>
          <p:cNvGraphicFramePr/>
          <p:nvPr/>
        </p:nvGraphicFramePr>
        <p:xfrm>
          <a:off x="395280" y="476280"/>
          <a:ext cx="8280360" cy="6254640"/>
        </p:xfrm>
        <a:graphic>
          <a:graphicData uri="http://schemas.openxmlformats.org/drawingml/2006/table">
            <a:tbl>
              <a:tblPr/>
              <a:tblGrid>
                <a:gridCol w="1600200"/>
                <a:gridCol w="1222560"/>
                <a:gridCol w="1225440"/>
                <a:gridCol w="704880"/>
                <a:gridCol w="936360"/>
                <a:gridCol w="935280"/>
                <a:gridCol w="1655640"/>
              </a:tblGrid>
              <a:tr h="1326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92804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2.- Mejorar los procesos de formación y gestión de la docencia por medio de un programa de perfeccionamiento permanente en metodologías activo participativas y en el uso e incorporación de tecnologías de información y el desarrollo de pasantías nacionales y visitas cortas de especialización en tecnologías de información  en el extranje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ncuesta de satisfacció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alizada a 10 titulados, 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sultado es el sigui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S: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 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 3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D: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egún encuesta aplicada el 31/03/04 a 42 alumnos de la Carrera, la percepción sobre la calidad de la docencia 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Satisfactoria: 7.1%</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atisfactoria: 59.5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gular: 33.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ficiente: 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uy Deficiente: 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1979640" y="249228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79640" y="321300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79640" y="494172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8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87" name=""/>
          <p:cNvGraphicFramePr/>
          <p:nvPr/>
        </p:nvGraphicFramePr>
        <p:xfrm>
          <a:off x="228600" y="533520"/>
          <a:ext cx="8686800" cy="4986360"/>
        </p:xfrm>
        <a:graphic>
          <a:graphicData uri="http://schemas.openxmlformats.org/drawingml/2006/table">
            <a:tbl>
              <a:tblPr/>
              <a:tblGrid>
                <a:gridCol w="1463760"/>
                <a:gridCol w="1366920"/>
                <a:gridCol w="1368360"/>
                <a:gridCol w="720720"/>
                <a:gridCol w="936360"/>
                <a:gridCol w="935280"/>
                <a:gridCol w="1895400"/>
              </a:tblGrid>
              <a:tr h="103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9765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2.- Mejorar los procesos de formación y gestión de la docencia por medio de un programa de perfeccionamiento permanente en metodologías activo participativas y en el uso e incorporación de tecnologías de información y el desarrollo de pasantías nacionales y visitas cortas de especialización en tecnologías de información  en el extranjer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asantías tecnológicas de docentes en centros especializ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res satisfechos/Total empleadore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9.- Nº Pasantías tecnológicas realizadas por docentes en empresa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l año 1, 6 docentes recibieron perfeccionamiento a través de una asistencia técnica internacional en gestión pedagógica.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692360" y="299736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92360" y="4076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9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91" name=""/>
          <p:cNvGraphicFramePr/>
          <p:nvPr/>
        </p:nvGraphicFramePr>
        <p:xfrm>
          <a:off x="179280" y="476280"/>
          <a:ext cx="8785440" cy="628344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1058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3.- Superar los déficit de equipamiento de laboratorios informáticos para la incorporación a la docencia de metodologías didácticas que se apoyen de recursos tecnológicos para la preparación de material Instruccion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computadores disponibles con conexión a internet para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 Nº computadores c/internet/Total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50</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55/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70/7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3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l año 2, la adquisición del Lab. Multimedial se ha postergado hasta recibir orientación del consultor interna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
          <p:cNvSpPr/>
          <p:nvPr/>
        </p:nvSpPr>
        <p:spPr>
          <a:xfrm>
            <a:off x="1835280" y="249228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35280" y="537372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835280" y="414972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97" name=""/>
          <p:cNvGraphicFramePr/>
          <p:nvPr/>
        </p:nvGraphicFramePr>
        <p:xfrm>
          <a:off x="228600" y="533520"/>
          <a:ext cx="8686800" cy="49100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7414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3.- Superar los déficit de equipamiento de laboratorios informáticos para la incorporación a la docencia de metodologías didácticas que se apoyen de recursos tecnológicos para la preparación de material Instruc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7/5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92360" y="4292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0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01" name=""/>
          <p:cNvGraphicFramePr/>
          <p:nvPr/>
        </p:nvGraphicFramePr>
        <p:xfrm>
          <a:off x="179280" y="476280"/>
          <a:ext cx="8785440" cy="628344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1058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4.- Incorporar tecnologías de información en los procesos formativos para desarrollar nuevas competencias técnicas derivadas de la compleja situación de la sociedad y la procedencia del conocimiento y la información como valor soci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computadores disponibles con conexión a internet para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4.- Nº computadores c/internet/Total alumn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50</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55/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70/7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7/3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l año 2, la adquisición del Lab. Multimedial se ha postergado hasta recibir orientación del consultor interna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1835280" y="249228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35280" y="537372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35280" y="414972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07" name=""/>
          <p:cNvGraphicFramePr/>
          <p:nvPr/>
        </p:nvGraphicFramePr>
        <p:xfrm>
          <a:off x="228600" y="533520"/>
          <a:ext cx="8686800" cy="49100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37414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4.- Incorporar tecnologías de información en los procesos formativos para desarrollar nuevas competencias técnicas derivadas de la compleja situación de la sociedad y la procedencia del conocimiento y la información como valor social.</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cceso a recursos de apoyo a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úmero de alumnos por equipamiento disponible en cada laboratori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0.- Nº de títulos en biblioteca/Nº de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 Nº alumnos/Puestos de trabaj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7</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0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5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5/4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60/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70/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930/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3/6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 política de la Institución el incrementar año a año el Fondo Bibliográfico.    Los aportes recibidos por los Proyectos Mecesup ha significado un avance importante.</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suman 12 PC del recientemente adquirido Lab. De Desarrollo.</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692360" y="4292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0"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1" name=""/>
          <p:cNvGraphicFramePr/>
          <p:nvPr/>
        </p:nvGraphicFramePr>
        <p:xfrm>
          <a:off x="179280" y="476280"/>
          <a:ext cx="8785440" cy="5445000"/>
        </p:xfrm>
        <a:graphic>
          <a:graphicData uri="http://schemas.openxmlformats.org/drawingml/2006/table">
            <a:tbl>
              <a:tblPr/>
              <a:tblGrid>
                <a:gridCol w="1697040"/>
                <a:gridCol w="1297080"/>
                <a:gridCol w="1303200"/>
                <a:gridCol w="746280"/>
                <a:gridCol w="992160"/>
                <a:gridCol w="993960"/>
                <a:gridCol w="175572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26672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rácticas Laboral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studiantes sobre aspectos claves de la calidad de la docenc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 Nº alumnos desarrollando prácticas laborales/Nº alumnos en condiciones de realizar práctica labor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6.- Nº estudiantes con una percepción positiva sobre la calidad de la docencia recibida/Nº estudiantes de la Carrer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8/10</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6/5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8/6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67/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6/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42/6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28/4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tendencia es que el alumno empiece sus prácticas laborales a contar de abril de cada año, las razones son de orden económico, ya que durante enero, febrero y marzo terminan de cancelar los aranceles de su último semestre lectivo, para luego inscribir las prácticas y empezar a cancelar los aranceles del proceso de titulación.</a:t>
                      </a: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 encuesta de satisfacció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alizada a 10 titulados, el</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ultado es el siguiente:</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S: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 7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 3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 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D:0%</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gún encuesta aplicada el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31/03/04 a 42 alumnos d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rrera, la percepción sobre la </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lidad de la docencia es:</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Satisfactoria: 7.1%</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atisfactoria: 59.5 %</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gular: 33.4%</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eficiente: 0%</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uy Deficiente: 0%</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1908000" y="314172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08000" y="4437000"/>
            <a:ext cx="705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5" name=""/>
          <p:cNvGraphicFramePr/>
          <p:nvPr/>
        </p:nvGraphicFramePr>
        <p:xfrm>
          <a:off x="228600" y="533520"/>
          <a:ext cx="8686800" cy="570060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51728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inserción laboral de los alumnos de la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empleadores por la calidad de los titulados.</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vinculación de la Institución con el entorno productiv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7.- Nº alumnos titulados insertados laboralmente/Nº titulad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8.- Nº empleados satisfechos/Total empleados encuestados.</a:t>
                      </a:r>
                      <a:r>
                        <a:rPr b="0" lang="es-ES" sz="1000" spc="-1" strike="noStrike">
                          <a:solidFill>
                            <a:srgbClr val="000000"/>
                          </a:solidFill>
                          <a:latin typeface="Arial"/>
                        </a:rPr>
                        <a:t>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2.- Nº convenios de colaboración con empre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5/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0/4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35/40</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9</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5/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urante el año 2003 se titularon 12 alumnos, de los cuales a la fecha de corte de este informe, 5 están insertos laboralmente.  Desde 1999 al 2003 se han titulado 55 alumnos de los cuales 39 están insertos laboral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No hay valores del año 2 hasta la aplicación de encuestas en Marzo de 2005.</a:t>
                      </a:r>
                      <a:endParaRPr b="0" lang="en-US" sz="1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ha postergado la suscripción de convenios hasta determinar el perfil de egreso, producto de la Asistencia Técnica Internacional, para clarificar al sector productivo nuestra orientación curricular.</a:t>
                      </a: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1692360" y="3284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692360" y="4869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33300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ta Gantt Proyecto  CIC0201</a:t>
            </a:r>
            <a:endParaRPr b="0" lang="en-US" sz="3200" spc="-1" strike="noStrike">
              <a:solidFill>
                <a:srgbClr val="000000"/>
              </a:solidFill>
              <a:latin typeface="Times New Roman"/>
            </a:endParaRPr>
          </a:p>
        </p:txBody>
      </p:sp>
      <p:sp>
        <p:nvSpPr>
          <p:cNvPr id="45" name=""/>
          <p:cNvSpPr/>
          <p:nvPr/>
        </p:nvSpPr>
        <p:spPr>
          <a:xfrm flipH="1">
            <a:off x="6803280" y="981000"/>
            <a:ext cx="71640" cy="5243760"/>
          </a:xfrm>
          <a:custGeom>
            <a:avLst/>
            <a:gdLst/>
            <a:ahLst/>
            <a:rect l="l" t="t" r="r" b="b"/>
            <a:pathLst>
              <a:path w="1" h="2940">
                <a:moveTo>
                  <a:pt x="0" y="0"/>
                </a:moveTo>
                <a:lnTo>
                  <a:pt x="0" y="294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6" name=""/>
          <p:cNvGraphicFramePr/>
          <p:nvPr/>
        </p:nvGraphicFramePr>
        <p:xfrm>
          <a:off x="250920" y="1268280"/>
          <a:ext cx="8642160" cy="4681800"/>
        </p:xfrm>
        <a:graphic>
          <a:graphicData uri="http://schemas.openxmlformats.org/presentationml/2006/ole">
            <p:oleObj r:id="rId1" spid="">
              <p:embed/>
              <p:pic>
                <p:nvPicPr>
                  <p:cNvPr id="47" name="" descr=""/>
                  <p:cNvPicPr/>
                  <p:nvPr/>
                </p:nvPicPr>
                <p:blipFill>
                  <a:blip r:embed="rId2"/>
                  <a:stretch/>
                </p:blipFill>
                <p:spPr>
                  <a:xfrm>
                    <a:off x="250920" y="1268280"/>
                    <a:ext cx="8642160" cy="4681800"/>
                  </a:xfrm>
                  <a:prstGeom prst="rect">
                    <a:avLst/>
                  </a:prstGeom>
                  <a:ln w="9360">
                    <a:solidFill>
                      <a:srgbClr val="3333cc"/>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18"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119" name=""/>
          <p:cNvGraphicFramePr/>
          <p:nvPr/>
        </p:nvGraphicFramePr>
        <p:xfrm>
          <a:off x="228600" y="533520"/>
          <a:ext cx="8686800" cy="4062240"/>
        </p:xfrm>
        <a:graphic>
          <a:graphicData uri="http://schemas.openxmlformats.org/drawingml/2006/table">
            <a:tbl>
              <a:tblPr/>
              <a:tblGrid>
                <a:gridCol w="1463760"/>
                <a:gridCol w="1366920"/>
                <a:gridCol w="1368360"/>
                <a:gridCol w="720720"/>
                <a:gridCol w="1008000"/>
                <a:gridCol w="1008000"/>
                <a:gridCol w="1751040"/>
              </a:tblGrid>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86776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5.- Diseñar y aplicar un sistema de seguimiento y evaluación de impacto del proyecto y uso de tecnologías en los procesos formativ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convenios de reconocimiento de estudios, para la transferencia de alumnos con otras Instituciones de Educación Superi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3.- Nº de convenios con IES para la continuidad de estudios profesiona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1: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2: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ño 3: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os Programas extraordinarios de titulación de la Universidad de Los Lagos han permitido que, sin mediar convenio suscrito, nuestros titulados de Programación Computacional puedan incorporarse al 5º semestre de la Carrera Ing. Ejec. en Informática.  Sin perjuicio de lo anterior se están realizando las gestiones para plasmar dicha posibilidad en un convenio de continuidad.</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20"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PLICACIÓN DE ENCUESTAS (Estudiantes, Egresados y Empleadores)</a:t>
            </a:r>
            <a:endParaRPr b="0" lang="en-US" sz="1800" spc="-1" strike="noStrike">
              <a:solidFill>
                <a:srgbClr val="000000"/>
              </a:solidFill>
              <a:latin typeface="Times New Roman"/>
            </a:endParaRPr>
          </a:p>
        </p:txBody>
      </p:sp>
      <p:graphicFrame>
        <p:nvGraphicFramePr>
          <p:cNvPr id="121" name=""/>
          <p:cNvGraphicFramePr/>
          <p:nvPr/>
        </p:nvGraphicFramePr>
        <p:xfrm>
          <a:off x="228600" y="762120"/>
          <a:ext cx="8686800" cy="5376600"/>
        </p:xfrm>
        <a:graphic>
          <a:graphicData uri="http://schemas.openxmlformats.org/drawingml/2006/table">
            <a:tbl>
              <a:tblPr/>
              <a:tblGrid>
                <a:gridCol w="1463760"/>
                <a:gridCol w="1584360"/>
                <a:gridCol w="1481040"/>
                <a:gridCol w="1558800"/>
                <a:gridCol w="1633680"/>
                <a:gridCol w="96516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Realiz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 Muestra respecto al Univers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todologí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s Variables a Medir y Resultado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ambios en el Proyecto en Base a Resultados Encuest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próxima Encues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533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LUMNO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de la carrer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Computació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imer y segund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ñ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4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alumnos 43.</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a alumn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y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1 hor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inicial respecto a la calidad de la docencia recib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alizar las gestiones pertinentes para concretar al corto plazo la Asistencia Técnica Internacional y la adquisición del equipamiento correspondiente al año 1 y año 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lio 2004.</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7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GRESADO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egresados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arrera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ció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putacion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10.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alum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gresados 2003: 12.</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realizada 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umnos egresad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su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ugares de trabajo 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licad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mente en l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ción,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y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2 día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respecto a diversos aspectos relacionados con la formación entregada por C.F.T IPROSEC.</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Ofrecer posibilidad de estudios profesionales vía convenio de continuidad.</a:t>
                      </a:r>
                      <a:r>
                        <a:rPr b="0" lang="es-ES" sz="1000" spc="-1" strike="noStrike">
                          <a:solidFill>
                            <a:srgbClr val="000000"/>
                          </a:solidFill>
                          <a:latin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ero 2005.</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122"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PLICACIÓN DE ENCUESTAS (Estudiantes, Egresados y Empleadores)</a:t>
            </a:r>
            <a:endParaRPr b="0" lang="en-US" sz="1800" spc="-1" strike="noStrike">
              <a:solidFill>
                <a:srgbClr val="000000"/>
              </a:solidFill>
              <a:latin typeface="Times New Roman"/>
            </a:endParaRPr>
          </a:p>
        </p:txBody>
      </p:sp>
      <p:graphicFrame>
        <p:nvGraphicFramePr>
          <p:cNvPr id="123" name=""/>
          <p:cNvGraphicFramePr/>
          <p:nvPr/>
        </p:nvGraphicFramePr>
        <p:xfrm>
          <a:off x="228600" y="762120"/>
          <a:ext cx="8686800" cy="3308400"/>
        </p:xfrm>
        <a:graphic>
          <a:graphicData uri="http://schemas.openxmlformats.org/drawingml/2006/table">
            <a:tbl>
              <a:tblPr/>
              <a:tblGrid>
                <a:gridCol w="1463760"/>
                <a:gridCol w="1584360"/>
                <a:gridCol w="1481040"/>
                <a:gridCol w="1558800"/>
                <a:gridCol w="1633680"/>
                <a:gridCol w="96516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Realiz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 Muestra respecto al Univers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todologí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 las Variables a Medir y Resultado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ambios en el Proyecto en Base a Resultados Encuesta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Fecha próxima Encues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085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MPLEADORES</a:t>
                      </a:r>
                      <a:endParaRPr b="0" lang="en-US" sz="12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Marzo 200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 15 mes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iniciado el Proyec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pleadores que ha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ibido durante al añ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2003 y 2002 a alum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gresados y titula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 de encuestados 10.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cuesta aplicada 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pleadore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en fo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izada, ví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mail y vía fax, con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mpo de resp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2 día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rmato de encuest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gada por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grama Mecesup.</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ivel de satisfacción  respecto a la formación recibida por el alumno y el dominio de competencias que evidencia en el trabajo.</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ortalecimiento de aspectos relacionados con el “Saber Ser” en la formación impartida.  Orientar los contenidos a la formación para el trabajo, como objetivo esencial en el diseño curricular que la Asistencia Técnica Internacional debe aborda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arzo 2005.</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539640" y="333360"/>
          <a:ext cx="8064720" cy="6264360"/>
        </p:xfrm>
        <a:graphic>
          <a:graphicData uri="http://schemas.openxmlformats.org/presentationml/2006/ole">
            <p:oleObj r:id="rId1" spid="">
              <p:embed/>
              <p:pic>
                <p:nvPicPr>
                  <p:cNvPr id="49" name="" descr=""/>
                  <p:cNvPicPr/>
                  <p:nvPr/>
                </p:nvPicPr>
                <p:blipFill>
                  <a:blip r:embed="rId2"/>
                  <a:stretch/>
                </p:blipFill>
                <p:spPr>
                  <a:xfrm>
                    <a:off x="539640" y="333360"/>
                    <a:ext cx="8064720" cy="6264360"/>
                  </a:xfrm>
                  <a:prstGeom prst="rect">
                    <a:avLst/>
                  </a:prstGeom>
                  <a:ln w="9360">
                    <a:solidFill>
                      <a:srgbClr val="3333cc"/>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457200" y="304920"/>
            <a:ext cx="8305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SISTENCIA TÉCNICA</a:t>
            </a:r>
            <a:endParaRPr b="0" lang="en-US" sz="2000" spc="-1" strike="noStrike">
              <a:solidFill>
                <a:srgbClr val="000000"/>
              </a:solidFill>
              <a:latin typeface="Times New Roman"/>
            </a:endParaRPr>
          </a:p>
        </p:txBody>
      </p:sp>
      <p:graphicFrame>
        <p:nvGraphicFramePr>
          <p:cNvPr id="51" name=""/>
          <p:cNvGraphicFramePr/>
          <p:nvPr/>
        </p:nvGraphicFramePr>
        <p:xfrm>
          <a:off x="304920" y="838080"/>
          <a:ext cx="8534160" cy="4606560"/>
        </p:xfrm>
        <a:graphic>
          <a:graphicData uri="http://schemas.openxmlformats.org/drawingml/2006/table">
            <a:tbl>
              <a:tblPr/>
              <a:tblGrid>
                <a:gridCol w="1460520"/>
                <a:gridCol w="1150920"/>
                <a:gridCol w="863640"/>
                <a:gridCol w="2304720"/>
                <a:gridCol w="1366920"/>
                <a:gridCol w="1387440"/>
              </a:tblGrid>
              <a:tr h="12391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mpresa Consultora - Procedenc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echas de Inicio y Términ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bjetiv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6706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estión Institucion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7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estión Educacion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therine Lengrand - Francia</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04/07/200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1/07/200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r>
                        <a:rPr b="0" lang="es-MX" sz="1000" spc="-1" strike="noStrike">
                          <a:solidFill>
                            <a:srgbClr val="000000"/>
                          </a:solidFill>
                          <a:latin typeface="Arial"/>
                        </a:rPr>
                        <a:t>1.- </a:t>
                      </a:r>
                      <a:r>
                        <a:rPr b="0" lang="es-ES" sz="1000" spc="-1" strike="noStrike">
                          <a:solidFill>
                            <a:srgbClr val="000000"/>
                          </a:solidFill>
                          <a:latin typeface="Arial"/>
                        </a:rPr>
                        <a:t>Entregar asistencia técnica a los </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ocentes en el uso de  metodología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ctivo – participativas para el </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joramiento de la calidad de l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señanz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Realizar asesoría en la elaboración y</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plicación de instrumentos de</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valuación del aprendizaje.</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sistir a los docentes en la adecuada</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utilización de recursos tecnológico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ducativos.</a:t>
                      </a:r>
                      <a:endParaRPr b="0" lang="en-US" sz="1000" spc="-1" strike="noStrike">
                        <a:solidFill>
                          <a:srgbClr val="000000"/>
                        </a:solidFill>
                        <a:latin typeface="Times New Roman"/>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973146</a:t>
                      </a:r>
                      <a:r>
                        <a:rPr b="0" lang="es-ES" sz="1200" spc="-1" strike="noStrike">
                          <a:solidFill>
                            <a:srgbClr val="000000"/>
                          </a:solidFill>
                          <a:latin typeface="Arial"/>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2" name=""/>
          <p:cNvGraphicFramePr/>
          <p:nvPr/>
        </p:nvGraphicFramePr>
        <p:xfrm>
          <a:off x="304920" y="5562720"/>
          <a:ext cx="8534160" cy="628560"/>
        </p:xfrm>
        <a:graphic>
          <a:graphicData uri="http://schemas.openxmlformats.org/drawingml/2006/table">
            <a:tbl>
              <a:tblPr/>
              <a:tblGrid>
                <a:gridCol w="5779800"/>
                <a:gridCol w="1366920"/>
                <a:gridCol w="1387440"/>
              </a:tblGrid>
              <a:tr h="631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1.973146</a:t>
                      </a:r>
                      <a:r>
                        <a:rPr b="1" lang="es-E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53" name=""/>
          <p:cNvSpPr/>
          <p:nvPr/>
        </p:nvSpPr>
        <p:spPr>
          <a:xfrm>
            <a:off x="402120" y="6237360"/>
            <a:ext cx="82684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total gastado, acumulado hasta la fecha de corte, considerando aporte de contraparte.           </a:t>
            </a:r>
            <a:endParaRPr b="0" lang="en-US" sz="12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Monto total de la Actividad, en el proyecto, considerando aporte de contrapar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4" name=""/>
          <p:cNvSpPr/>
          <p:nvPr/>
        </p:nvSpPr>
        <p:spPr>
          <a:xfrm>
            <a:off x="457200" y="2286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OBRAS</a:t>
            </a:r>
            <a:endParaRPr b="0" lang="en-US" sz="2000" spc="-1" strike="noStrike">
              <a:solidFill>
                <a:srgbClr val="000000"/>
              </a:solidFill>
              <a:latin typeface="Times New Roman"/>
            </a:endParaRPr>
          </a:p>
        </p:txBody>
      </p:sp>
      <p:graphicFrame>
        <p:nvGraphicFramePr>
          <p:cNvPr id="55" name=""/>
          <p:cNvGraphicFramePr/>
          <p:nvPr/>
        </p:nvGraphicFramePr>
        <p:xfrm>
          <a:off x="304920" y="762120"/>
          <a:ext cx="8534160" cy="4694040"/>
        </p:xfrm>
        <a:graphic>
          <a:graphicData uri="http://schemas.openxmlformats.org/drawingml/2006/table">
            <a:tbl>
              <a:tblPr/>
              <a:tblGrid>
                <a:gridCol w="1752480"/>
                <a:gridCol w="2133720"/>
                <a:gridCol w="1447560"/>
                <a:gridCol w="1600200"/>
                <a:gridCol w="1600200"/>
              </a:tblGrid>
              <a:tr h="1035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scripció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echas de Inicio y Términ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 (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1361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bras Nueva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71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pliacion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8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paraciones y Acondicionamient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TEMPL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XX/XX</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Y/Y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6" name=""/>
          <p:cNvGraphicFramePr/>
          <p:nvPr/>
        </p:nvGraphicFramePr>
        <p:xfrm>
          <a:off x="304920" y="5562720"/>
          <a:ext cx="8534160" cy="533160"/>
        </p:xfrm>
        <a:graphic>
          <a:graphicData uri="http://schemas.openxmlformats.org/drawingml/2006/table">
            <a:tbl>
              <a:tblPr/>
              <a:tblGrid>
                <a:gridCol w="5333760"/>
                <a:gridCol w="1600200"/>
                <a:gridCol w="1600200"/>
              </a:tblGrid>
              <a:tr h="533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57" name=""/>
          <p:cNvSpPr/>
          <p:nvPr/>
        </p:nvSpPr>
        <p:spPr>
          <a:xfrm>
            <a:off x="311400" y="6172200"/>
            <a:ext cx="82684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total gastado, acumulado hasta la fecha de corte, considerando aporte de contraparte.           </a:t>
            </a:r>
            <a:endParaRPr b="0" lang="en-US" sz="12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 correspondiente al Monto total de la Actividad, en el proyecto, considerando aporte de contrapar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58" name=""/>
          <p:cNvSpPr/>
          <p:nvPr/>
        </p:nvSpPr>
        <p:spPr>
          <a:xfrm>
            <a:off x="457200" y="2286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BIENES</a:t>
            </a:r>
            <a:endParaRPr b="0" lang="en-US" sz="2000" spc="-1" strike="noStrike">
              <a:solidFill>
                <a:srgbClr val="000000"/>
              </a:solidFill>
              <a:latin typeface="Times New Roman"/>
            </a:endParaRPr>
          </a:p>
        </p:txBody>
      </p:sp>
      <p:graphicFrame>
        <p:nvGraphicFramePr>
          <p:cNvPr id="59" name=""/>
          <p:cNvGraphicFramePr/>
          <p:nvPr/>
        </p:nvGraphicFramePr>
        <p:xfrm>
          <a:off x="304920" y="762120"/>
          <a:ext cx="8534160" cy="4682880"/>
        </p:xfrm>
        <a:graphic>
          <a:graphicData uri="http://schemas.openxmlformats.org/drawingml/2006/table">
            <a:tbl>
              <a:tblPr/>
              <a:tblGrid>
                <a:gridCol w="1600200"/>
                <a:gridCol w="2306520"/>
                <a:gridCol w="1427040"/>
                <a:gridCol w="1600200"/>
                <a:gridCol w="1600200"/>
              </a:tblGrid>
              <a:tr h="1035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scripción</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talle</a:t>
                      </a:r>
                      <a:endParaRPr b="0" lang="en-US" sz="1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 (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851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bliografía y T.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otebook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mpresora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cann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ámaras Digital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C Lab. Desarrollo</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C de Trabajo Pedagógico</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ervid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322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6,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quipamiento e Instalaciones para Laboratori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404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quipamiento e Instalaciones para Taller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0" name=""/>
          <p:cNvGraphicFramePr/>
          <p:nvPr/>
        </p:nvGraphicFramePr>
        <p:xfrm>
          <a:off x="324000" y="5516640"/>
          <a:ext cx="8534160" cy="457200"/>
        </p:xfrm>
        <a:graphic>
          <a:graphicData uri="http://schemas.openxmlformats.org/drawingml/2006/table">
            <a:tbl>
              <a:tblPr/>
              <a:tblGrid>
                <a:gridCol w="5333760"/>
                <a:gridCol w="1600200"/>
                <a:gridCol w="1600200"/>
              </a:tblGrid>
              <a:tr h="4597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322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61" name=""/>
          <p:cNvSpPr/>
          <p:nvPr/>
        </p:nvSpPr>
        <p:spPr>
          <a:xfrm>
            <a:off x="228600" y="304920"/>
            <a:ext cx="861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PERFECCIONAMIENTO</a:t>
            </a:r>
            <a:endParaRPr b="0" lang="en-US" sz="2000" spc="-1" strike="noStrike">
              <a:solidFill>
                <a:srgbClr val="000000"/>
              </a:solidFill>
              <a:latin typeface="Times New Roman"/>
            </a:endParaRPr>
          </a:p>
        </p:txBody>
      </p:sp>
      <p:graphicFrame>
        <p:nvGraphicFramePr>
          <p:cNvPr id="62" name=""/>
          <p:cNvGraphicFramePr/>
          <p:nvPr/>
        </p:nvGraphicFramePr>
        <p:xfrm>
          <a:off x="304920" y="762120"/>
          <a:ext cx="8534160" cy="4197240"/>
        </p:xfrm>
        <a:graphic>
          <a:graphicData uri="http://schemas.openxmlformats.org/drawingml/2006/table">
            <a:tbl>
              <a:tblPr/>
              <a:tblGrid>
                <a:gridCol w="1752480"/>
                <a:gridCol w="1676520"/>
                <a:gridCol w="1752480"/>
                <a:gridCol w="1752480"/>
                <a:gridCol w="1600200"/>
              </a:tblGrid>
              <a:tr h="12038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ctivida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de Docentes con Perfeccionamient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Presupuestada de Docentes a Perfeccionar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Gast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Monto Actividad</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illones de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113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ecas de</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estrí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stadías cortas para Especializació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isitas de Académico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2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santía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3" name=""/>
          <p:cNvGraphicFramePr/>
          <p:nvPr/>
        </p:nvGraphicFramePr>
        <p:xfrm>
          <a:off x="304920" y="5029200"/>
          <a:ext cx="8534160" cy="533520"/>
        </p:xfrm>
        <a:graphic>
          <a:graphicData uri="http://schemas.openxmlformats.org/drawingml/2006/table">
            <a:tbl>
              <a:tblPr/>
              <a:tblGrid>
                <a:gridCol w="5181480"/>
                <a:gridCol w="1752480"/>
                <a:gridCol w="1600200"/>
              </a:tblGrid>
              <a:tr h="5335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228600" y="914400"/>
          <a:ext cx="8534520" cy="4878360"/>
        </p:xfrm>
        <a:graphic>
          <a:graphicData uri="http://schemas.openxmlformats.org/drawingml/2006/table">
            <a:tbl>
              <a:tblPr/>
              <a:tblGrid>
                <a:gridCol w="2166840"/>
                <a:gridCol w="1733760"/>
                <a:gridCol w="1595160"/>
                <a:gridCol w="1438560"/>
                <a:gridCol w="1600200"/>
              </a:tblGrid>
              <a:tr h="938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Tipo de Recursos</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Proyect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onto Total Proyecto</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illones de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 Efectivo Acumulado</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illones de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INSTITUCIÓ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ECESU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INSTITUCIÓ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MECESU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07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sistencia Técnic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3146</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53223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bras</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1" lang="es-ES_tradnl" sz="1200" spc="-1" strike="noStrike">
                          <a:solidFill>
                            <a:srgbClr val="000000"/>
                          </a:solidFill>
                          <a:latin typeface="Times New Roman"/>
                        </a:rPr>
                        <a:t>Perfeccionamiento</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s de Operació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Efectiv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4003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Gastos de Operación</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Servicios Valorizado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Tot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6.4003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6.50537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p:nvPr/>
        </p:nvSpPr>
        <p:spPr>
          <a:xfrm>
            <a:off x="990720" y="30492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 RESUMEN:</a:t>
            </a:r>
            <a:r>
              <a:rPr b="0" lang="es-MX" sz="2400" spc="-1" strike="noStrike">
                <a:solidFill>
                  <a:srgbClr val="000000"/>
                </a:solidFill>
                <a:latin typeface="Times New Roman"/>
              </a:rPr>
              <a:t> </a:t>
            </a:r>
            <a:r>
              <a:rPr b="1" lang="es-MX" sz="2400" spc="-1" strike="noStrike">
                <a:solidFill>
                  <a:srgbClr val="000000"/>
                </a:solidFill>
                <a:latin typeface="Times New Roman"/>
              </a:rPr>
              <a:t>Recursos Presupuestarios</a:t>
            </a:r>
            <a:endParaRPr b="0" lang="en-US" sz="2400" spc="-1" strike="noStrike">
              <a:solidFill>
                <a:srgbClr val="000000"/>
              </a:solidFill>
              <a:latin typeface="Times New Roman"/>
            </a:endParaRPr>
          </a:p>
        </p:txBody>
      </p:sp>
      <p:sp>
        <p:nvSpPr>
          <p:cNvPr id="66" name=""/>
          <p:cNvSpPr/>
          <p:nvPr/>
        </p:nvSpPr>
        <p:spPr>
          <a:xfrm>
            <a:off x="250920" y="6021360"/>
            <a:ext cx="8610480" cy="554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nto Total Proyecto corresponde a los 3 años de ejecución del proyecto.</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asto Efectivo Acumulado es el realizado a la fecha de corte del inform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838080" y="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ADRO</a:t>
            </a:r>
            <a:r>
              <a:rPr b="0" lang="es-MX" sz="2400" spc="-1" strike="noStrike">
                <a:solidFill>
                  <a:srgbClr val="000000"/>
                </a:solidFill>
                <a:latin typeface="Times New Roman"/>
              </a:rPr>
              <a:t> </a:t>
            </a:r>
            <a:r>
              <a:rPr b="1" lang="es-MX" sz="2400" spc="-1" strike="noStrike">
                <a:solidFill>
                  <a:srgbClr val="000000"/>
                </a:solidFill>
                <a:latin typeface="Times New Roman"/>
              </a:rPr>
              <a:t>RESUMEN: Marco Lógico del Proyecto </a:t>
            </a:r>
            <a:endParaRPr b="0" lang="en-US" sz="2400" spc="-1" strike="noStrike">
              <a:solidFill>
                <a:srgbClr val="000000"/>
              </a:solidFill>
              <a:latin typeface="Times New Roman"/>
            </a:endParaRPr>
          </a:p>
        </p:txBody>
      </p:sp>
      <p:graphicFrame>
        <p:nvGraphicFramePr>
          <p:cNvPr id="68" name=""/>
          <p:cNvGraphicFramePr/>
          <p:nvPr/>
        </p:nvGraphicFramePr>
        <p:xfrm>
          <a:off x="228600" y="533520"/>
          <a:ext cx="8686800" cy="6294240"/>
        </p:xfrm>
        <a:graphic>
          <a:graphicData uri="http://schemas.openxmlformats.org/drawingml/2006/table">
            <a:tbl>
              <a:tblPr/>
              <a:tblGrid>
                <a:gridCol w="1463760"/>
                <a:gridCol w="1366920"/>
                <a:gridCol w="1368360"/>
                <a:gridCol w="720720"/>
                <a:gridCol w="936360"/>
                <a:gridCol w="935280"/>
                <a:gridCol w="1895400"/>
              </a:tblGrid>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Objetivo Específ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del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Medida del Indicad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Inic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Compro.</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ual</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1)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Valor Logrado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nálisis de las Desviaciones y Medidas Correctivas</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5074200">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Diseñar y aplicar un nuevo enfoque curricular en la Carrera de Programación Computacional y reorientarlo a las tecnologías de información y comunicación, que responda a los requerimientos de una formación pertinente e integral.</a:t>
                      </a:r>
                      <a:r>
                        <a:rPr b="0" lang="es-ES" sz="1000" spc="-1" strike="noStrike">
                          <a:solidFill>
                            <a:srgbClr val="000000"/>
                          </a:solidFill>
                          <a:latin typeface="Arial"/>
                        </a:rPr>
                        <a:t>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en la Tasa de Aprob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l rendimiento estudianti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umento de Prácticas Laboral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ejoramiento en la percepción de los titulados sobre la Educación recibid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1.- Nº alumnos aprobados Carrera/Total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2.- Promedio de notas alumnos Carrer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3.- Nº alumnos desarrollando prácticas laborales/Nº alumnos en condiciones de realizar práctica labor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5.- Nº titulados satisfechos/Total titulados encues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50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0/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45/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4.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4.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8/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9/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8/10</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38/4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r>
                        <a:rPr b="0" lang="es-E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6/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1: 7/1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2: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ea typeface="Times New Roman"/>
                        </a:rPr>
                        <a:t>Año 3: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y valores de aprobación del año 2 hasta diciembre de 2004.</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La tendencia es que el alumno empiece sus prácticas laborales a contar de abril de cada año, las razones son de orden económico, ya que durante enero, febrero y marzo terminan de cancelar los aranceles de su último semestre lectivo, para luego inscribir las prácticas y empezar a cancelar los aranceles del proceso de titulación.</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 encuesta de satisfacción</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alizada a 10 titulados, 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esultado es el sigui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S: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S: 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R: 3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 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MD: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1692360" y="2492280"/>
            <a:ext cx="72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692360" y="321300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92360" y="5300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44:06Z</dcterms:created>
  <dc:creator>smreyes</dc:creator>
  <dc:description/>
  <dc:language>en-US</dc:language>
  <cp:lastModifiedBy>Jgonzalez</cp:lastModifiedBy>
  <dcterms:modified xsi:type="dcterms:W3CDTF">2006-03-29T16:25:28Z</dcterms:modified>
  <cp:revision>426</cp:revision>
  <dc:subject/>
  <dc:title>Presentación de PowerPoint</dc:title>
</cp:coreProperties>
</file>