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8852040"/>
            <a:ext cx="360" cy="190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3023-07CF-4AFA-A5DC-329FFDE8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FA9-214C-4316-B611-18582A12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AE7-997B-4439-8515-77B024EB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084-D36C-4774-94CE-BD3C07B9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BDF7-013E-42A7-96CB-0044BFEE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8CC-2B46-491F-B754-9B69EB3C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061-29F9-4D46-A00C-BD0B4665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758-F928-4B89-9204-C2D0BE65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CC2-ECE2-4456-BA35-43CFAB6A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E96-D74F-432F-836F-2C3CCDE7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114-E62B-42C1-8DE6-C2A00AED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D61-B84E-41DE-BA70-841B2D75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07816-0989-411B-81F3-025F888AE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127640" cy="865080"/>
          </a:xfrm>
          <a:prstGeom prst="rect">
            <a:avLst/>
          </a:prstGeom>
          <a:noFill/>
          <a:ln w="9360">
            <a:solidFill>
              <a:srgbClr val="cc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4400" spc="-1" strike="noStrike">
                <a:solidFill>
                  <a:srgbClr val="cc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Times New Roman"/>
              </a:rPr>
              <a:t>OBJETIVO: Construir un trebouchet que funcione razonablemente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Times New Roman"/>
              </a:rPr>
              <a:t>PLAZOS:</a:t>
            </a:r>
            <a:r>
              <a:rPr b="1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000066"/>
                </a:solidFill>
                <a:latin typeface="Times New Roman"/>
              </a:rPr>
              <a:t>Las tres últimas sesiones dedicadas al ensamble del prototi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Times New Roman"/>
              </a:rPr>
              <a:t>PROPIEDAD: El mejor modelo queda en el Lab. Debe existir un pl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Times New Roman"/>
              </a:rPr>
              <a:t>Toda la información a través d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Times New Roman"/>
              </a:rPr>
              <a:t>Próxima clase traer plano del modelo a constru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410080" cy="5051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3808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pperplate Gothic Bold"/>
              </a:rPr>
              <a:t>Planos de construcció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4040" y="2073240"/>
            <a:ext cx="5153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440" y="549360"/>
            <a:ext cx="776916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INKS de interes para TREBUCH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Times New Roman"/>
              </a:rPr>
              <a:t>http://www.algobeautytreb.com/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; con downloads , ve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catapultkits.com/ ; fotos , pero pocos detal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ripcord.ws/ ; fotos con buena idea, ademas proyec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y tb PLANOS detallados, animaciones, teoria.... EL MEJO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geocities.com/SiliconValley/park/6461/trebuch.html ; teoria y otr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globalspec.com/trebuchet/ ; juego ilustrativ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io.com/~beckerdo/other/trebuchet.html ; teoria- diseño- materiales, escal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dansdata.com/treb.htm ; detalles construcc. y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images.google.cl/images?q=trebuchet&amp;hl=es&amp;lr=&amp;sa=X&amp;oi=images&amp;ct=title  ; página con varios lin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ambien se puede usar tubos de PVC en vez de mad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40000" y="252360"/>
            <a:ext cx="180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19640" y="0"/>
            <a:ext cx="4824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60720"/>
            <a:ext cx="43196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trebuchet es un arma de asedio medieval, empleada para destruir murallas o para lanzar proyectiles por sobre los mu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trebuchet está form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a viga o barra de madera sujeta a un armazón que la mantiene elevada del suel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brazo corto con un contra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honda que tiene un extremo atado a la viga y un extremo libre con un lazo donde se engancha la bolsa del proyect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9640" y="450720"/>
            <a:ext cx="360072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Inverted">
              <a:avLst>
                <a:gd name="adj" fmla="val 51815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Qué es un Trebuchet?</a:t>
            </a:r>
            <a:endParaRPr b="0" lang="en-US" sz="2400" spc="-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79640" y="0"/>
            <a:ext cx="64803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39640" y="179280"/>
            <a:ext cx="3961080" cy="288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Orígenes del Trebuchet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-1440" y="2759040"/>
            <a:ext cx="486072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 piensa que fue inventado en China entre los siglos V y III Ad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eriormente llegó a Europa alrededor del año 500 Dd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ante la Edad Media era usado para arrojar personas, que hubiesen muerto por la peste negra, por encima de los muros de los castillos, con el propósito de infectar a los pobl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80px-Trebuchet2" descr=""/>
          <p:cNvPicPr/>
          <p:nvPr/>
        </p:nvPicPr>
        <p:blipFill>
          <a:blip r:embed=""/>
          <a:stretch/>
        </p:blipFill>
        <p:spPr>
          <a:xfrm>
            <a:off x="228600" y="3471840"/>
            <a:ext cx="4114800" cy="33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-838080" y="609480"/>
            <a:ext cx="7920000" cy="72072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489995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Times New Roman"/>
              </a:rPr>
              <a:t>Tipos de Trebuchet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371600"/>
            <a:ext cx="360036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buchet de Tracción: en el cual un grupo de personas tiraban de cuerdas atadas al brazo corto de una palanca que tiene una honda en el brazo lar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4876920"/>
            <a:ext cx="373392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buchet de Contrapeso: la energia proviene de un contrapeso en a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2670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179280"/>
            <a:ext cx="5761080" cy="12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3259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300dc"/>
                </a:solidFill>
                <a:latin typeface="Arial Black"/>
              </a:rPr>
              <a:t>Funcionamiento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2300dc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0" y="1471680"/>
            <a:ext cx="4872240" cy="5010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80000" y="1647720"/>
            <a:ext cx="338472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mecanismo disparador mantiene el contrapeso en su posición inicial. La honda es colocada en forma horizontal, sobre un canal, en la base del armazón, paralelo a la barra y el proyectil colocado en su bolsa. Cuando el disparador es soltado, el contrapeso cae y la viga impulsa la honda, primero horizontalmente a través del canal y luego, en el aire, haciendola describir un arco hacia arrib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118040" y="738360"/>
            <a:ext cx="3441600" cy="250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1120" y="1019160"/>
            <a:ext cx="2559240" cy="1860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759280" y="4140360"/>
            <a:ext cx="324036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360360"/>
            <a:ext cx="6300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pperplate Gothic Bold"/>
              </a:rPr>
              <a:t>Detalles del fun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240000"/>
            <a:ext cx="252108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honda se encuentra sujeta en sus dos ext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0360" y="1619280"/>
            <a:ext cx="180036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o de los extremos se desliza sobre un gan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79640" y="5354640"/>
            <a:ext cx="252108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extremo superior se desprende liberando el proyec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9280" y="1800360"/>
            <a:ext cx="1621080" cy="900000"/>
          </a:xfrm>
          <a:prstGeom prst="rightArrow">
            <a:avLst>
              <a:gd name="adj1" fmla="val 30593"/>
              <a:gd name="adj2" fmla="val 12078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419640"/>
            <a:ext cx="900000" cy="1260360"/>
          </a:xfrm>
          <a:prstGeom prst="downArrow">
            <a:avLst>
              <a:gd name="adj1" fmla="val 33491"/>
              <a:gd name="adj2" fmla="val 9916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573960"/>
            <a:ext cx="3048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talle: http://www.ripcord.ws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8120" y="2286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251240" y="3600360"/>
            <a:ext cx="2521080" cy="3259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3600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179280" y="4320000"/>
            <a:ext cx="4500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delo convencional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energia potencial proviene un un peso a la mayor altura posible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19640" y="1100160"/>
            <a:ext cx="43196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delo con elá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energia potencial proviene de un elástico exten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659640" y="3600360"/>
            <a:ext cx="2484360" cy="32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943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odelos Act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657600" cy="2489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905360" y="1371600"/>
            <a:ext cx="376884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lson Zamorano</cp:lastModifiedBy>
  <dcterms:modified xsi:type="dcterms:W3CDTF">2006-05-02T22:56:57Z</dcterms:modified>
  <cp:revision>6</cp:revision>
  <dc:subject/>
  <dc:title>Presentación de PowerPoint</dc:title>
</cp:coreProperties>
</file>