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8852040"/>
            <a:ext cx="360" cy="190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0D8-4B52-47CD-AFB5-A480E1A9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4B7-C728-4F50-B2F5-77AB1B1F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412-E66A-4B3B-9DEC-25669DA2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D17-9772-4502-A1DA-C692DEA3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3D5-C69F-476D-8360-D15ABBDA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CE8-5EE1-4B05-BBBB-1B7E5F1B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3BC-E974-4DF6-9739-A6FC5142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991-5F6C-413A-BE25-9A3EE02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278-5549-4959-ABAB-564B4855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C39-75B4-4D66-AF5C-4F4B343B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99D-C78A-4875-9976-AF8A7210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47D-7B3E-47E4-AA8A-0B5FCE7B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A02D3-D000-4FD9-9253-E01F7D256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127640" cy="865080"/>
          </a:xfrm>
          <a:prstGeom prst="rect">
            <a:avLst/>
          </a:prstGeom>
          <a:noFill/>
          <a:ln w="9360">
            <a:solidFill>
              <a:srgbClr val="cc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4400" spc="-1" strike="noStrike">
                <a:solidFill>
                  <a:srgbClr val="cc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OBJETIVO: Construir un trebouchet que funcione razonablemente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PLAZOS:</a:t>
            </a:r>
            <a:r>
              <a:rPr b="1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Las tres últimas sesiones dedicadas al ensamble del protot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PROPIEDAD: El mejor modelo queda en el Lab. Debe existir un pl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Toda la información a través d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Próxima clase traer plano del modelo a constru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410080" cy="50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pperplate Gothic Bold"/>
              </a:rPr>
              <a:t>Planos de construcció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4040" y="2073240"/>
            <a:ext cx="5153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549360"/>
            <a:ext cx="776916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INKS de interes para TREBU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Times New Roman"/>
              </a:rPr>
              <a:t>http://www.algobeautytreb.com/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; con downloads , ve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catapultkits.com/ ; fotos , pero pocos detal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ripcord.ws/ ; fotos con buena idea, ademas proyec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y tb PLANOS detallados, animaciones, teoria.... EL MEJO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geocities.com/SiliconValley/park/6461/trebuch.html ; teoria y otr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globalspec.com/trebuchet/ ; juego ilustrativ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io.com/~beckerdo/other/trebuchet.html ; teoria- diseño- materiales, escal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dansdata.com/treb.htm ; detalles construcc. y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images.google.cl/images?q=trebuchet&amp;hl=es&amp;lr=&amp;sa=X&amp;oi=images&amp;ct=title  ; página con varios lin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ambien se puede usar tubos de PVC en vez de mad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40000" y="252360"/>
            <a:ext cx="180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19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60720"/>
            <a:ext cx="4319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trebuchet es un arma de asedio medieval, empleada para destruir murallas o para lanzar proyectiles por sobre los mu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trebuchet está form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 viga o barra de madera sujeta a un armazón que la mantiene elevada del sue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brazo corto con un contra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honda que tiene un extremo atado a la viga y un extremo libre con un lazo donde se engancha la bolsa del proyec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45072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1815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Qué es un Trebuchet?</a:t>
            </a:r>
            <a:endParaRPr b="0" lang="en-US" sz="2400" spc="-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79640" y="0"/>
            <a:ext cx="6480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9640" y="179280"/>
            <a:ext cx="3961080" cy="288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Orígenes del Trebuchet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2759040"/>
            <a:ext cx="486072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 piensa que fue inventado en China entre los siglos V y III Ad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eriormente llegó a Europa alrededor del año 500 Dd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nte la Edad Media era usado para arrojar personas, que hubiesen muerto por la peste negra, por encima de los muros de los castillos, con el propósito de infectar a los pobl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80px-Trebuchet2" descr=""/>
          <p:cNvPicPr/>
          <p:nvPr/>
        </p:nvPicPr>
        <p:blipFill>
          <a:blip r:embed=""/>
          <a:stretch/>
        </p:blipFill>
        <p:spPr>
          <a:xfrm>
            <a:off x="228600" y="3471840"/>
            <a:ext cx="4114800" cy="33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-838080" y="609480"/>
            <a:ext cx="7920000" cy="7207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89995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Tipos de Trebuchet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360036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buchet de Tracción: en el cual un grupo de personas tiraban de cuerdas atadas al brazo corto de una palanca que tiene una honda en el brazo lar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4876920"/>
            <a:ext cx="37339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buchet de Contrapeso: la energia proviene de un contrapeso en a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267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79280"/>
            <a:ext cx="5761080" cy="12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3259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300dc"/>
                </a:solidFill>
                <a:latin typeface="Arial Black"/>
              </a:rPr>
              <a:t>Funcionamiento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2300dc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0" y="1471680"/>
            <a:ext cx="4872240" cy="501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80000" y="1647720"/>
            <a:ext cx="338472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mecanismo disparador mantiene el contrapeso en su posición inicial. La honda es colocada en forma horizontal, sobre un canal, en la base del armazón, paralelo a la barra y el proyectil colocado en su bolsa. Cuando el disparador es soltado, el contrapeso cae y la viga impulsa la honda, primero horizontalmente a través del canal y luego, en el aire, haciendola describir un arco hacia arrib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18040" y="738360"/>
            <a:ext cx="3441600" cy="250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1120" y="1019160"/>
            <a:ext cx="2559240" cy="186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59280" y="4140360"/>
            <a:ext cx="324036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60360"/>
            <a:ext cx="6300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talles del fun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240000"/>
            <a:ext cx="2521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honda se encuentra sujeta en sus do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0360" y="1619280"/>
            <a:ext cx="18003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o de los extremos se desliza sobre un gan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79640" y="5354640"/>
            <a:ext cx="2521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extremo superior se desprende liberando el proyec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9280" y="1800360"/>
            <a:ext cx="1621080" cy="900000"/>
          </a:xfrm>
          <a:prstGeom prst="rightArrow">
            <a:avLst>
              <a:gd name="adj1" fmla="val 30593"/>
              <a:gd name="adj2" fmla="val 12078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419640"/>
            <a:ext cx="900000" cy="1260360"/>
          </a:xfrm>
          <a:prstGeom prst="downArrow">
            <a:avLst>
              <a:gd name="adj1" fmla="val 33491"/>
              <a:gd name="adj2" fmla="val 9916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73960"/>
            <a:ext cx="3048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alle: http://www.ripcord.w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8120" y="2286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51240" y="3600360"/>
            <a:ext cx="2521080" cy="325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360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79280" y="4320000"/>
            <a:ext cx="4500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o convencional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energia potencial proviene un un peso a la mayor altura posible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19640" y="1100160"/>
            <a:ext cx="43196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o con e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energia potencial proviene de un elástico exte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659640" y="3600360"/>
            <a:ext cx="248436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odel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657600" cy="248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905360" y="1371600"/>
            <a:ext cx="37688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lson Zamorano</cp:lastModifiedBy>
  <dcterms:modified xsi:type="dcterms:W3CDTF">2006-05-02T22:56:57Z</dcterms:modified>
  <cp:revision>6</cp:revision>
  <dc:subject/>
  <dc:title>Presentación de PowerPoint</dc:title>
</cp:coreProperties>
</file>