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852040"/>
            <a:ext cx="360" cy="190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96B-C26F-481A-85C1-A4DAE26D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A99-885F-42F2-9EDB-1226E30A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86C-A5F0-44CB-B679-28B3F06A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9BF-61CB-46E9-A69B-707B6B15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85C-9974-44D5-ABDC-BF340675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FE2-9F08-4CFC-9C61-06FEF83F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E20-C49B-4DD7-8E0B-5F6D03EF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CD5-CA87-4BCF-8CC8-7DA1C6C4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348-A0D6-45C3-ADEC-DE8140B0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1A1-6A42-4058-93AD-4E276E0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77C-8DE3-466F-AA99-DC2C0C1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430-DB15-40D9-AD45-0933D00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6F6C8-9FC4-4F74-96BE-4CBC788D3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127640" cy="865080"/>
          </a:xfrm>
          <a:prstGeom prst="rect">
            <a:avLst/>
          </a:prstGeom>
          <a:noFill/>
          <a:ln w="9360">
            <a:solidFill>
              <a:srgbClr val="cc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4400" spc="-1" strike="noStrike">
                <a:solidFill>
                  <a:srgbClr val="cc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OBJETIVO: Construir un trebouchet que funcione razonablemente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PLAZOS:</a:t>
            </a: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Las tres últimas sesiones dedicadas al ensamble del proto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OPIEDAD: El mejor modelo queda en el Lab. Debe existir 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Toda la información a través d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óxima clase traer plano del modelo a constru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410080" cy="50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pperplate Gothic Bold"/>
              </a:rPr>
              <a:t>Planos de construc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4040" y="2073240"/>
            <a:ext cx="5153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76916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INKS de interes para TREBU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http://www.algobeautytreb.com/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; con downloads , v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catapultkits.com/ ; fotos , pero pocos detal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ripcord.ws/ ; fotos con buena idea, ademas proyec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y tb PLANOS detallados, animaciones, teoria.... EL MEJ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eocities.com/SiliconValley/park/6461/trebuch.html ; teoria y otr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lobalspec.com/trebuchet/ ; juego ilustrativ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io.com/~beckerdo/other/trebuchet.html ; teoria- diseño- materiales, escal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dansdata.com/treb.htm ; detalles construcc. y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images.google.cl/images?q=trebuchet&amp;hl=es&amp;lr=&amp;sa=X&amp;oi=images&amp;ct=title  ; página con varios lin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ambien se puede usar tubos de PVC en vez de mad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252360"/>
            <a:ext cx="180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19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60720"/>
            <a:ext cx="4319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trebuchet es un arma de asedio medieval, empleada para destruir murallas o para lanzar proyectiles por sobre los mu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trebuchet está form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 viga o barra de madera sujeta a un armazón que la mantiene elevada del sue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brazo corto con un contra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que tiene un extremo atado a la viga y un extremo libre con un lazo donde se engancha la bolsa del proyec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45072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181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Qué es un Trebuchet?</a:t>
            </a:r>
            <a:endParaRPr b="0" lang="en-US" sz="2400" spc="-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9640" y="0"/>
            <a:ext cx="6480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9640" y="179280"/>
            <a:ext cx="3961080" cy="28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Orígenes del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2759040"/>
            <a:ext cx="486072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piensa que fue inventado en China entre los siglos V y III Ad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eriormente llegó a Europa alrededor del año 500 D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nte la Edad Media era usado para arrojar personas, que hubiesen muerto por la peste negra, por encima de los muros de los castillos, con el propósito de infectar a los pobl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80px-Trebuchet2" descr=""/>
          <p:cNvPicPr/>
          <p:nvPr/>
        </p:nvPicPr>
        <p:blipFill>
          <a:blip r:embed=""/>
          <a:stretch/>
        </p:blipFill>
        <p:spPr>
          <a:xfrm>
            <a:off x="228600" y="3471840"/>
            <a:ext cx="4114800" cy="33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-838080" y="609480"/>
            <a:ext cx="7920000" cy="72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8999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Tipos de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360036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Tracción: en el cual un grupo de personas tiraban de cuerdas atadas al brazo corto de una palanca que tiene una honda en el brazo l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4876920"/>
            <a:ext cx="37339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Contrapeso: la energia proviene de un contrapeso en a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79280"/>
            <a:ext cx="5761080" cy="12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3259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</a:rPr>
              <a:t>Funcionamiento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2300dc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0" y="1471680"/>
            <a:ext cx="4872240" cy="501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80000" y="1647720"/>
            <a:ext cx="338472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mecanismo disparador mantiene el contrapeso en su posición inicial. La honda es colocada en forma horizontal, sobre un canal, en la base del armazón, paralelo a la barra y el proyectil colocado en su bolsa. Cuando el disparador es soltado, el contrapeso cae y la viga impulsa la honda, primero horizontalmente a través del canal y luego, en el aire, haciendola describir un arco hacia arrib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8040" y="738360"/>
            <a:ext cx="3441600" cy="250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1120" y="1019160"/>
            <a:ext cx="255924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59280" y="4140360"/>
            <a:ext cx="324036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60360"/>
            <a:ext cx="6300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alles del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24000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se encuentra sujeta en sus do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0360" y="1619280"/>
            <a:ext cx="1800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o de los extremos se desliza sobre un gan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535464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extremo superior se desprende liberando el proyec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9280" y="1800360"/>
            <a:ext cx="1621080" cy="900000"/>
          </a:xfrm>
          <a:prstGeom prst="rightArrow">
            <a:avLst>
              <a:gd name="adj1" fmla="val 30593"/>
              <a:gd name="adj2" fmla="val 12078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419640"/>
            <a:ext cx="900000" cy="1260360"/>
          </a:xfrm>
          <a:prstGeom prst="downArrow">
            <a:avLst>
              <a:gd name="adj1" fmla="val 33491"/>
              <a:gd name="adj2" fmla="val 9916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73960"/>
            <a:ext cx="3048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alle: http://www.ripcord.w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8120" y="2286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51240" y="3600360"/>
            <a:ext cx="252108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6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79280" y="4320000"/>
            <a:ext cx="450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vencional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un un peso a la mayor altura posibl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19640" y="1100160"/>
            <a:ext cx="43196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 e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de un elástico ex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59640" y="3600360"/>
            <a:ext cx="248436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odel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57600" cy="248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905360" y="1371600"/>
            <a:ext cx="37688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lson Zamorano</cp:lastModifiedBy>
  <dcterms:modified xsi:type="dcterms:W3CDTF">2006-05-02T22:56:57Z</dcterms:modified>
  <cp:revision>6</cp:revision>
  <dc:subject/>
  <dc:title>Presentación de PowerPoint</dc:title>
</cp:coreProperties>
</file>