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F570-D4ED-4749-A7F5-DFA5EB3F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4C2-7DDA-40A8-9E21-967059C5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726-C07F-43FE-ABE4-2D89649A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746-6565-4879-9815-0B26450C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723A-6AA1-4CF4-8418-967ABD40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E32-77CC-4389-8C8A-D42B30FA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62F-C57D-40EB-B659-9A42CC6E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276-9A50-43A7-8832-AAC04F59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2E6-FB43-427A-8B51-E555BEA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045-B662-4AC7-AB8E-D402A3CF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530-BFE8-483D-9AC5-B4BBA79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BC1-3495-4995-888F-5DF1197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F531-5524-4BB7-9C85-EAF2B9014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124080"/>
            <a:ext cx="5219640" cy="373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6000" y="981000"/>
            <a:ext cx="30463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95720" y="0"/>
            <a:ext cx="5048280" cy="378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527688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62520" cy="229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42483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10544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562560" cy="267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41814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6838920" cy="513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524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61944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3247920" cy="432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3438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52760" y="3068640"/>
            <a:ext cx="4791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71960" y="0"/>
            <a:ext cx="4172040" cy="313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52760" y="326700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41814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316400" cy="3236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278240" cy="320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7018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0:11:36Z</dcterms:created>
  <dc:creator>academico</dc:creator>
  <dc:description/>
  <dc:language>en-US</dc:language>
  <cp:lastModifiedBy>academico</cp:lastModifiedBy>
  <dcterms:modified xsi:type="dcterms:W3CDTF">2006-08-07T00:36:57Z</dcterms:modified>
  <cp:revision>4</cp:revision>
  <dc:subject/>
  <dc:title>Diapositiva 1</dc:title>
</cp:coreProperties>
</file>