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E8B-23A6-48C4-B53A-F2396A5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4D6-1BF9-488C-9C42-D9F1807D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191-E102-4A85-B738-6FF23213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890-8850-4549-AB9C-62BB49E9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A9A-3539-4118-8CA3-B09B20F9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C6B-B924-4544-95D9-AA10A61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5D1-1860-437B-83A7-B433C453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351-6BD6-46B8-AD15-B5F54524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782-AA8E-451B-BEC0-6827FC07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96F-4020-4BE4-81E2-61FB3E9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03A-DD6B-46A3-AF99-8B9AE65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38F-6234-4F5C-A877-30B5BBB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96D4-1D0A-4533-A617-AF26CFD2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124080"/>
            <a:ext cx="5219640" cy="373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6000" y="981000"/>
            <a:ext cx="3046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95720" y="0"/>
            <a:ext cx="5048280" cy="378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27688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62520" cy="229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42483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10544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562560" cy="267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41814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6838920" cy="513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524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61944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247920" cy="432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438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52760" y="3068640"/>
            <a:ext cx="4791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71960" y="0"/>
            <a:ext cx="4172040" cy="313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52760" y="326700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814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316400" cy="3236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278240" cy="320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7018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0:11:36Z</dcterms:created>
  <dc:creator>academico</dc:creator>
  <dc:description/>
  <dc:language>en-US</dc:language>
  <cp:lastModifiedBy>academico</cp:lastModifiedBy>
  <dcterms:modified xsi:type="dcterms:W3CDTF">2006-08-07T00:36:57Z</dcterms:modified>
  <cp:revision>4</cp:revision>
  <dc:subject/>
  <dc:title>Diapositiva 1</dc:title>
</cp:coreProperties>
</file>