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7E0-3626-435D-B873-D49016FD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B0A-414A-4CE0-BE94-990D954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824-FB19-47E1-AC8F-7232A456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96-F81A-41C0-B2EE-719502DD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3DF-4178-46D7-8D99-CE021C6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CE3-1D92-4733-9107-243EA65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0AA-06DD-41B0-BAF2-555C7ED1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F41-7056-4771-AD8D-BA9D8AE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A0A-92D4-47A3-92D3-601989C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B7F-B28B-4565-A028-B4EFE7A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50A-392B-4E63-A814-54160B1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3BE-2AC5-472C-B655-330F0B6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4E1-BC35-4B6D-879F-87172DCA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124080"/>
            <a:ext cx="521964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6000" y="981000"/>
            <a:ext cx="3046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27688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4248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2560" cy="267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1814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838920" cy="513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61944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247920" cy="432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438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2760" y="3068640"/>
            <a:ext cx="4791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2760" y="326700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14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278240" cy="320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7018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0:11:36Z</dcterms:created>
  <dc:creator>academico</dc:creator>
  <dc:description/>
  <dc:language>en-US</dc:language>
  <cp:lastModifiedBy>academico</cp:lastModifiedBy>
  <dcterms:modified xsi:type="dcterms:W3CDTF">2006-08-07T00:36:57Z</dcterms:modified>
  <cp:revision>4</cp:revision>
  <dc:subject/>
  <dc:title>Diapositiva 1</dc:title>
</cp:coreProperties>
</file>