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AD38-9A49-4C0B-941D-B1EC4248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0785-8964-4DDE-AED6-08C558E8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1A48-D83B-40E2-BCE8-9E0C35DE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59F-0768-4463-A96F-FA8ADED6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A218-3DC8-4352-8C30-E2F55E4A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0453-E47B-4D79-A265-9FDDAFA65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2FD0-39CA-45C6-A1C4-5E600CA3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704F-2212-4E0F-B613-DF8FCDD3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32F2-CC35-4079-A24B-4A930A1D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731C-BC09-4C39-A87E-FDBA22C5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AEE6-E4AF-40BF-A5B8-EC4B23774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D91E-AB9A-4DF4-A5E5-9891B6900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7F5D6-F66D-499B-95FB-6BF37C174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4703760" cy="35272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3124080"/>
            <a:ext cx="5219640" cy="37339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796000" y="981000"/>
            <a:ext cx="3046320" cy="228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116000" y="2857680"/>
            <a:ext cx="5334120" cy="40003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095720" y="0"/>
            <a:ext cx="5048280" cy="37814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0" y="260280"/>
            <a:ext cx="45054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635280" y="476280"/>
            <a:ext cx="5276880" cy="39625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3062520" cy="22971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26920" y="3357720"/>
            <a:ext cx="424836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716360" y="189000"/>
            <a:ext cx="4105440" cy="307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76720" y="3645000"/>
            <a:ext cx="3562560" cy="267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418140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50920" y="404640"/>
            <a:ext cx="6838920" cy="51343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859280" y="4005360"/>
            <a:ext cx="3524400" cy="26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3619440" cy="481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43280" y="620640"/>
            <a:ext cx="3247920" cy="4324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508720" y="404640"/>
            <a:ext cx="343836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3095640" cy="2324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10160" y="0"/>
            <a:ext cx="4533840" cy="3400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0" y="2852640"/>
            <a:ext cx="4648320" cy="3486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859280" y="3573360"/>
            <a:ext cx="39625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352760" y="3068640"/>
            <a:ext cx="479124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95280" y="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971960" y="0"/>
            <a:ext cx="4172040" cy="3133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52760" y="3267000"/>
            <a:ext cx="4791240" cy="35910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24000" y="3500280"/>
            <a:ext cx="418140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979640" y="3357720"/>
            <a:ext cx="4316400" cy="32367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716360" y="404640"/>
            <a:ext cx="4278240" cy="32086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24000" y="404640"/>
            <a:ext cx="370188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7T00:11:36Z</dcterms:created>
  <dc:creator>academico</dc:creator>
  <dc:description/>
  <dc:language>en-US</dc:language>
  <cp:lastModifiedBy>academico</cp:lastModifiedBy>
  <dcterms:modified xsi:type="dcterms:W3CDTF">2006-08-07T00:36:57Z</dcterms:modified>
  <cp:revision>4</cp:revision>
  <dc:subject/>
  <dc:title>Diapositiva 1</dc:title>
</cp:coreProperties>
</file>