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8.wmf" ContentType="image/x-wmf"/>
  <Override PartName="/ppt/media/image12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2B0-9F33-4424-BAA1-4A4B6A17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B458-6094-4754-AB3D-BA3BDC53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9F28-764A-4925-B328-EE6FD986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C19-54BF-410E-BE6F-BECF7BF3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1B69-BE84-482D-8C71-736DB09D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A06-A33A-4405-BC40-BA6AF3F7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259F-34FB-4380-9FC5-0EE4BD5A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B4E-2668-4498-9046-7744FAC9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E88-8FAD-4220-932D-4BBEC897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60B8-36C1-42C7-BFA6-CB9D0C4B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E3A-7EF0-4AC7-AE26-191AB0C0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FE9-0F16-42D7-8891-60EDDE61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3132-CDD4-4CAE-86A6-AC17F1A08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762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orema Central del Lím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08116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44520" y="1773360"/>
            <a:ext cx="6270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consideramos        v.a. con               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onces:                                      para N “grand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os       son idénticamente distribuidos se tiene qu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N “grande”.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132000" y="1773360"/>
                <a:ext cx="3193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427640" y="1846440"/>
                <a:ext cx="865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580000" y="1846440"/>
                <a:ext cx="863640" cy="28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987640" y="2278080"/>
                <a:ext cx="14907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987640" y="4438800"/>
                <a:ext cx="1397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979640" y="3718080"/>
                <a:ext cx="3189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627280" y="5445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o…¿Qué es N gran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344000" cy="5514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03280" y="587700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19280" y="587700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amma (20, 2.5)  (suma de 20 exponen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038480" cy="3031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038840" cy="3031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71640" y="4797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amma (40, 2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8360" y="4724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rmal(16 , 6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038480" cy="3031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59480" y="1773360"/>
            <a:ext cx="4038480" cy="3031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71640" y="479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amma(80 , 2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4797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rmal(32 , 12.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so Unifor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el caso del promedio de N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tiene 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059280" y="2421000"/>
                <a:ext cx="2342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700360" y="3933720"/>
                <a:ext cx="35780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5280" y="1844640"/>
          <a:ext cx="4248000" cy="324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42480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643280" y="1844640"/>
          <a:ext cx="4321440" cy="3232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844640"/>
                    <a:ext cx="4321440" cy="32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5300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edio de 2 uniformes (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522936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rmal (0.5, 1/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692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aso Empíric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8360" y="1916280"/>
          <a:ext cx="4114800" cy="315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16280"/>
                    <a:ext cx="4114800" cy="31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643280" y="1916280"/>
          <a:ext cx="4038840" cy="3168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916280"/>
                    <a:ext cx="4038840" cy="31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826920" y="5229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edio de 3 Uniformes (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51640" y="5229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rmal (0.5,1/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8360" y="1844640"/>
          <a:ext cx="4038480" cy="309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403848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643280" y="1844640"/>
          <a:ext cx="4172040" cy="3095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844640"/>
                    <a:ext cx="41720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826920" y="5084640"/>
            <a:ext cx="33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edio de 5 Uniformes (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4360" y="508464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rmal (0.5, 1/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1844640"/>
          <a:ext cx="4038480" cy="313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403848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643280" y="1844640"/>
          <a:ext cx="4038840" cy="3166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844640"/>
                    <a:ext cx="403884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187280" y="515628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edio de 7 Uni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5156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rmal (0.5, 1/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8360" y="1773360"/>
          <a:ext cx="4038480" cy="313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403848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643280" y="1773360"/>
          <a:ext cx="4105440" cy="314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773360"/>
                    <a:ext cx="410544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755640" y="5157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edio de 9 Uniformes (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51640" y="5157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rmal(0.5, 1/1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Un cas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abemos que la suma de N variables aleatorias i.i.d. co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o, por TC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635280" y="2637000"/>
                <a:ext cx="2016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64000" y="3933720"/>
                <a:ext cx="25207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564000" y="5300640"/>
                <a:ext cx="2952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nλ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nλ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345440" cy="5514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587700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amma(10 , 2.5)  (suma de 10 exponen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22:01:32Z</dcterms:created>
  <dc:creator>alumno</dc:creator>
  <dc:description/>
  <dc:language>en-US</dc:language>
  <cp:lastModifiedBy>alumno</cp:lastModifiedBy>
  <dcterms:modified xsi:type="dcterms:W3CDTF">2006-05-11T23:46:14Z</dcterms:modified>
  <cp:revision>4</cp:revision>
  <dc:subject/>
  <dc:title>Diapositiva 1</dc:title>
</cp:coreProperties>
</file>