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media/image9.wmf" ContentType="image/x-wmf"/>
  <Override PartName="/ppt/media/image8.wmf" ContentType="image/x-wmf"/>
  <Override PartName="/ppt/media/image12.jpeg" ContentType="image/jpeg"/>
  <Override PartName="/ppt/media/image16.jpeg" ContentType="image/jpeg"/>
  <Override PartName="/ppt/media/image14.jpeg" ContentType="image/jpeg"/>
  <Override PartName="/ppt/media/image1.wmf" ContentType="image/x-wmf"/>
  <Override PartName="/ppt/media/image2.wmf" ContentType="image/x-wmf"/>
  <Override PartName="/ppt/media/image15.jpeg" ContentType="image/jpeg"/>
  <Override PartName="/ppt/media/image3.wmf" ContentType="image/x-wmf"/>
  <Override PartName="/ppt/media/image13.jpeg" ContentType="image/jpe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22CD-8B8C-41C9-AF15-AFBBB0AF0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4695-B985-451C-9021-A7FA99AA1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3046-6497-412A-B31B-55D1A4F59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C0F3-489D-4A24-BFB7-372C54E15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BC55-6822-400A-BFCA-9C113E361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D0B3-9B48-4A11-9973-FCEAB10DC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3D62-FE81-46DC-BC72-72664D3B7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5C71-2327-4E58-B5E3-2630252A7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96C7-2380-40BA-9FA5-692BE4EDD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78B6-D180-47B8-BCEB-AFC9D9141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FAA4-30E7-482A-94E2-CC5FDED27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F608-2589-44E2-9133-63F7F9E94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767C6-8DFA-4468-8247-4B730BB212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55640" y="476280"/>
            <a:ext cx="756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Teorema Central del Lími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26920" y="2081160"/>
            <a:ext cx="597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244520" y="1773360"/>
            <a:ext cx="62708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i consideramos        v.a. con               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ntonces:                                      para N “grande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i los       son idénticamente distribuidos se tiene qu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ra N “grande”.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3132000" y="1773360"/>
                <a:ext cx="31932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4427640" y="1846440"/>
                <a:ext cx="865080" cy="28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5580000" y="1846440"/>
                <a:ext cx="863640" cy="28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2987640" y="2278080"/>
                <a:ext cx="149076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r>
                          <m:t xml:space="preserve">−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  <m:r>
                      <m:t xml:space="preserve">→</m:t>
                    </m:r>
                    <m:r>
                      <m:t xml:space="preserve">N</m:t>
                    </m:r>
                    <m:r>
                      <m:t xml:space="preserve">(</m:t>
                    </m:r>
                    <m:r>
                      <m:t xml:space="preserve">0,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2987640" y="4438800"/>
                <a:ext cx="13971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(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−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num>
                      <m:den>
                        <m:r>
                          <m:t xml:space="preserve">σ</m:t>
                        </m:r>
                      </m:den>
                    </m:f>
                    <m:r>
                      <m:t xml:space="preserve">→</m:t>
                    </m:r>
                    <m:r>
                      <m:t xml:space="preserve">N</m:t>
                    </m:r>
                    <m:r>
                      <m:t xml:space="preserve">(</m:t>
                    </m:r>
                    <m:r>
                      <m:t xml:space="preserve">0,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1979640" y="3718080"/>
                <a:ext cx="31896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0" name=""/>
          <p:cNvSpPr/>
          <p:nvPr/>
        </p:nvSpPr>
        <p:spPr>
          <a:xfrm>
            <a:off x="2627280" y="5445000"/>
            <a:ext cx="30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ero…¿Qué es N grand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900000" y="549360"/>
            <a:ext cx="7344000" cy="55148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403280" y="5877000"/>
            <a:ext cx="655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619280" y="5877000"/>
            <a:ext cx="61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Gamma (20, 2.5)  (suma de 20 exponencial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68360" y="1773360"/>
            <a:ext cx="4038480" cy="30319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43280" y="1773360"/>
            <a:ext cx="4038840" cy="30319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971640" y="479736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Gamma (40, 2.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48360" y="472428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rmal(16 , 6.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68360" y="1773360"/>
            <a:ext cx="4038480" cy="30319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659480" y="1773360"/>
            <a:ext cx="4038480" cy="30319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971640" y="479736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Gamma(80 , 2.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148360" y="479736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rmal(32 , 12.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aso Unifor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n el caso del promedio de N variab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e tiene qu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059280" y="2421000"/>
                <a:ext cx="234288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→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0,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2700360" y="3933720"/>
                <a:ext cx="3578040" cy="12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→</m:t>
                    </m:r>
                    <m:r>
                      <m:t xml:space="preserve">N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,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N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395280" y="1844640"/>
          <a:ext cx="4248000" cy="3240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844640"/>
                    <a:ext cx="4248000" cy="32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4643280" y="1844640"/>
          <a:ext cx="4321440" cy="32320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3280" y="1844640"/>
                    <a:ext cx="4321440" cy="32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26920" y="530064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romedio de 2 uniformes (0,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796000" y="5229360"/>
            <a:ext cx="21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Normal (0.5, 1/2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692280"/>
            <a:ext cx="792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Caso Empírico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468360" y="1916280"/>
          <a:ext cx="4114800" cy="3151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916280"/>
                    <a:ext cx="4114800" cy="315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4643280" y="1916280"/>
          <a:ext cx="4038840" cy="31683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3280" y="1916280"/>
                    <a:ext cx="4038840" cy="31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"/>
          <p:cNvSpPr/>
          <p:nvPr/>
        </p:nvSpPr>
        <p:spPr>
          <a:xfrm>
            <a:off x="826920" y="522936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romedio de 3 Uniformes (0,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651640" y="522936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Normal (0.5,1/3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468360" y="1844640"/>
          <a:ext cx="4038480" cy="3097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844640"/>
                    <a:ext cx="4038480" cy="30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4643280" y="1844640"/>
          <a:ext cx="4172040" cy="30956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3280" y="1844640"/>
                    <a:ext cx="4172040" cy="30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826920" y="5084640"/>
            <a:ext cx="33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romedio de 5 Uniformes (0,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724360" y="5084640"/>
            <a:ext cx="22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Normal (0.5, 1/6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468360" y="1844640"/>
          <a:ext cx="4038480" cy="3130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844640"/>
                    <a:ext cx="4038480" cy="313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4643280" y="1844640"/>
          <a:ext cx="4038840" cy="31669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3280" y="1844640"/>
                    <a:ext cx="4038840" cy="31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"/>
          <p:cNvSpPr/>
          <p:nvPr/>
        </p:nvSpPr>
        <p:spPr>
          <a:xfrm>
            <a:off x="1187280" y="5156280"/>
            <a:ext cx="28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romedio de 7 Unifor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651640" y="515628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Normal (0.5, 1/8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468360" y="1773360"/>
          <a:ext cx="4038480" cy="3130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4038480" cy="313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"/>
          <p:cNvGraphicFramePr/>
          <p:nvPr/>
        </p:nvGraphicFramePr>
        <p:xfrm>
          <a:off x="4643280" y="1773360"/>
          <a:ext cx="4105440" cy="31464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3280" y="1773360"/>
                    <a:ext cx="4105440" cy="314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755640" y="515772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romedio de 9 Uniformes (0,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651640" y="515772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Normal(0.5, 1/10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Un caso teór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abemos que la suma de N variables aleatorias i.i.d. con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umpl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ero, por TCL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3635280" y="2637000"/>
                <a:ext cx="201636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→</m:t>
                    </m:r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3564000" y="3933720"/>
                <a:ext cx="2520720" cy="103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→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3564000" y="5300640"/>
                <a:ext cx="295272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→</m:t>
                    </m:r>
                    <m:r>
                      <m:t xml:space="preserve">N</m:t>
                    </m:r>
                    <m:r>
                      <m:t xml:space="preserve">(</m:t>
                    </m:r>
                    <m:r>
                      <m:t xml:space="preserve">nλ</m:t>
                    </m:r>
                    <m:r>
                      <m:t xml:space="preserve">,</m:t>
                    </m:r>
                    <m:sSup>
                      <m:e>
                        <m:r>
                          <m:t xml:space="preserve">nλ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900000" y="549360"/>
            <a:ext cx="7345440" cy="55148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187280" y="5877000"/>
            <a:ext cx="67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Gamma(10 , 2.5)  (suma de 10 exponencial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3T22:01:32Z</dcterms:created>
  <dc:creator>alumno</dc:creator>
  <dc:description/>
  <dc:language>en-US</dc:language>
  <cp:lastModifiedBy>alumno</cp:lastModifiedBy>
  <dcterms:modified xsi:type="dcterms:W3CDTF">2006-05-11T23:46:14Z</dcterms:modified>
  <cp:revision>4</cp:revision>
  <dc:subject/>
  <dc:title>Diapositiva 1</dc:title>
</cp:coreProperties>
</file>