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9.wmf" ContentType="image/x-wmf"/>
  <Override PartName="/ppt/media/image8.wmf" ContentType="image/x-wmf"/>
  <Override PartName="/ppt/media/image12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7EA7-D962-4ADC-A8D5-2943FA888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E2F9-5FD1-4DDB-81B9-EF1E1661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DA6E-1C8C-4437-BDC1-65CAE2FE2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03DB-1F4D-452D-9FA5-3D07779C2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453C-A635-4685-BFD4-42882360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EA92-A5ED-442D-8470-9801D010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6560-A845-484E-A089-BB9E20E9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335B-DE43-48CA-8260-8B88CEA2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856E-2F3A-4444-9BBF-13F9F8FE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ECF1-525D-4BB1-A960-33B8D59F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DAA3-EDE0-4AED-82CB-575817FD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A9B1-CB7E-4C62-A75C-C0F7B59E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4B41-02ED-4647-BA49-E07CCE96C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47628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eorema Central del Lím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081160"/>
            <a:ext cx="59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44520" y="1773360"/>
            <a:ext cx="6270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consideramos        v.a. con               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onces:                                      para N “grand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los       son idénticamente distribuidos se tiene qu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N “grande”.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132000" y="1773360"/>
                <a:ext cx="3193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427640" y="1846440"/>
                <a:ext cx="86508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580000" y="1846440"/>
                <a:ext cx="863640" cy="28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987640" y="2278080"/>
                <a:ext cx="14907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  <m:r>
                      <m:t xml:space="preserve">→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0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987640" y="4438800"/>
                <a:ext cx="13971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num>
                      <m:den>
                        <m:r>
                          <m:t xml:space="preserve">σ</m:t>
                        </m:r>
                      </m:den>
                    </m:f>
                    <m:r>
                      <m:t xml:space="preserve">→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0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979640" y="3718080"/>
                <a:ext cx="31896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2627280" y="54450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o…¿Qué es N grand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344000" cy="5514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403280" y="5877000"/>
            <a:ext cx="65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19280" y="5877000"/>
            <a:ext cx="61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amma (20, 2.5)  (suma de 20 exponenci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4038480" cy="3031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4038840" cy="3031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971640" y="479736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amma (40, 2.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48360" y="4724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rmal(16 , 6.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4038480" cy="3031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59480" y="1773360"/>
            <a:ext cx="4038480" cy="3031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71640" y="4797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amma(80 , 2.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48360" y="479736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rmal(32 , 12.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so Unifor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el caso del promedio de N varia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tiene q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059280" y="2421000"/>
                <a:ext cx="23428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0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700360" y="3933720"/>
                <a:ext cx="357804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→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95280" y="1844640"/>
          <a:ext cx="4248000" cy="324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424800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643280" y="1844640"/>
          <a:ext cx="4321440" cy="3232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844640"/>
                    <a:ext cx="4321440" cy="32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53006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medio de 2 uniformes (0,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96000" y="5229360"/>
            <a:ext cx="21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rmal (0.5, 1/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69228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aso Empíric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68360" y="1916280"/>
          <a:ext cx="4114800" cy="315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916280"/>
                    <a:ext cx="4114800" cy="31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4643280" y="1916280"/>
          <a:ext cx="4038840" cy="3168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916280"/>
                    <a:ext cx="4038840" cy="31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826920" y="5229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medio de 3 Uniformes (0,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651640" y="5229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rmal (0.5,1/3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68360" y="1844640"/>
          <a:ext cx="4038480" cy="309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4038480" cy="30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643280" y="1844640"/>
          <a:ext cx="4172040" cy="3095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844640"/>
                    <a:ext cx="417204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826920" y="5084640"/>
            <a:ext cx="33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medio de 5 Uniformes (0,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24360" y="508464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rmal (0.5, 1/6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68360" y="1844640"/>
          <a:ext cx="4038480" cy="313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403848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4643280" y="1844640"/>
          <a:ext cx="4038840" cy="3166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844640"/>
                    <a:ext cx="4038840" cy="31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1187280" y="515628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medio de 7 Unifor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51640" y="515628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rmal (0.5, 1/8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468360" y="1773360"/>
          <a:ext cx="4038480" cy="313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403848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4643280" y="1773360"/>
          <a:ext cx="4105440" cy="314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773360"/>
                    <a:ext cx="4105440" cy="31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755640" y="5157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medio de 9 Uniformes (0,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51640" y="51577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rmal(0.5, 1/1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Un caso te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abemos que la suma de N variables aleatorias i.i.d. con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ro, por TC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635280" y="2637000"/>
                <a:ext cx="2016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564000" y="3933720"/>
                <a:ext cx="252072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564000" y="5300640"/>
                <a:ext cx="29527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→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nλ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nλ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345440" cy="5514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187280" y="587700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amma(10 , 2.5)  (suma de 10 exponenci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22:01:32Z</dcterms:created>
  <dc:creator>alumno</dc:creator>
  <dc:description/>
  <dc:language>en-US</dc:language>
  <cp:lastModifiedBy>alumno</cp:lastModifiedBy>
  <dcterms:modified xsi:type="dcterms:W3CDTF">2006-05-11T23:46:14Z</dcterms:modified>
  <cp:revision>4</cp:revision>
  <dc:subject/>
  <dc:title>Diapositiva 1</dc:title>
</cp:coreProperties>
</file>