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8.wmf" ContentType="image/x-wmf"/>
  <Override PartName="/ppt/media/image12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4AC-37E8-4529-A132-F42E2CA0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77B-DBC4-4BA7-94EA-BCCEED61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14E-2DA4-45DF-95CC-7F17A491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DAE-6BFB-46E1-A649-AC7B90C1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385-5386-4516-B515-AFED685B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DED-4754-4E69-9DD8-D71688C1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48A-4EE6-466C-BA44-3CD2C974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CA0-B03A-44E9-BA97-F8782AAA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106-2DFE-4261-8A16-A3A16CF8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D32-A683-4FE8-964D-16D33B51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11E-4301-4BD2-A4FB-64AA5C3B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FD9-BCF4-41D5-88C5-8016BC73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22CF-5EEA-400A-B618-4FC030C8D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76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orema Central del Lím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08116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44520" y="1773360"/>
            <a:ext cx="6270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consideramos        v.a. con              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nces:                                      para N “grand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os       son idénticamente distribuidos se tiene qu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N “grande”.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132000" y="1773360"/>
                <a:ext cx="319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27640" y="1846440"/>
                <a:ext cx="865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580000" y="1846440"/>
                <a:ext cx="86364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987640" y="2278080"/>
                <a:ext cx="14907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987640" y="4438800"/>
                <a:ext cx="1397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79640" y="3718080"/>
                <a:ext cx="3189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627280" y="5445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o…¿Qué es N gran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4000" cy="5514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03280" y="587700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587700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 (20, 2.5)  (suma de 20 expon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031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038840" cy="3031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71640" y="479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 (40, 2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47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l(16 , 6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031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59480" y="1773360"/>
            <a:ext cx="4038480" cy="3031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71640" y="479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(80 , 2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479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l(32 , 12.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Unifor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l caso del promedio de N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tiene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059280" y="2421000"/>
                <a:ext cx="2342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700360" y="3933720"/>
                <a:ext cx="35780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1844640"/>
          <a:ext cx="4248000" cy="32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4248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43280" y="1844640"/>
          <a:ext cx="4321440" cy="3232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44640"/>
                    <a:ext cx="432144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2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522936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 1/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692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so Empíric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8360" y="1916280"/>
          <a:ext cx="4114800" cy="315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411480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43280" y="1916280"/>
          <a:ext cx="4038840" cy="316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16280"/>
                    <a:ext cx="403884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826920" y="522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3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5229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1/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8360" y="1844640"/>
          <a:ext cx="4038480" cy="309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403848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643280" y="1844640"/>
          <a:ext cx="417204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44640"/>
                    <a:ext cx="4172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826920" y="5084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5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360" y="508464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 1/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1844640"/>
          <a:ext cx="4038480" cy="313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40384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3280" y="1844640"/>
          <a:ext cx="4038840" cy="316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44640"/>
                    <a:ext cx="403884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187280" y="515628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7 Un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5156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 1/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8360" y="1773360"/>
          <a:ext cx="4038480" cy="313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40384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643280" y="1773360"/>
          <a:ext cx="4105440" cy="314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773360"/>
                    <a:ext cx="410544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55640" y="5157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9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5157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(0.5, 1/1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Un cas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bemos que la suma de N variables aleatorias i.i.d. c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o, por TC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635280" y="2637000"/>
                <a:ext cx="2016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4000" y="3933720"/>
                <a:ext cx="25207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564000" y="5300640"/>
                <a:ext cx="2952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nλ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n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5440" cy="5514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5877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(10 , 2.5)  (suma de 10 expon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22:01:32Z</dcterms:created>
  <dc:creator>alumno</dc:creator>
  <dc:description/>
  <dc:language>en-US</dc:language>
  <cp:lastModifiedBy>alumno</cp:lastModifiedBy>
  <dcterms:modified xsi:type="dcterms:W3CDTF">2006-05-11T23:46:14Z</dcterms:modified>
  <cp:revision>4</cp:revision>
  <dc:subject/>
  <dc:title>Diapositiva 1</dc:title>
</cp:coreProperties>
</file>